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B49-A8AD-461D-BA81-E6F0C60D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489-336F-45E0-BA40-D91A780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997-DAFA-42FB-9D1F-46C57F51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920-84FA-418E-8B86-EF9278BB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BE5-59DC-407B-9358-9DB84E81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6CF0-75E2-499C-8246-1A3BE57D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78FC-4E34-4725-856E-6BAB2B29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5FDD-5B73-42BE-AD86-C0A4C3B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3DF9-409E-41E6-955A-B61ADA7F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D9F8-082B-425F-939B-67225C7C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37C7-44E8-451C-BE41-8CB8F47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CEF-D348-458C-86C1-E5FD9D35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2ACA-E180-4A19-B96D-3EBB6C9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9434-96F7-430B-9BAB-57663654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F353-C378-4AD5-A094-901F12A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9395-4811-4BF2-9166-EB3BE858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C5A-82AC-404D-B0BD-83E81BFE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CB4-500F-42B9-ABCA-476B573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1AB-13C1-43EF-86C8-B614844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33B-DA68-4DFD-AB13-B2E5DD22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83B-5840-4DE9-BC30-2AF541D8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FD2-DECA-4A6D-AB59-5440F5E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608-D77C-4BA9-88C8-E32FCFA5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BB5-CCC6-4D4A-8D49-D2003D4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679B-5083-404D-B9B3-002214498C7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9F3-661D-4F89-AC22-A25C3F1229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FF6-5C6A-4448-8E0A-8669448005C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A138-2813-4DCC-9A03-BC1F47F1A9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Forms: An Interactive Forms Genera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sters Candidate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Nolan W. Whitak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y Adviso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Dr. Raphael Fink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ittee Memb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Dr. Jaromczy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Dr. Se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8A9D-202A-4ADE-AC0B-D40BB2B884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D3DEED5-C903-42C7-BFCE-38AA5AF18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1881360"/>
            <a:ext cx="7924680" cy="4070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-C is a object-oriented extension to the C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ynam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ynamic Typing, Binding, Loading         (self modifying cod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sag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ceptions, Nil-Targeted Messages  (Responder Chain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y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ference Counts, Auto-release Poo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F29-257F-4D56-A463-E6790C2B7E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2EFA9-0372-4EE3-9F21-ED2126DBED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79640" y="3033720"/>
            <a:ext cx="7924680" cy="2989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Objective-C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ive-C is a object-oriented extension to the C programming langu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76000" y="3141360"/>
            <a:ext cx="8001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 learning usage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mory Management using Reference Cou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tain / relea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 Messaging and Key-Value Class Enco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foo setValue:fooVal  forKey:keyName 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31B-E51A-41A2-BF30-658A7814B0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2835E-06F5-4351-9DBA-75C1D3760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42920" y="3465360"/>
            <a:ext cx="7925040" cy="2592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Cocoa Frame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e’s official Mac OS X software development framework based on NeXTStep/OpenSt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2997000"/>
            <a:ext cx="80010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ined framework experie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cting Key-View Coding clas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cting custom Views and controls (widgets) programmatically and via the GUI InterfaceBuild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ra-application communication via notifications and direct messa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16-568E-4FC4-B764-B27016D448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98DF0-CE85-4DAB-83B7-8B449E803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42920" y="2816280"/>
            <a:ext cx="7925040" cy="3313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Cocoa Framework (co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6000" y="2241360"/>
            <a:ext cx="80010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coa is a complex and evolving development framework with few references avail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ined framework experie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delegates instead of sub-classing obje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42680" indent="-3754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are helper objects for a class in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42680" indent="-3754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allow a developer to modify the behavior of an object without sub-class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42680" indent="-3754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tes are sent messages when to the parent object’s status changes and queried for information as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123-EB58-4813-9867-75FECFE54B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76CBE-34DC-4D2F-8A75-9866D6B41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2816280"/>
            <a:ext cx="7925040" cy="3313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Learn the Cocoa Framework (co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6000" y="2241360"/>
            <a:ext cx="80010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ined framework experien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Cocoa memory management Autorelease Poo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Cocoa’s NSDocument architecture for document-based applic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ing Cocoa’s abstract data typ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nces of NSDictionary and NSArray are the primary internal container data structures for XForm docu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F49-91DC-4F47-95FE-AFA6B8BA0E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FD001-2F42-48DF-B757-57F314018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205000"/>
            <a:ext cx="7925040" cy="388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Model-View-Controller Design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6000" y="2313000"/>
            <a:ext cx="80010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835200" indent="-4014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ign patte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“simple and elegant solutions to specific problems in object oriented software design.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VC is a collection three or more classes separating the application’s data model, user interface, and control stru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 code re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-363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decoupling the user interface and data model from an application’s control structures, proponents of MVC argue that both the data model and GUI classes become better candidates for re-use as is or with little modifi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5F9-51B6-480A-BE5F-95F43393B6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B5B64-7CFF-4E0F-A288-5DFA9106F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773360"/>
            <a:ext cx="7925040" cy="421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6000" y="1844280"/>
            <a:ext cx="8001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 implemented a pure MVC design without mixing model, view, or controller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 Classe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FForm, XFEle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Classes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FPageView, XFElementView, XFToolView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r Class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FDocument, XFPropertyControl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543-EAD7-4B2C-A1F0-19A531F4FF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DD133-D0EB-4A28-BF8E-E179BBE397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2457360"/>
            <a:ext cx="7925040" cy="3672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gains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Explore topics related to visual code generation and desig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76000" y="2457000"/>
            <a:ext cx="8001000" cy="29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70800" indent="-370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ual: SUCCES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r Exper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r Interface and Presentation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ustom Control and Tool Pallet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ge Layout &amp; Pagination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37760" indent="-306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xed Media Issues:  Paper  vs  Web  vs  Computer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 Interopera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le Format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37760" indent="-306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ML   vs  Proprietary Forma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30680" indent="-3121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arget Platform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37760" indent="-3060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rting multiple platforms with mixed feature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C53-0B55-46AB-AC65-4F99AA0E03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A3718-98D5-42D9-96E7-F193AAA4DC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36640"/>
            <a:ext cx="7925040" cy="4392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2457360"/>
            <a:ext cx="80010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xed Media Design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Adobe InDesign CS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soft Off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and PowerPoint were can generate web pages from a native document but were not created to be mixed media design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Media Form 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Paper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etForm, FormFlow, Adobe Acrob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Application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lade, InterfaceBuilder, Visual Stu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Web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cromedia Studio, Visual InterDe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ed work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losed &amp; open sour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9C2-5CA0-4C02-A077-DD1A7FF5D5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CEDA7-0702-4B59-ADA0-F4596AC9BC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Lessons For Cocoa Develop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592280"/>
            <a:ext cx="7924680" cy="4502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a3b2c1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92000" y="1699920"/>
            <a:ext cx="7415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Use GUI design tools like InterfaceBui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igning an application interface programmatically is very time-consuming and tedious– don’t unless you mus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Use Delegates When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e the composition design pattern to create a class composed of framework class instances and delegate methods rather than subclas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Verdana"/>
              </a:rPr>
              <a:t>Let the framework do the work for yo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ameworks can be designed in a way that doesn’t significantly impact performance and yet provides incredible funcationality. Find a good one and use i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6E39-E6A3-406D-9074-D627F9BB00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7458E0-FAB8-4EFE-820D-5D72E53A9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Forms is a versatile, Mac OS X forms design tool that automatically generates forms in multiple media formats from a single design source.  XForms can generate traditional paper-based forms and/or a collection of web pages with code to collect and store all the data on the for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Forms is an application written in Objective-C using Apple’s Cocoa framework as a proof of concept application designed to be easily extendable to support any number of form output forma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AAF-70AF-4712-B616-52EE0DFFE5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A7B0E-F271-40D9-B6C2-E75971EFB4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stions &amp; Com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oncer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FB7-5B2E-4692-B78D-4F26E44454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C220116-F55E-48FF-972F-18963FFA94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5475240" cy="568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27120" y="2327400"/>
            <a:ext cx="160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3640" y="2492280"/>
            <a:ext cx="16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E65-38BE-480E-89FA-F39516CE41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EECA1-0F30-4F24-BC15-2F576A31F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2567160" cy="426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2023920"/>
            <a:ext cx="19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Properties Pa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773360"/>
            <a:ext cx="2554200" cy="42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68720" y="184464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96000" y="537372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427280" y="4581360"/>
            <a:ext cx="86508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08720" y="443664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92360" y="2384280"/>
            <a:ext cx="75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383560"/>
            <a:ext cx="830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89360"/>
            <a:ext cx="1692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tributes for each form element are generated dynamically at run time as the element is selected from the form page vi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77080" y="189000"/>
            <a:ext cx="169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tributes for each form page were designed in Interface Builder at compil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7CE-166B-486B-B9B9-4B67591F8E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C2B77-82FE-4321-A046-17F141D4E6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XFo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79640" y="1952640"/>
            <a:ext cx="2136600" cy="374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032360" y="1916280"/>
            <a:ext cx="453528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Tool Palle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ynamically generated from a diction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rag and Drop Functiona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DC5-ED9D-445B-8989-4504A4A2C6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B748-1DA7-4C99-AD64-4B033F14F3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7164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1DA-B55B-4976-A51C-1F28EA1FD41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76E9C-3346-4FBC-B774-F4FCA650A1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5520" y="1015920"/>
            <a:ext cx="4335480" cy="4884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29040" y="981000"/>
            <a:ext cx="4098960" cy="503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FA9-E736-451A-A358-1C6D786359D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9BE0-472F-409B-8573-0337E789E7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24000" y="225360"/>
            <a:ext cx="54579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264-1979-4FE3-AFAC-411F7E47795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AEDA6-B857-4351-8ECF-092EB87690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ject Go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 the Objective-C langu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rn Apple Computer’s Cocoa Software Development Frame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 a software project using the Model-View-Controller design pattern paradigm without mixing model, view, or controller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lore topics related to visual code generation and desig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741-05C7-46DD-94D4-3EE84F5BF2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9D67A-8904-49A3-BDE4-E82F2677C5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05-12-01T11:28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