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71440"/>
            <a:ext cx="7770600" cy="120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IMPLEMENTATION OF MICRO TRANSPORT PROTOCOL (µTP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versity of Kentu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ndip K. Sh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vis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. Raphael Fin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ata-Transfer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assigns the sequence number before transmitting a Data or Data+Ack 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ecksum in a Data (or Data+Ack) PDU covers both header an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057400"/>
            <a:ext cx="5865840" cy="137016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2514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971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2560" y="1738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78200" y="17204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2640" y="17204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4560" y="17204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3000" y="17204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0240" y="17204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0680" y="205632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5640" y="208008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1080" y="251352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3427920"/>
            <a:ext cx="896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15600" y="2086560"/>
            <a:ext cx="1754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204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21720" y="2959560"/>
            <a:ext cx="1465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quence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32160" y="2959560"/>
            <a:ext cx="1573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ata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560" y="121788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(bD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ata Transfer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0960" cy="50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ck Seq # is the number of the next PDU the receiver expects to rece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indow Size indicates the number of Data PDUs for which the receiver has buffer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ck SubSeq # enables the sender to distinguish between the flow-control parameters contained in different Ack or Data+Ack PDUs that acknowledge the same Data P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860480"/>
            <a:ext cx="5941800" cy="137016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317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27748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860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60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74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82560" y="1541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78200" y="1523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2640" y="1523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456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300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620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0680" y="185940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5640" y="188424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1080" y="231660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9960" y="2763720"/>
            <a:ext cx="1645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kSubSeq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7600" y="2763720"/>
            <a:ext cx="1698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62960" y="1892880"/>
            <a:ext cx="1754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41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09040" y="2742120"/>
            <a:ext cx="1349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k Seq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9120" y="1065600"/>
            <a:ext cx="207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k (Ab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ata Transfer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ata+Ack PDU allows acknowledgements to be piggybacked with data flowing in the opposit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317680"/>
            <a:ext cx="5941800" cy="137016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7748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3232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231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231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323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82560" y="19983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78200" y="19807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2640" y="19807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4560" y="19807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3000" y="19807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06200" y="19807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0680" y="231660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5640" y="234144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1080" y="277380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49960" y="3220920"/>
            <a:ext cx="1645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kSubSeq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97600" y="3220920"/>
            <a:ext cx="1698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63320" y="2350080"/>
            <a:ext cx="1815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41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09040" y="3199320"/>
            <a:ext cx="1349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k Seq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3689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689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4146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689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5280" y="3718440"/>
            <a:ext cx="1465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quence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9680" y="3688200"/>
            <a:ext cx="1573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ata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4069440"/>
            <a:ext cx="896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4280" y="1217880"/>
            <a:ext cx="292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+Ack (AD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ata Transfer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e PDU can be used to elicit an Ack from th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sends a Probe PDU when its send window is closed and it has pending Data P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replies to the Probe immediately by sending an A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31561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698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698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35200" y="23792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30480" y="23619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920" y="23619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7200" y="236196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5640" y="236196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2520" y="236196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4760" y="269784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7920" y="272160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3360" y="315504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2698920"/>
            <a:ext cx="5865840" cy="9126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44200" y="2701800"/>
            <a:ext cx="1754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504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2800"/>
            <a:ext cx="233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be (PB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-Termination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0412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sconnect PDU causes all communication on a connection to cease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ever an endpoint receives a Disconnect PDU on an OPEN connection, it transmits a Disconnect in reply, and the connection enters the FROZEN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dpoint receives a Disconnect PDU, the close is 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therwise it is 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ty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ing is preemptive: As soon as one end closes, all data transfer stops, any in-transit data are lost, and both ends are frozen for 2M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1654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1708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1708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35200" y="13888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30480" y="13712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4920" y="137124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7200" y="13712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15640" y="13712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82520" y="137124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4760" y="170712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7920" y="173088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3360" y="216432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1708200"/>
            <a:ext cx="5865840" cy="91260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1920" y="1741320"/>
            <a:ext cx="1815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585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840" y="989280"/>
            <a:ext cx="302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onnect (XX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-Termination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ing is preemptive: As soon as one end closes, all data transfer stops, any in-transit data are lost, and both ends are frozen for 2M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36576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3581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209320" y="44956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5800" y="3503880"/>
            <a:ext cx="151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X: D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0160" y="4113720"/>
            <a:ext cx="144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X: D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816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09480" y="3962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" y="3635280"/>
            <a:ext cx="19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µTPClo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R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5920" y="3025800"/>
            <a:ext cx="204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µTPUsrRe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RC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16680" y="3975480"/>
            <a:ext cx="188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R_NO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74240" y="5180400"/>
            <a:ext cx="317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ion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-152280"/>
            <a:ext cx="777060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2743200"/>
            <a:ext cx="114156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3429000"/>
            <a:ext cx="114120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495680"/>
            <a:ext cx="114120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5334120"/>
            <a:ext cx="1141200" cy="45540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6095880"/>
            <a:ext cx="114120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3429000"/>
            <a:ext cx="114120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2286000"/>
            <a:ext cx="1141200" cy="455760"/>
          </a:xfrm>
          <a:prstGeom prst="roundRect">
            <a:avLst>
              <a:gd name="adj" fmla="val 34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33376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1560" y="2802600"/>
            <a:ext cx="1064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OP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1600" y="350424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2286000"/>
            <a:ext cx="83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94440" y="342792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XX or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0481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14920" y="4433760"/>
            <a:ext cx="693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+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5320" y="23454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ST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2000" y="3427920"/>
            <a:ext cx="102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P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87480" y="4509000"/>
            <a:ext cx="116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CLS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080" y="53330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080" y="609588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2600" y="2513520"/>
            <a:ext cx="1134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+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CC or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04880" y="4418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XX or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495288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75680" y="495288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XX or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276720"/>
            <a:ext cx="1187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CC or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257800" y="48769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5410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33376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98240" y="3809880"/>
            <a:ext cx="63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419720"/>
            <a:ext cx="1249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+(not 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87720" y="5256720"/>
            <a:ext cx="125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+(not X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85880" y="2742120"/>
            <a:ext cx="66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+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047760" y="38862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057400"/>
            <a:ext cx="2468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µTPOpen(AC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1600200"/>
            <a:ext cx="266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µTPOpen(PAS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240" y="4037400"/>
            <a:ext cx="1708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µTP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4200" y="6095880"/>
            <a:ext cx="160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MPL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760" y="873000"/>
            <a:ext cx="744480" cy="344520"/>
          </a:xfrm>
          <a:prstGeom prst="roundRect">
            <a:avLst>
              <a:gd name="adj" fmla="val 45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36160" y="760680"/>
            <a:ext cx="254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of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1143000"/>
            <a:ext cx="357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X    : Receiving Messag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2895480"/>
            <a:ext cx="1905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1432080"/>
            <a:ext cx="319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Y    : Sending Messag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nder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8160" cy="51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un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ast sequence number such that an Ack PDU containing that sequence number has not been recei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ast sequence number that has not been transmitted in a Data P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um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un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current send window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ac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otal number of SDUs accepted from the appl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ack_subse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ubsequence number of the Ack message from which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as most recently s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these variables excep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initialized to zero during connection establish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ceiver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ast sequence number such that a Data PDU with that sequence number has not been recei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w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umber of PDUs for which buffer space is currently available (includes buffers currently in use to hold PDUs with sequence numbers in the window but greater th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ack_c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umber of times the current valu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 been transmitted in an Ack P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variables excep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w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initialized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S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constructs a PDU from the SDU by adding a header and computing the checks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 window is the segment of sequence numbers beginning a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unack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xtending up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maintains two linked list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t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ent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send window is not closed, the sender transmits the PDU, keeping a copy of each transmitted PDU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t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ntil it is acknowledged by the rece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closes the send window whe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un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keeps a copy of each PDU that is not transmitted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ent_lis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0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to µ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P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Interf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ransmission Timers and RTT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gestion Avoidance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formance Measurements and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Sender continue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ever the send window opens, the sender moves PDUs from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ent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t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transmits the PD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receiving an Ack PDU from the receiver, the sender first determines whether it contains new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eiving an Ack that contains new information, the sender updat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un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ack_subse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d_li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deletes all PDUs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nt_lis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no longer pe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ever it has pending PDUs and the window is closed, the sender periodically probes the receiver by sending a probe PDU, which elicits an immediate Ack PDU in re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Rece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448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maintains two list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eliverable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deliverable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the receiver receives the PDU with sequence number equal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t doe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 for a valid 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dat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wi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account for the buffers occupied by this PDU plus any PDUs that were received (out of order) befor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s the PDU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eliverable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ts an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 if any PDU can be moved from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deliverable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eliverable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Receiver continue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1840" cy="59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sequence number of the PDU is not equal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 is within the limits of the receive window, the receiver inserts that PDU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deliverable_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drops all the PDUs with sequence numbers not in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frees the buffers by delivery of data to the application process and increas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w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transmits an Ack in the following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riving PDU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sequence number is equal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cv_n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ceiver gets a Probe P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indow size increases from zer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ong Ack PDUs with the same Ack sequence field, the one with the highest Ack subsequence number contains the most recent window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Upp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816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Op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cates a new protocol control block (PCB) for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 for one of the following condi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A/P flag is ACTIVE, both destination address and destination port should be non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A/P flag is PASSIVE, the local port should be nonz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the destination address and port parameters into the P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t of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Op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cessing depends on the value of the A/P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Ope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urns the connection reference number or error value (if nega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Upp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1840" cy="49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lication cal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Close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abruptly terminate a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ll to close an OPEN connection changes the state to PCLSNG and causes a Disconnect PDU to be sent and repeatedly retransmit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lication blocks until this endpoint receives a Disconnect PDU or transmits a Disconnect PDU a number of times (equal to MAX_RETRY) with no respo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turn valu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Open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dicates whether the termination is 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ty</a:t>
            </a:r>
            <a:r>
              <a:rPr b="0" lang="en-GB" sz="24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Upp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184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unction handles requests from the application process to send and receive data, to inquire about the status of a connection and to accept new connections after a PASSIV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Op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prototyp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UserReq(int connection_i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command, /*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of request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 *data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* pointer to data or status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 *dle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/* size of data sent/received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values f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m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PT, NBACCEPT, SEND, RCV, NBRCV, STAT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Upp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825480" y="2349360"/>
          <a:ext cx="7999560" cy="48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2349360"/>
                    <a:ext cx="799956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914400" y="1676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722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3452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56040" y="1716480"/>
            <a:ext cx="84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1752480"/>
            <a:ext cx="85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d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1240" y="5942520"/>
            <a:ext cx="628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and Output parameter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rReq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Low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484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p_queue_xmit()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output function used for transmitting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adding µTP header to the data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_send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vok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p_queue_xmit(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builds the IP header and calculates the check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queues the packet to be sent and transmits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p_rcv()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 input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validates the protocol header and  determines if the packet is addressed to the local ho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then invok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_rcv(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Ti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09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kernel timers for the following purpo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andle retransmission of data P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andle retransmission of Connect Request, Connect Ack or Disconnect P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2-MSL delay following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µTPclose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000000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be the receiver when the sender is unable to transmit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it_timer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dd_timer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el_timer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ernel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only one retransmission timer for all data P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RTT 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096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ing normal data transfer, an acknowledgment arrives for each PDU before the retransmission timer exp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transmission timeout for the PDU to be transmitted is equal to twice the round-trip time taken by the previous normal data transfer (without any retransmission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ignores round-trip measurements of retransmitted P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µ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is a transport-layer protocol designed by Dr. Ken Cal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implements a simple, reliable, packet-stream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fits into the layered protocol architecture above IP and below the INET/BSD Socket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3526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809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1814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4724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267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040" y="3351600"/>
            <a:ext cx="288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SD Socket and 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5800" y="3808800"/>
            <a:ext cx="178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ET 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1960" y="4266000"/>
            <a:ext cx="71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640" y="4266000"/>
            <a:ext cx="7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99880" y="426600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040" y="4723200"/>
            <a:ext cx="45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10080"/>
            <a:ext cx="447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gestion Avoidance and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4120" cy="52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7600" indent="-32760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avoid adding to congestion, µTP uses a multiplicative decrease technique and uses slow start during recov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nder side of µTP maintains a variabl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gest_wind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restrict the amount of data being s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icative decre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When congestion begins (a retransmission timer expires), the sender reduce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gest_wind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half.  Each time retransmission occurs, the sender reduce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gest_wind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by half until it becomes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low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f a communication is successful and an ack arrives before the retransmission timer expires, the sender increase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gest_wind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one until it reaches the threshold set by multiplicative decrease. Then the sender increase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gest_wind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one for every round 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1518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44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implemented TµTP (Test µTP), an application program similar to TTCP (Test TCP), for measuring and comparing the performance of µTP against other protoco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erformance tests measure the throughput for data ranging from 100 KB to 10 MB for window size of 8 and 16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cket size is constant (4000 bytes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indow size of TCP is 32120 bytes when µTP's window size is 8 (8*4000 = 32000 bytes). It is 64240 bytes when the window size is 16 for µTP (16*4000 = 64000 byt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hosts are on a directly connected network (the connection doesn't pass through a gatewa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80240" cy="3351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7802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856200" cy="3274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447920" y="3352680"/>
            <a:ext cx="693252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558360"/>
            <a:ext cx="7770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scussion of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770600" cy="45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raphs show that unreliable UDP has greater throughput than TCP or µTP for window size 8 and 1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indow size 8, µTP outperforms TCP. But for window size of 16, the throughput of TCP is similar to that of µ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hosts are not directly connected on the same network, these results may be differ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expect µTP to outperform TCP if the traffic is not too congested, since µTP minimizes the number of retransmissions and the header size is sm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if there is congestion, TCP might outperform µTP, since it uses exponential backoff and Karn's algorithm to compute round-trip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04120" cy="54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successfully implemented µTP in Linux 2.2.10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provides reliable stream delivery and full-duplex connection between two h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makes efficient use of the network by using a dynamic sliding window protocol and flow cont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adaptive round-trip time calculation for retransmission tim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slow start and multiplicative decrease to avoid congestion collap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ments show that the throughput of µTP is higher if it transmits larger bl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performs well at window size 8, where it has higher throughput than TCP on the sam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continue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establishes connection using three-way handshake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a reference number to identify the connection after the initial connection-establishment ph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a dynamic sliding-window mechanism with sequence numbers to detect loss, duplication and disordering of data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a positive-ack mechanism. An ack can be piggybacked on data traveling in the opposit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µTP uses a slow-start, multiplicative-decrease technique to avoid congestion collap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1447920"/>
            <a:ext cx="777096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µTP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1219320"/>
          <a:ext cx="8077320" cy="50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77320" cy="50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64720" y="5637600"/>
            <a:ext cx="391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µTP-PDUs and thei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mon Header Part of a P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770600" cy="47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PDU has a common 8-byte header followed by a PDU-specific part whose length and format var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 Ref # is the reference number associated with the connection endpoint that will receive this 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ion identifies the version of µTP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DU Type identifies the type of the 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sum is a bitwise sum of all the 32-bit words in the PDU (header +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462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003480"/>
            <a:ext cx="5561280" cy="379440"/>
          </a:xfrm>
          <a:prstGeom prst="roundRect">
            <a:avLst>
              <a:gd name="adj" fmla="val 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546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546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546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46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253512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4400" y="252000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520000"/>
            <a:ext cx="1387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DU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0200" y="297720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7520" y="22413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6840" y="22413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41720"/>
            <a:ext cx="28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7360" y="224136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2280" y="224136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209680"/>
            <a:ext cx="38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551160"/>
            <a:ext cx="777096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800"/>
            </a:br>
            <a:br>
              <a:rPr sz="1400"/>
            </a:b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-Establishment PDU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075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 Ref # of a Connect Request PDU always contains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 Port is the port associated with the process at the ACTIV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 Port is the port associated with the process at the PASSIV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 Ref # is chosen by the active end as a local identifier for this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 Size is used to initialize the window mechanis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523880"/>
            <a:ext cx="5865840" cy="137016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981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2438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8200" y="11869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2640" y="11869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4560" y="11869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63000" y="11869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0240" y="11869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0680" y="152388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5640" y="154764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1080" y="198108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5800" y="2405520"/>
            <a:ext cx="1443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rig Port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2640" y="2438280"/>
            <a:ext cx="1442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Port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1400" y="2427120"/>
            <a:ext cx="1379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rig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21280" y="2427120"/>
            <a:ext cx="1698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11869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91200" y="1556280"/>
            <a:ext cx="1785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435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400" y="802080"/>
            <a:ext cx="381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nect Request (CR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685800" y="174600"/>
            <a:ext cx="7770960" cy="1251000"/>
            <a:chOff x="685800" y="174600"/>
            <a:chExt cx="7770960" cy="1251000"/>
          </a:xfrm>
        </p:grpSpPr>
        <p:sp>
          <p:nvSpPr>
            <p:cNvPr id="115" name=""/>
            <p:cNvSpPr/>
            <p:nvPr/>
          </p:nvSpPr>
          <p:spPr>
            <a:xfrm>
              <a:off x="685800" y="228600"/>
              <a:ext cx="777096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74600"/>
              <a:ext cx="77709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800"/>
              </a:b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85800" y="1600200"/>
            <a:ext cx="8075520" cy="4875120"/>
            <a:chOff x="685800" y="1600200"/>
            <a:chExt cx="8075520" cy="4875120"/>
          </a:xfrm>
        </p:grpSpPr>
        <p:sp>
          <p:nvSpPr>
            <p:cNvPr id="118" name=""/>
            <p:cNvSpPr/>
            <p:nvPr/>
          </p:nvSpPr>
          <p:spPr>
            <a:xfrm>
              <a:off x="685800" y="1600200"/>
              <a:ext cx="8075520" cy="487512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1600200"/>
              <a:ext cx="8075520" cy="47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spcBef>
                  <a:spcPts val="56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spcBef>
                  <a:spcPts val="56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spcBef>
                  <a:spcPts val="56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0000"/>
                </a:lnSpc>
                <a:spcBef>
                  <a:spcPts val="561"/>
                </a:spcBef>
                <a:buClr>
                  <a:srgbClr val="000000"/>
                </a:buClr>
                <a:buSzPct val="75000"/>
                <a:buFont typeface="StarBats" charset="2"/>
                <a:buChar char="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st Ref # contains the value of Originating Reference Number field from the connection-request (CR) PD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0000"/>
                </a:lnSpc>
                <a:spcBef>
                  <a:spcPts val="561"/>
                </a:spcBef>
                <a:buClr>
                  <a:srgbClr val="000000"/>
                </a:buClr>
                <a:buSzPct val="75000"/>
                <a:buFont typeface="StarBats" charset="2"/>
                <a:buChar char="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ig Porg # and Dest Port # are the same as in the initial CR PD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0000"/>
                </a:lnSpc>
                <a:spcBef>
                  <a:spcPts val="561"/>
                </a:spcBef>
                <a:buClr>
                  <a:srgbClr val="000000"/>
                </a:buClr>
                <a:buSzPct val="75000"/>
                <a:buFont typeface="StarBats" charset="2"/>
                <a:buChar char="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sp Ref # is the local identifier chosen by the PASSIVE e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90000"/>
                </a:lnSpc>
                <a:spcBef>
                  <a:spcPts val="561"/>
                </a:spcBef>
                <a:buClr>
                  <a:srgbClr val="000000"/>
                </a:buClr>
                <a:buSzPct val="75000"/>
                <a:buFont typeface="StarBats" charset="2"/>
                <a:buChar char="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indow Size is used to initialize the window mechanis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76520" y="1752480"/>
            <a:ext cx="5865840" cy="137016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209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2560" y="1433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8200" y="1415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2640" y="1415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4560" y="1415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63000" y="1415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0240" y="1415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0680" y="175248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5640" y="177624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1080" y="220968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5800" y="2666880"/>
            <a:ext cx="1443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rig Port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2640" y="2666880"/>
            <a:ext cx="1442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Port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1400" y="2655720"/>
            <a:ext cx="1425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p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1280" y="2655720"/>
            <a:ext cx="1698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9280" y="1784880"/>
            <a:ext cx="1800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434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-295200"/>
            <a:ext cx="7770960" cy="1579320"/>
            <a:chOff x="685800" y="-295200"/>
            <a:chExt cx="7770960" cy="1579320"/>
          </a:xfrm>
        </p:grpSpPr>
        <p:sp>
          <p:nvSpPr>
            <p:cNvPr id="143" name=""/>
            <p:cNvSpPr/>
            <p:nvPr/>
          </p:nvSpPr>
          <p:spPr>
            <a:xfrm>
              <a:off x="685800" y="0"/>
              <a:ext cx="7770960" cy="98892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-295200"/>
              <a:ext cx="777096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800"/>
              </a:br>
              <a:br>
                <a:rPr sz="1400"/>
              </a:b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nection-Establishment PDUs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12000" y="837000"/>
            <a:ext cx="328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nect Ack (CA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-Establishment PD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CTIVE end sends this PDU if it has no application data to s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est Ref # is the value from the Resp Ref # of the Connect Act (CA) 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317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860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860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0" y="154116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0480" y="1523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152352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720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1564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82520" y="152352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4760" y="1859400"/>
            <a:ext cx="137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t Ref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7920" y="1884240"/>
            <a:ext cx="1068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3360" y="2316600"/>
            <a:ext cx="1362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1860480"/>
            <a:ext cx="5865840" cy="912960"/>
          </a:xfrm>
          <a:prstGeom prst="roundRect">
            <a:avLst>
              <a:gd name="adj" fmla="val 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4080" y="1859400"/>
            <a:ext cx="173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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3</a:t>
            </a:r>
            <a:r>
              <a:rPr b="0" lang="en-GB" sz="22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0x433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6520" y="989280"/>
            <a:ext cx="381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nect Confirm (C3)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7242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46483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6095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09320" y="55627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9160" y="4646880"/>
            <a:ext cx="435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: DR=0, OR=1, DP=X, LP =Y, W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50292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3560" y="5180400"/>
            <a:ext cx="44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: DR=1, RR=2, LP=X, DP=Y, W=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781680" y="4495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0040" y="5713920"/>
            <a:ext cx="1241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3: D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1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948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6095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080" y="4359240"/>
            <a:ext cx="219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µTPOp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est = 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P=X, LP=Y,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0360" y="3977640"/>
            <a:ext cx="195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µTPOp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LP = X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0840" y="4930200"/>
            <a:ext cx="204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µTPUsrRe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7T22:16:36Z</dcterms:created>
  <dc:creator>sshah</dc:creator>
  <dc:description/>
  <dc:language>en-US</dc:language>
  <cp:lastModifiedBy> </cp:lastModifiedBy>
  <cp:lastPrinted>2000-06-27T01:56:24Z</cp:lastPrinted>
  <cp:revision>0</cp:revision>
  <dc:subject/>
  <dc:title>IMPLEMENTATION OF MICRO TRANSPORT PROTOCOL (µTP)</dc:title>
</cp:coreProperties>
</file>