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622-06CC-43D2-B822-49A688A9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8CC-93E5-48AD-B5D1-CCE11CA5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8C7-B8E6-495A-AC52-86142E51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A4F-D780-4D5E-A80E-8780A064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C9C-C543-4262-AEFD-14718D3D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E829-7837-49CC-85E8-76E3831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91A-B2A2-4026-87A8-F259937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9781-65A2-4447-ABEA-3042A84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2483-F3E5-4718-942C-4C79B04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2191-A188-48F4-8484-4B7C432E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C530-AEFE-4CD5-9B20-62DAE7C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D81-7856-4216-BE22-F2D2504A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AD1B-0AC5-4001-A9F0-4D286D5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4EF4-8C08-42C6-B341-B28EFCC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4C4-AAA7-48E5-9BC4-0F0774D0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2E0-0C3D-4D93-AA94-226C0DDF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E042-72B1-4C74-8BF3-A461352D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A97-17A7-40DE-81BA-38D2FDD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817-D275-4C78-8361-1DE5ADC3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858-528A-42B6-B583-55E7569B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E93-BDD2-444E-8E84-AF049AA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378-CFD4-4CC3-B219-E42383E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7D2-7BA3-4ECA-9382-9A9C8BA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755-19FF-4687-94DB-CE70F2A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451A-6393-4F7C-AF07-E1B77A87FB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04B-DC7B-4753-8811-E54608E7A3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781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ecff"/>
                </a:solidFill>
                <a:latin typeface="Arial"/>
              </a:rPr>
              <a:t>Design and implement an algorithm that, given a set of dimensioned quantities and units for the desired unknown, determines whether some multiplicative combination of the inputs can achieve the desired dimensions.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240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ul Laurence Dunbar High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th, Science and Technology Cen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dent, Solomon Alkhas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versity of Kentuc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partment of Computer Sc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fessor, Raphael Fink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320" y="5318280"/>
          <a:ext cx="304776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18280"/>
                    <a:ext cx="304776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1676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L- WORL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AVA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1752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343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3526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568656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cel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33526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r colo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le 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ing Mod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568656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.Faster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.Stop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antages to object-oriented languag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2895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2670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556272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ng hier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d 3 Obj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ed Flo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ed Float Gro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d Algorithm to manipulate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36576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828800"/>
            <a:ext cx="26672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Ma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81680" y="1752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17524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381880" y="1752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17524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23848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807160"/>
            <a:ext cx="25909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presents t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857760"/>
            <a:ext cx="25909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known quantity of a known dim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2895480"/>
            <a:ext cx="1828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1148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343400"/>
            <a:ext cx="18288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828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124080"/>
            <a:ext cx="26668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Ma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333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7335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361008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ouble floa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533760"/>
            <a:ext cx="15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3457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8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5627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ASE UNITS [METERS, SECONDS, GRAMS]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828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reating a 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53376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. Convert given units into base units (if needed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610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2. Store the fiel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3 meters/ second, accelerating 1 meter every second. If the car travels for 2.5 minutes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3 meters/ second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, accelerating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1 meter every second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. If the car travels f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2.5 minute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196524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3 meters/ seco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 [1, -1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7180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accelerating 1 meter/second</a:t>
            </a:r>
            <a:r>
              <a:rPr b="1" i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 [1, -2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5394240"/>
            <a:ext cx="236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2.5 minu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0 [0, 1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7432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49568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105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539424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150 secon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828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hods of a 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87964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. Multiplic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341316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2. Divis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9466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3. Addi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47984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4. Subtrac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01336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5. Squar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546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6. Extracting a square roo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al of my Re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gorith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raphical User Interf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828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ed Float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3048120"/>
            <a:ext cx="35053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1333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638680" y="3048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6248520"/>
            <a:ext cx="419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tring instructions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533760"/>
            <a:ext cx="15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5105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8288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Roles of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81952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56544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Instructions in Polish- Post- F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4800600"/>
            <a:ext cx="464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 .5 times $2 divide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18288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Roles of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281952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56544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Instructions in Polish- Post- F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80060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first item in the dimensioned float gro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* second item in dimensioned float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828800"/>
            <a:ext cx="883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Creating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281952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Place Dimensioned Floats into an arr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396252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Designate the Dimension, the wan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508968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3. Assign a string of instructions on how to solve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Solving using the Algorith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267080"/>
            <a:ext cx="23619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S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26708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FG and 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86400" y="38858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48006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3070080"/>
            <a:ext cx="2971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Solving by means of stored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730760"/>
            <a:ext cx="2971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olving by recu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1. Solving using stored equ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281952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imensioned Float Group is created that stores requirements for that 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4403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At the end of data entry phase, the created DFG is compared against the programmed ones to see if any 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2. Solving using recur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81952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ata entry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4403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Recursion from -3 to 3 until the product matches the units of the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raphical User Interfac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320" y="1981080"/>
            <a:ext cx="4114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50292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ata Entry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438280"/>
            <a:ext cx="5105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69916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Evaluation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6600" y="1523880"/>
            <a:ext cx="9077400" cy="3171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6320" y="2133720"/>
            <a:ext cx="4114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590920"/>
            <a:ext cx="51055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6600" y="1523880"/>
            <a:ext cx="9077400" cy="317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9144000" cy="3193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2133720"/>
            <a:ext cx="41911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2590920"/>
            <a:ext cx="51055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523960" y="2930400"/>
            <a:ext cx="4096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059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p.com/liveassets/bp_internet/globalbp/STAGING/global_assets/i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s/E_S_2005/man_concentrating_180x144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ompu-tel.de/computer-shop/gross/6c29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car.kak.net/modules.php?file=article&amp;name=news&amp;op=modload&amp;sid=16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karpathos-car-rental.com/karpathos-ca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tal_images/models/hyuntai_accent_big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otor-cross.ca/taxi-jun0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java.sun.com/docs/books/tutorial/java/concepts/objec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3 meters/ second, accelerating 1 meter every second. If the car travels for 2.5 minutes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Acknowledgmen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120" y="1828800"/>
            <a:ext cx="602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1. Mentor Rafael Fink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2666880"/>
            <a:ext cx="556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2. My Paren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3120" y="3443400"/>
            <a:ext cx="579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3. MSTC Progra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457200"/>
            <a:ext cx="853416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 Identify the Present Vari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800360"/>
            <a:ext cx="598824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peed of 3 meters/seco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97180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cceleration 1 meter/second</a:t>
            </a:r>
            <a:r>
              <a:rPr b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91120"/>
            <a:ext cx="556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 of 2.5 minu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5341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. Identify the Unknown Var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352680"/>
            <a:ext cx="48006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828800"/>
            <a:ext cx="426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...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how far has it gone?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457200"/>
            <a:ext cx="85341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. Select an equation to fit the vari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23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457200"/>
            <a:ext cx="8534160" cy="36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4. Solve for the unknown var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800360"/>
            <a:ext cx="75438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vert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ase Units Meters, Seconds, Gra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30 m/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 m/s</a:t>
            </a:r>
            <a:r>
              <a:rPr b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50 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14960"/>
            <a:ext cx="71629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Plug and Chu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9200 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al of Software Develo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429000"/>
            <a:ext cx="4038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uman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9625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uter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4648320"/>
            <a:ext cx="28954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71432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618240" y="5181480"/>
            <a:ext cx="925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7524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419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048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 Oriented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438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3733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30:42Z</dcterms:created>
  <dc:creator>solomon</dc:creator>
  <dc:description/>
  <dc:language>en-US</dc:language>
  <cp:lastModifiedBy>solomon</cp:lastModifiedBy>
  <dcterms:modified xsi:type="dcterms:W3CDTF">2007-04-13T19:48:33Z</dcterms:modified>
  <cp:revision>19</cp:revision>
  <dc:subject/>
  <dc:title>Design and implement an algorithm that, given a set of dimensioned quantities  and units for the desired unknown, determines whether some multiplicative combination of the inputs can achieve the desired dimensions.</dc:title>
</cp:coreProperties>
</file>