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Pseudo Distributed Fi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19320" y="1752480"/>
            <a:ext cx="66276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Rukmangathan Balakrishn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r. Raphael Fink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t. of Computer Sci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BF5F-930E-4E87-8A37-DE8DBEE8A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822816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X type name sp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hine independent and machine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name space achieved by having 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 at the same moun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ult Tole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ault tolerance procedures 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modification for addressing Fault tolerant issues is prov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A7F6-E093-44F4-9326-5A1D5BD38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880"/>
            <a:ext cx="8228160" cy="55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sistenc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forces Unix-semantics file consisten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nularity for consistency is an entir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concurrent write shar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lects o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rving the first writer is selected a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ing the primary copy serves all access requests for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are no more writer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dates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p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preferred file handle and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ach file and initially set to values with respect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092-BD50-4054-9A3F-6E4CC1B44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57200"/>
            <a:ext cx="82281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sistenc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ong with the ope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for 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arrive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gister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at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fir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for w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request arrive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include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file hand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ts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preferred file han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directs arriving readers/writers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are no more writer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includes the name of the file and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notifie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 to their origin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309-CEA4-4161-8196-13044E7F6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880"/>
            <a:ext cx="815184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pdat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writers count for each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writers count becomes zero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other than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includes the name of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receiv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connects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 reque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the entire file to the request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rites the received new contents to th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as a single thread, ensuring consistency of the file being upd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51F-F741-4268-B95B-87EA8240F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"/>
            <a:ext cx="81518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S Overview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forces access synchronization for 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s the load 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by distributing load amo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when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s the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intai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cord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hat access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contact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latest version of the file during current write shar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consistency among the copies of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update their version of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E07-B6DB-4AD5-8DCA-9A407A6A4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33520"/>
            <a:ext cx="80755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S Access Requ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eate/delete/ren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lays the requests to all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carry out the request and reply with their stat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rrent design does not consider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, so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re assumed to be consistent and hence return the same statu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lays this statu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602D-4A59-4086-829D-6A28BC082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33920" y="372960"/>
            <a:ext cx="1369800" cy="397080"/>
            <a:chOff x="3733920" y="372960"/>
            <a:chExt cx="1369800" cy="397080"/>
          </a:xfrm>
        </p:grpSpPr>
        <p:sp>
          <p:nvSpPr>
            <p:cNvPr id="107" name=""/>
            <p:cNvSpPr/>
            <p:nvPr/>
          </p:nvSpPr>
          <p:spPr>
            <a:xfrm>
              <a:off x="3733920" y="372960"/>
              <a:ext cx="1369800" cy="397080"/>
            </a:xfrm>
            <a:custGeom>
              <a:avLst/>
              <a:gdLst/>
              <a:ahLst/>
              <a:rect l="l" t="t" r="r" b="b"/>
              <a:pathLst>
                <a:path w="3811" h="1108">
                  <a:moveTo>
                    <a:pt x="3431" y="0"/>
                  </a:moveTo>
                  <a:lnTo>
                    <a:pt x="3501" y="2"/>
                  </a:lnTo>
                  <a:lnTo>
                    <a:pt x="3573" y="10"/>
                  </a:lnTo>
                  <a:lnTo>
                    <a:pt x="3643" y="18"/>
                  </a:lnTo>
                  <a:lnTo>
                    <a:pt x="3700" y="32"/>
                  </a:lnTo>
                  <a:lnTo>
                    <a:pt x="3749" y="48"/>
                  </a:lnTo>
                  <a:lnTo>
                    <a:pt x="3779" y="69"/>
                  </a:lnTo>
                  <a:lnTo>
                    <a:pt x="3803" y="90"/>
                  </a:lnTo>
                  <a:lnTo>
                    <a:pt x="3810" y="111"/>
                  </a:lnTo>
                  <a:lnTo>
                    <a:pt x="3810" y="996"/>
                  </a:lnTo>
                  <a:lnTo>
                    <a:pt x="3803" y="1017"/>
                  </a:lnTo>
                  <a:lnTo>
                    <a:pt x="3779" y="1038"/>
                  </a:lnTo>
                  <a:lnTo>
                    <a:pt x="3749" y="1058"/>
                  </a:lnTo>
                  <a:lnTo>
                    <a:pt x="3700" y="1075"/>
                  </a:lnTo>
                  <a:lnTo>
                    <a:pt x="3643" y="1089"/>
                  </a:lnTo>
                  <a:lnTo>
                    <a:pt x="3573" y="1097"/>
                  </a:lnTo>
                  <a:lnTo>
                    <a:pt x="3501" y="1104"/>
                  </a:lnTo>
                  <a:lnTo>
                    <a:pt x="3431" y="1107"/>
                  </a:lnTo>
                  <a:lnTo>
                    <a:pt x="381" y="1107"/>
                  </a:lnTo>
                  <a:lnTo>
                    <a:pt x="309" y="1104"/>
                  </a:lnTo>
                  <a:lnTo>
                    <a:pt x="237" y="1097"/>
                  </a:lnTo>
                  <a:lnTo>
                    <a:pt x="167" y="1089"/>
                  </a:lnTo>
                  <a:lnTo>
                    <a:pt x="110" y="1075"/>
                  </a:lnTo>
                  <a:lnTo>
                    <a:pt x="64" y="1058"/>
                  </a:lnTo>
                  <a:lnTo>
                    <a:pt x="31" y="1038"/>
                  </a:lnTo>
                  <a:lnTo>
                    <a:pt x="7" y="1017"/>
                  </a:lnTo>
                  <a:lnTo>
                    <a:pt x="0" y="996"/>
                  </a:lnTo>
                  <a:lnTo>
                    <a:pt x="0" y="111"/>
                  </a:lnTo>
                  <a:lnTo>
                    <a:pt x="7" y="90"/>
                  </a:lnTo>
                  <a:lnTo>
                    <a:pt x="31" y="69"/>
                  </a:lnTo>
                  <a:lnTo>
                    <a:pt x="64" y="48"/>
                  </a:lnTo>
                  <a:lnTo>
                    <a:pt x="110" y="32"/>
                  </a:lnTo>
                  <a:lnTo>
                    <a:pt x="167" y="18"/>
                  </a:lnTo>
                  <a:lnTo>
                    <a:pt x="237" y="10"/>
                  </a:lnTo>
                  <a:lnTo>
                    <a:pt x="309" y="2"/>
                  </a:lnTo>
                  <a:lnTo>
                    <a:pt x="381" y="0"/>
                  </a:lnTo>
                  <a:lnTo>
                    <a:pt x="3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920" y="388080"/>
              <a:ext cx="1369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00200" y="930240"/>
            <a:ext cx="5637240" cy="649440"/>
            <a:chOff x="1600200" y="930240"/>
            <a:chExt cx="5637240" cy="649440"/>
          </a:xfrm>
        </p:grpSpPr>
        <p:sp>
          <p:nvSpPr>
            <p:cNvPr id="110" name=""/>
            <p:cNvSpPr/>
            <p:nvPr/>
          </p:nvSpPr>
          <p:spPr>
            <a:xfrm>
              <a:off x="1600200" y="930240"/>
              <a:ext cx="56372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934200"/>
              <a:ext cx="5637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 a socket and listen to mount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Create a socket and liste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gister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486400"/>
            <a:ext cx="2818080" cy="649440"/>
            <a:chOff x="6095880" y="5486400"/>
            <a:chExt cx="2818080" cy="649440"/>
          </a:xfrm>
        </p:grpSpPr>
        <p:sp>
          <p:nvSpPr>
            <p:cNvPr id="113" name=""/>
            <p:cNvSpPr/>
            <p:nvPr/>
          </p:nvSpPr>
          <p:spPr>
            <a:xfrm>
              <a:off x="6095880" y="5486400"/>
              <a:ext cx="281808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5490360"/>
              <a:ext cx="2818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ddress and the root file handl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1828800"/>
            <a:ext cx="3808440" cy="374760"/>
            <a:chOff x="2514600" y="1828800"/>
            <a:chExt cx="3808440" cy="374760"/>
          </a:xfrm>
        </p:grpSpPr>
        <p:sp>
          <p:nvSpPr>
            <p:cNvPr id="116" name=""/>
            <p:cNvSpPr/>
            <p:nvPr/>
          </p:nvSpPr>
          <p:spPr>
            <a:xfrm>
              <a:off x="2514600" y="1828800"/>
              <a:ext cx="38084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32760"/>
              <a:ext cx="380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ct a socket that is ready for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248520" y="2301840"/>
            <a:ext cx="2512800" cy="924120"/>
            <a:chOff x="6248520" y="2301840"/>
            <a:chExt cx="2512800" cy="924120"/>
          </a:xfrm>
        </p:grpSpPr>
        <p:sp>
          <p:nvSpPr>
            <p:cNvPr id="119" name=""/>
            <p:cNvSpPr/>
            <p:nvPr/>
          </p:nvSpPr>
          <p:spPr>
            <a:xfrm>
              <a:off x="6248520" y="2301840"/>
              <a:ext cx="2512800" cy="9241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2306160"/>
              <a:ext cx="25128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connection and add to the list of ready socke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400800" y="3429000"/>
            <a:ext cx="2208240" cy="649440"/>
            <a:chOff x="6400800" y="3429000"/>
            <a:chExt cx="2208240" cy="649440"/>
          </a:xfrm>
        </p:grpSpPr>
        <p:sp>
          <p:nvSpPr>
            <p:cNvPr id="122" name=""/>
            <p:cNvSpPr/>
            <p:nvPr/>
          </p:nvSpPr>
          <p:spPr>
            <a:xfrm>
              <a:off x="6400800" y="3429000"/>
              <a:ext cx="22082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432960"/>
              <a:ext cx="220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s to all registered 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72200" y="4419720"/>
            <a:ext cx="2665440" cy="649080"/>
            <a:chOff x="6172200" y="4419720"/>
            <a:chExt cx="2665440" cy="649080"/>
          </a:xfrm>
        </p:grpSpPr>
        <p:sp>
          <p:nvSpPr>
            <p:cNvPr id="125" name=""/>
            <p:cNvSpPr/>
            <p:nvPr/>
          </p:nvSpPr>
          <p:spPr>
            <a:xfrm>
              <a:off x="6172200" y="4419720"/>
              <a:ext cx="26654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4423680"/>
              <a:ext cx="2665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plies and select an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 least 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>
            <a:off x="5105520" y="571680"/>
            <a:ext cx="2134080" cy="6847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28" name=""/>
          <p:cNvGrpSpPr/>
          <p:nvPr/>
        </p:nvGrpSpPr>
        <p:grpSpPr>
          <a:xfrm>
            <a:off x="2895480" y="2438280"/>
            <a:ext cx="3043440" cy="650880"/>
            <a:chOff x="2895480" y="2438280"/>
            <a:chExt cx="3043440" cy="650880"/>
          </a:xfrm>
        </p:grpSpPr>
        <p:sp>
          <p:nvSpPr>
            <p:cNvPr id="129" name=""/>
            <p:cNvSpPr/>
            <p:nvPr/>
          </p:nvSpPr>
          <p:spPr>
            <a:xfrm>
              <a:off x="2895480" y="2438280"/>
              <a:ext cx="3043440" cy="650880"/>
            </a:xfrm>
            <a:custGeom>
              <a:avLst/>
              <a:gdLst/>
              <a:ahLst/>
              <a:rect l="l" t="t" r="r" b="b"/>
              <a:pathLst>
                <a:path w="8459" h="1814">
                  <a:moveTo>
                    <a:pt x="4229" y="0"/>
                  </a:moveTo>
                  <a:lnTo>
                    <a:pt x="8458" y="906"/>
                  </a:lnTo>
                  <a:lnTo>
                    <a:pt x="4229" y="1813"/>
                  </a:lnTo>
                  <a:lnTo>
                    <a:pt x="0" y="90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2581200"/>
              <a:ext cx="304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352680" y="4419720"/>
            <a:ext cx="2132280" cy="923760"/>
            <a:chOff x="3352680" y="4419720"/>
            <a:chExt cx="2132280" cy="923760"/>
          </a:xfrm>
        </p:grpSpPr>
        <p:sp>
          <p:nvSpPr>
            <p:cNvPr id="132" name=""/>
            <p:cNvSpPr/>
            <p:nvPr/>
          </p:nvSpPr>
          <p:spPr>
            <a:xfrm>
              <a:off x="3352680" y="4419720"/>
              <a:ext cx="213228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423680"/>
              <a:ext cx="2132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new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add to the list of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71800" y="3429000"/>
            <a:ext cx="2890800" cy="650880"/>
            <a:chOff x="2971800" y="3429000"/>
            <a:chExt cx="2890800" cy="650880"/>
          </a:xfrm>
        </p:grpSpPr>
        <p:sp>
          <p:nvSpPr>
            <p:cNvPr id="135" name=""/>
            <p:cNvSpPr/>
            <p:nvPr/>
          </p:nvSpPr>
          <p:spPr>
            <a:xfrm>
              <a:off x="2971800" y="3429000"/>
              <a:ext cx="2890800" cy="650880"/>
            </a:xfrm>
            <a:custGeom>
              <a:avLst/>
              <a:gdLst/>
              <a:ahLst/>
              <a:rect l="l" t="t" r="r" b="b"/>
              <a:pathLst>
                <a:path w="8036" h="1813">
                  <a:moveTo>
                    <a:pt x="4018" y="0"/>
                  </a:moveTo>
                  <a:lnTo>
                    <a:pt x="8035" y="905"/>
                  </a:lnTo>
                  <a:lnTo>
                    <a:pt x="4018" y="1812"/>
                  </a:lnTo>
                  <a:lnTo>
                    <a:pt x="0" y="905"/>
                  </a:lnTo>
                  <a:lnTo>
                    <a:pt x="40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1800" y="3570840"/>
              <a:ext cx="28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 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3880" y="4876920"/>
            <a:ext cx="1217880" cy="1266840"/>
            <a:chOff x="1523880" y="4876920"/>
            <a:chExt cx="1217880" cy="1266840"/>
          </a:xfrm>
        </p:grpSpPr>
        <p:sp>
          <p:nvSpPr>
            <p:cNvPr id="138" name=""/>
            <p:cNvSpPr/>
            <p:nvPr/>
          </p:nvSpPr>
          <p:spPr>
            <a:xfrm>
              <a:off x="1523880" y="4876920"/>
              <a:ext cx="121788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5052600"/>
              <a:ext cx="1217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 user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479680"/>
            <a:ext cx="1217520" cy="878040"/>
            <a:chOff x="533520" y="2479680"/>
            <a:chExt cx="1217520" cy="878040"/>
          </a:xfrm>
        </p:grpSpPr>
        <p:sp>
          <p:nvSpPr>
            <p:cNvPr id="141" name=""/>
            <p:cNvSpPr/>
            <p:nvPr/>
          </p:nvSpPr>
          <p:spPr>
            <a:xfrm>
              <a:off x="533520" y="2479680"/>
              <a:ext cx="121752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259812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3" name=""/>
          <p:cNvCxnSpPr/>
          <p:nvPr/>
        </p:nvCxnSpPr>
        <p:spPr>
          <a:xfrm flipV="1" rot="10800000">
            <a:off x="6323760" y="1255320"/>
            <a:ext cx="915120" cy="76104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4" name=""/>
          <p:cNvCxnSpPr/>
          <p:nvPr/>
        </p:nvCxnSpPr>
        <p:spPr>
          <a:xfrm>
            <a:off x="2514600" y="2015640"/>
            <a:ext cx="381600" cy="7484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5" name=""/>
          <p:cNvCxnSpPr/>
          <p:nvPr/>
        </p:nvCxnSpPr>
        <p:spPr>
          <a:xfrm>
            <a:off x="4417560" y="3090600"/>
            <a:ext cx="3088440" cy="13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6" name=""/>
          <p:cNvCxnSpPr/>
          <p:nvPr/>
        </p:nvCxnSpPr>
        <p:spPr>
          <a:xfrm>
            <a:off x="6248160" y="2763720"/>
            <a:ext cx="15300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7" name=""/>
          <p:cNvCxnSpPr/>
          <p:nvPr/>
        </p:nvCxnSpPr>
        <p:spPr>
          <a:xfrm>
            <a:off x="8610120" y="3754440"/>
            <a:ext cx="22932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8" name=""/>
          <p:cNvCxnSpPr/>
          <p:nvPr/>
        </p:nvCxnSpPr>
        <p:spPr>
          <a:xfrm>
            <a:off x="7505280" y="5070240"/>
            <a:ext cx="1080" cy="41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9" name=""/>
          <p:cNvCxnSpPr/>
          <p:nvPr/>
        </p:nvCxnSpPr>
        <p:spPr>
          <a:xfrm flipV="1" rot="10800000">
            <a:off x="5485680" y="3754080"/>
            <a:ext cx="378720" cy="1127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0" name=""/>
          <p:cNvCxnSpPr/>
          <p:nvPr/>
        </p:nvCxnSpPr>
        <p:spPr>
          <a:xfrm flipV="1" rot="10800000">
            <a:off x="5863680" y="2763360"/>
            <a:ext cx="7668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" name=""/>
          <p:cNvCxnSpPr/>
          <p:nvPr/>
        </p:nvCxnSpPr>
        <p:spPr>
          <a:xfrm flipV="1" rot="10800000">
            <a:off x="2133000" y="4080960"/>
            <a:ext cx="2284920" cy="796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" name=""/>
          <p:cNvCxnSpPr/>
          <p:nvPr/>
        </p:nvCxnSpPr>
        <p:spPr>
          <a:xfrm flipV="1">
            <a:off x="1752120" y="2015280"/>
            <a:ext cx="762840" cy="90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3" name=""/>
          <p:cNvGrpSpPr/>
          <p:nvPr/>
        </p:nvGrpSpPr>
        <p:grpSpPr>
          <a:xfrm>
            <a:off x="3124080" y="5562720"/>
            <a:ext cx="1217880" cy="877680"/>
            <a:chOff x="3124080" y="5562720"/>
            <a:chExt cx="1217880" cy="877680"/>
          </a:xfrm>
        </p:grpSpPr>
        <p:sp>
          <p:nvSpPr>
            <p:cNvPr id="154" name=""/>
            <p:cNvSpPr/>
            <p:nvPr/>
          </p:nvSpPr>
          <p:spPr>
            <a:xfrm>
              <a:off x="3124080" y="5562720"/>
              <a:ext cx="121788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5680800"/>
              <a:ext cx="1217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V="1" rot="10800000">
            <a:off x="3123360" y="4881240"/>
            <a:ext cx="229320" cy="1121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" name=""/>
          <p:cNvCxnSpPr/>
          <p:nvPr/>
        </p:nvCxnSpPr>
        <p:spPr>
          <a:xfrm flipV="1" rot="10800000">
            <a:off x="4342680" y="5811480"/>
            <a:ext cx="1753200" cy="1911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8" name=""/>
          <p:cNvSpPr/>
          <p:nvPr/>
        </p:nvSpPr>
        <p:spPr>
          <a:xfrm>
            <a:off x="4267080" y="3047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038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4382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4290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28600"/>
            <a:ext cx="266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6AB-107A-4FBD-93AE-12F6184E3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24080" y="1219320"/>
            <a:ext cx="2738520" cy="650880"/>
            <a:chOff x="3124080" y="1219320"/>
            <a:chExt cx="2738520" cy="650880"/>
          </a:xfrm>
        </p:grpSpPr>
        <p:sp>
          <p:nvSpPr>
            <p:cNvPr id="166" name=""/>
            <p:cNvSpPr/>
            <p:nvPr/>
          </p:nvSpPr>
          <p:spPr>
            <a:xfrm>
              <a:off x="3124080" y="1219320"/>
              <a:ext cx="2738520" cy="650880"/>
            </a:xfrm>
            <a:custGeom>
              <a:avLst/>
              <a:gdLst/>
              <a:ahLst/>
              <a:rect l="l" t="t" r="r" b="b"/>
              <a:pathLst>
                <a:path w="7613" h="1813">
                  <a:moveTo>
                    <a:pt x="3806" y="0"/>
                  </a:moveTo>
                  <a:lnTo>
                    <a:pt x="7612" y="905"/>
                  </a:lnTo>
                  <a:lnTo>
                    <a:pt x="3806" y="1812"/>
                  </a:lnTo>
                  <a:lnTo>
                    <a:pt x="0" y="905"/>
                  </a:lnTo>
                  <a:lnTo>
                    <a:pt x="38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1361160"/>
              <a:ext cx="273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43600" y="1733400"/>
            <a:ext cx="3043080" cy="1198800"/>
            <a:chOff x="5943600" y="1733400"/>
            <a:chExt cx="3043080" cy="1198800"/>
          </a:xfrm>
        </p:grpSpPr>
        <p:sp>
          <p:nvSpPr>
            <p:cNvPr id="169" name=""/>
            <p:cNvSpPr/>
            <p:nvPr/>
          </p:nvSpPr>
          <p:spPr>
            <a:xfrm>
              <a:off x="5943600" y="1733400"/>
              <a:ext cx="3043080" cy="1198800"/>
            </a:xfrm>
            <a:custGeom>
              <a:avLst/>
              <a:gdLst/>
              <a:ahLst/>
              <a:rect l="l" t="t" r="r" b="b"/>
              <a:pathLst>
                <a:path w="8459" h="3335">
                  <a:moveTo>
                    <a:pt x="4229" y="0"/>
                  </a:moveTo>
                  <a:lnTo>
                    <a:pt x="8458" y="1666"/>
                  </a:lnTo>
                  <a:lnTo>
                    <a:pt x="4229" y="3334"/>
                  </a:lnTo>
                  <a:lnTo>
                    <a:pt x="0" y="166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2149920"/>
              <a:ext cx="304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read only mo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91320" y="4038480"/>
            <a:ext cx="3351240" cy="650880"/>
            <a:chOff x="5791320" y="4038480"/>
            <a:chExt cx="3351240" cy="650880"/>
          </a:xfrm>
        </p:grpSpPr>
        <p:sp>
          <p:nvSpPr>
            <p:cNvPr id="172" name=""/>
            <p:cNvSpPr/>
            <p:nvPr/>
          </p:nvSpPr>
          <p:spPr>
            <a:xfrm>
              <a:off x="5791320" y="4038480"/>
              <a:ext cx="3351240" cy="650880"/>
            </a:xfrm>
            <a:custGeom>
              <a:avLst/>
              <a:gdLst/>
              <a:ahLst/>
              <a:rect l="l" t="t" r="r" b="b"/>
              <a:pathLst>
                <a:path w="9314" h="1814">
                  <a:moveTo>
                    <a:pt x="4657" y="0"/>
                  </a:moveTo>
                  <a:lnTo>
                    <a:pt x="9313" y="906"/>
                  </a:lnTo>
                  <a:lnTo>
                    <a:pt x="4657" y="1813"/>
                  </a:lnTo>
                  <a:lnTo>
                    <a:pt x="0" y="906"/>
                  </a:lnTo>
                  <a:lnTo>
                    <a:pt x="46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4181400"/>
              <a:ext cx="33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writer al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172200" y="3124080"/>
            <a:ext cx="2589120" cy="649440"/>
            <a:chOff x="6172200" y="3124080"/>
            <a:chExt cx="2589120" cy="649440"/>
          </a:xfrm>
        </p:grpSpPr>
        <p:sp>
          <p:nvSpPr>
            <p:cNvPr id="175" name=""/>
            <p:cNvSpPr/>
            <p:nvPr/>
          </p:nvSpPr>
          <p:spPr>
            <a:xfrm>
              <a:off x="6172200" y="3124080"/>
              <a:ext cx="25891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2200" y="312804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gister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 Update the readers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4876920"/>
            <a:ext cx="2589120" cy="374400"/>
            <a:chOff x="6172200" y="4876920"/>
            <a:chExt cx="2589120" cy="374400"/>
          </a:xfrm>
        </p:grpSpPr>
        <p:sp>
          <p:nvSpPr>
            <p:cNvPr id="178" name=""/>
            <p:cNvSpPr/>
            <p:nvPr/>
          </p:nvSpPr>
          <p:spPr>
            <a:xfrm>
              <a:off x="6172200" y="4876920"/>
              <a:ext cx="2589120" cy="3744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88052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gister_O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124080" y="2154240"/>
            <a:ext cx="2360880" cy="374760"/>
            <a:chOff x="3124080" y="2154240"/>
            <a:chExt cx="2360880" cy="374760"/>
          </a:xfrm>
        </p:grpSpPr>
        <p:sp>
          <p:nvSpPr>
            <p:cNvPr id="181" name=""/>
            <p:cNvSpPr/>
            <p:nvPr/>
          </p:nvSpPr>
          <p:spPr>
            <a:xfrm>
              <a:off x="3124080" y="2154240"/>
              <a:ext cx="236088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158200"/>
              <a:ext cx="236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writers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14400" y="2819520"/>
            <a:ext cx="3193920" cy="650880"/>
            <a:chOff x="914400" y="2819520"/>
            <a:chExt cx="3193920" cy="650880"/>
          </a:xfrm>
        </p:grpSpPr>
        <p:sp>
          <p:nvSpPr>
            <p:cNvPr id="184" name=""/>
            <p:cNvSpPr/>
            <p:nvPr/>
          </p:nvSpPr>
          <p:spPr>
            <a:xfrm>
              <a:off x="914400" y="2819520"/>
              <a:ext cx="3193920" cy="650880"/>
            </a:xfrm>
            <a:custGeom>
              <a:avLst/>
              <a:gdLst/>
              <a:ahLst/>
              <a:rect l="l" t="t" r="r" b="b"/>
              <a:pathLst>
                <a:path w="8878" h="1813">
                  <a:moveTo>
                    <a:pt x="4439" y="0"/>
                  </a:moveTo>
                  <a:lnTo>
                    <a:pt x="8877" y="905"/>
                  </a:lnTo>
                  <a:lnTo>
                    <a:pt x="4439" y="1812"/>
                  </a:lnTo>
                  <a:lnTo>
                    <a:pt x="0" y="905"/>
                  </a:lnTo>
                  <a:lnTo>
                    <a:pt x="44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2961360"/>
              <a:ext cx="319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writer al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71800" y="3905280"/>
            <a:ext cx="2513160" cy="923760"/>
            <a:chOff x="2971800" y="3905280"/>
            <a:chExt cx="2513160" cy="923760"/>
          </a:xfrm>
        </p:grpSpPr>
        <p:sp>
          <p:nvSpPr>
            <p:cNvPr id="187" name=""/>
            <p:cNvSpPr/>
            <p:nvPr/>
          </p:nvSpPr>
          <p:spPr>
            <a:xfrm>
              <a:off x="2971800" y="3905280"/>
              <a:ext cx="251316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1800" y="3909240"/>
              <a:ext cx="25131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allba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primary file handl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04920" y="3886200"/>
            <a:ext cx="2512800" cy="923760"/>
            <a:chOff x="304920" y="3886200"/>
            <a:chExt cx="2512800" cy="923760"/>
          </a:xfrm>
        </p:grpSpPr>
        <p:sp>
          <p:nvSpPr>
            <p:cNvPr id="190" name=""/>
            <p:cNvSpPr/>
            <p:nvPr/>
          </p:nvSpPr>
          <p:spPr>
            <a:xfrm>
              <a:off x="304920" y="3886200"/>
              <a:ext cx="251280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890160"/>
              <a:ext cx="25128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t this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the file handle as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primary file hand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920" y="5181480"/>
            <a:ext cx="2512800" cy="649440"/>
            <a:chOff x="304920" y="5181480"/>
            <a:chExt cx="2512800" cy="649440"/>
          </a:xfrm>
        </p:grpSpPr>
        <p:sp>
          <p:nvSpPr>
            <p:cNvPr id="193" name=""/>
            <p:cNvSpPr/>
            <p:nvPr/>
          </p:nvSpPr>
          <p:spPr>
            <a:xfrm>
              <a:off x="304920" y="518148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5185440"/>
              <a:ext cx="251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callback to all the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for the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19720" y="5410080"/>
            <a:ext cx="1217520" cy="878040"/>
            <a:chOff x="4419720" y="5410080"/>
            <a:chExt cx="1217520" cy="878040"/>
          </a:xfrm>
        </p:grpSpPr>
        <p:sp>
          <p:nvSpPr>
            <p:cNvPr id="196" name=""/>
            <p:cNvSpPr/>
            <p:nvPr/>
          </p:nvSpPr>
          <p:spPr>
            <a:xfrm>
              <a:off x="4419720" y="5410080"/>
              <a:ext cx="121752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552852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8" name=""/>
          <p:cNvCxnSpPr/>
          <p:nvPr/>
        </p:nvCxnSpPr>
        <p:spPr>
          <a:xfrm>
            <a:off x="4494240" y="1871280"/>
            <a:ext cx="1450080" cy="46260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9" name=""/>
          <p:cNvCxnSpPr/>
          <p:nvPr/>
        </p:nvCxnSpPr>
        <p:spPr>
          <a:xfrm flipV="1" rot="10800000">
            <a:off x="8762400" y="2333160"/>
            <a:ext cx="226080" cy="111672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0" name=""/>
          <p:cNvCxnSpPr/>
          <p:nvPr/>
        </p:nvCxnSpPr>
        <p:spPr>
          <a:xfrm>
            <a:off x="8763120" y="3449520"/>
            <a:ext cx="381600" cy="9151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1" name=""/>
          <p:cNvCxnSpPr/>
          <p:nvPr/>
        </p:nvCxnSpPr>
        <p:spPr>
          <a:xfrm flipV="1" rot="10800000">
            <a:off x="8762400" y="4363560"/>
            <a:ext cx="381600" cy="7009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02" name=""/>
          <p:cNvGrpSpPr/>
          <p:nvPr/>
        </p:nvGrpSpPr>
        <p:grpSpPr>
          <a:xfrm>
            <a:off x="3581280" y="152280"/>
            <a:ext cx="1827360" cy="878040"/>
            <a:chOff x="3581280" y="152280"/>
            <a:chExt cx="1827360" cy="878040"/>
          </a:xfrm>
        </p:grpSpPr>
        <p:sp>
          <p:nvSpPr>
            <p:cNvPr id="203" name=""/>
            <p:cNvSpPr/>
            <p:nvPr/>
          </p:nvSpPr>
          <p:spPr>
            <a:xfrm>
              <a:off x="3581280" y="152280"/>
              <a:ext cx="182736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270720"/>
              <a:ext cx="1827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 user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/>
          <p:nvPr/>
        </p:nvCxnSpPr>
        <p:spPr>
          <a:xfrm>
            <a:off x="5410080" y="592200"/>
            <a:ext cx="455040" cy="954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"/>
          <p:cNvCxnSpPr/>
          <p:nvPr/>
        </p:nvCxnSpPr>
        <p:spPr>
          <a:xfrm flipV="1" rot="10800000">
            <a:off x="5637960" y="5063760"/>
            <a:ext cx="534240" cy="786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"/>
          <p:cNvCxnSpPr/>
          <p:nvPr/>
        </p:nvCxnSpPr>
        <p:spPr>
          <a:xfrm>
            <a:off x="2819160" y="5506560"/>
            <a:ext cx="16009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8" name=""/>
          <p:cNvCxnSpPr/>
          <p:nvPr/>
        </p:nvCxnSpPr>
        <p:spPr>
          <a:xfrm>
            <a:off x="4229280" y="4830480"/>
            <a:ext cx="800640" cy="57996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09" name=""/>
          <p:cNvGrpSpPr/>
          <p:nvPr/>
        </p:nvGrpSpPr>
        <p:grpSpPr>
          <a:xfrm>
            <a:off x="914400" y="914400"/>
            <a:ext cx="1217520" cy="1266840"/>
            <a:chOff x="914400" y="914400"/>
            <a:chExt cx="1217520" cy="1266840"/>
          </a:xfrm>
        </p:grpSpPr>
        <p:sp>
          <p:nvSpPr>
            <p:cNvPr id="210" name=""/>
            <p:cNvSpPr/>
            <p:nvPr/>
          </p:nvSpPr>
          <p:spPr>
            <a:xfrm>
              <a:off x="914400" y="914400"/>
              <a:ext cx="121752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400" y="1090080"/>
              <a:ext cx="12175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ther request ty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2" name=""/>
          <p:cNvCxnSpPr/>
          <p:nvPr/>
        </p:nvCxnSpPr>
        <p:spPr>
          <a:xfrm flipV="1" rot="10800000">
            <a:off x="2133000" y="1545840"/>
            <a:ext cx="991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3" name=""/>
          <p:cNvCxnSpPr/>
          <p:nvPr/>
        </p:nvCxnSpPr>
        <p:spPr>
          <a:xfrm flipV="1" rot="10800000">
            <a:off x="5485680" y="2333160"/>
            <a:ext cx="457920" cy="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4" name=""/>
          <p:cNvCxnSpPr/>
          <p:nvPr/>
        </p:nvCxnSpPr>
        <p:spPr>
          <a:xfrm flipV="1" rot="10800000">
            <a:off x="4109400" y="2530080"/>
            <a:ext cx="195840" cy="616680"/>
          </a:xfrm>
          <a:prstGeom prst="bentConnector3">
            <a:avLst>
              <a:gd name="adj1" fmla="val 4990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5" name=""/>
          <p:cNvCxnSpPr/>
          <p:nvPr/>
        </p:nvCxnSpPr>
        <p:spPr>
          <a:xfrm>
            <a:off x="2511360" y="3471840"/>
            <a:ext cx="1718640" cy="4341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V="1" rot="10800000">
            <a:off x="1561320" y="3471480"/>
            <a:ext cx="950040" cy="4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7" name=""/>
          <p:cNvCxnSpPr/>
          <p:nvPr/>
        </p:nvCxnSpPr>
        <p:spPr>
          <a:xfrm>
            <a:off x="1561680" y="4811400"/>
            <a:ext cx="1080" cy="37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438280" y="1218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218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4572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28188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4038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rot="10800000">
            <a:off x="4228560" y="3905280"/>
            <a:ext cx="3238920" cy="13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"/>
          <p:cNvSpPr/>
          <p:nvPr/>
        </p:nvSpPr>
        <p:spPr>
          <a:xfrm>
            <a:off x="3962520" y="33526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289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19810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BFC-7298-41E5-8725-AAC4E31B6C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962520" y="152280"/>
            <a:ext cx="1217520" cy="1266840"/>
            <a:chOff x="3962520" y="152280"/>
            <a:chExt cx="1217520" cy="1266840"/>
          </a:xfrm>
        </p:grpSpPr>
        <p:sp>
          <p:nvSpPr>
            <p:cNvPr id="231" name=""/>
            <p:cNvSpPr/>
            <p:nvPr/>
          </p:nvSpPr>
          <p:spPr>
            <a:xfrm>
              <a:off x="3962520" y="152280"/>
              <a:ext cx="121752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2520" y="328680"/>
              <a:ext cx="12175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ther request ty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1676520"/>
            <a:ext cx="3651120" cy="650880"/>
            <a:chOff x="2743200" y="1676520"/>
            <a:chExt cx="3651120" cy="650880"/>
          </a:xfrm>
        </p:grpSpPr>
        <p:sp>
          <p:nvSpPr>
            <p:cNvPr id="234" name=""/>
            <p:cNvSpPr/>
            <p:nvPr/>
          </p:nvSpPr>
          <p:spPr>
            <a:xfrm>
              <a:off x="2743200" y="1676520"/>
              <a:ext cx="3651120" cy="650880"/>
            </a:xfrm>
            <a:custGeom>
              <a:avLst/>
              <a:gdLst/>
              <a:ahLst/>
              <a:rect l="l" t="t" r="r" b="b"/>
              <a:pathLst>
                <a:path w="10148" h="1813">
                  <a:moveTo>
                    <a:pt x="5074" y="0"/>
                  </a:moveTo>
                  <a:lnTo>
                    <a:pt x="10147" y="905"/>
                  </a:lnTo>
                  <a:lnTo>
                    <a:pt x="5074" y="1812"/>
                  </a:lnTo>
                  <a:lnTo>
                    <a:pt x="0" y="905"/>
                  </a:lnTo>
                  <a:lnTo>
                    <a:pt x="50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1818360"/>
              <a:ext cx="365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34120" y="2514600"/>
            <a:ext cx="3427200" cy="649440"/>
            <a:chOff x="5334120" y="2514600"/>
            <a:chExt cx="3427200" cy="649440"/>
          </a:xfrm>
        </p:grpSpPr>
        <p:sp>
          <p:nvSpPr>
            <p:cNvPr id="237" name=""/>
            <p:cNvSpPr/>
            <p:nvPr/>
          </p:nvSpPr>
          <p:spPr>
            <a:xfrm>
              <a:off x="5334120" y="2514600"/>
              <a:ext cx="34272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2518560"/>
              <a:ext cx="3427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readers/writers count and the callback list appropriat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9" name=""/>
          <p:cNvCxnSpPr/>
          <p:nvPr/>
        </p:nvCxnSpPr>
        <p:spPr>
          <a:xfrm>
            <a:off x="5181480" y="785880"/>
            <a:ext cx="1215360" cy="12182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0" name=""/>
          <p:cNvCxnSpPr/>
          <p:nvPr/>
        </p:nvCxnSpPr>
        <p:spPr>
          <a:xfrm>
            <a:off x="6396120" y="2003400"/>
            <a:ext cx="653040" cy="5119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41" name=""/>
          <p:cNvGrpSpPr/>
          <p:nvPr/>
        </p:nvGrpSpPr>
        <p:grpSpPr>
          <a:xfrm>
            <a:off x="5259240" y="3429000"/>
            <a:ext cx="3576960" cy="650880"/>
            <a:chOff x="5259240" y="3429000"/>
            <a:chExt cx="3576960" cy="650880"/>
          </a:xfrm>
        </p:grpSpPr>
        <p:sp>
          <p:nvSpPr>
            <p:cNvPr id="242" name=""/>
            <p:cNvSpPr/>
            <p:nvPr/>
          </p:nvSpPr>
          <p:spPr>
            <a:xfrm>
              <a:off x="5259240" y="3429000"/>
              <a:ext cx="3576960" cy="650880"/>
            </a:xfrm>
            <a:custGeom>
              <a:avLst/>
              <a:gdLst/>
              <a:ahLst/>
              <a:rect l="l" t="t" r="r" b="b"/>
              <a:pathLst>
                <a:path w="9941" h="1813">
                  <a:moveTo>
                    <a:pt x="4970" y="0"/>
                  </a:moveTo>
                  <a:lnTo>
                    <a:pt x="9940" y="905"/>
                  </a:lnTo>
                  <a:lnTo>
                    <a:pt x="4970" y="1812"/>
                  </a:lnTo>
                  <a:lnTo>
                    <a:pt x="0" y="905"/>
                  </a:lnTo>
                  <a:lnTo>
                    <a:pt x="49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9240" y="3570840"/>
              <a:ext cx="357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no more wri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4343400"/>
            <a:ext cx="3579840" cy="649440"/>
            <a:chOff x="5257800" y="4343400"/>
            <a:chExt cx="3579840" cy="649440"/>
          </a:xfrm>
        </p:grpSpPr>
        <p:sp>
          <p:nvSpPr>
            <p:cNvPr id="245" name=""/>
            <p:cNvSpPr/>
            <p:nvPr/>
          </p:nvSpPr>
          <p:spPr>
            <a:xfrm>
              <a:off x="5257800" y="4343400"/>
              <a:ext cx="35798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347360"/>
              <a:ext cx="357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to all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other than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91320" y="5201280"/>
            <a:ext cx="2512800" cy="671760"/>
            <a:chOff x="5791320" y="5201280"/>
            <a:chExt cx="2512800" cy="671760"/>
          </a:xfrm>
        </p:grpSpPr>
        <p:sp>
          <p:nvSpPr>
            <p:cNvPr id="248" name=""/>
            <p:cNvSpPr/>
            <p:nvPr/>
          </p:nvSpPr>
          <p:spPr>
            <a:xfrm>
              <a:off x="5791320" y="521172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1320" y="5201280"/>
              <a:ext cx="25128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ver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to all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/>
          <p:nvPr/>
        </p:nvCxnSpPr>
        <p:spPr>
          <a:xfrm>
            <a:off x="8762760" y="2840040"/>
            <a:ext cx="7524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1" name=""/>
          <p:cNvCxnSpPr/>
          <p:nvPr/>
        </p:nvCxnSpPr>
        <p:spPr>
          <a:xfrm>
            <a:off x="8837640" y="3754440"/>
            <a:ext cx="2160" cy="9151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2" name=""/>
          <p:cNvCxnSpPr/>
          <p:nvPr/>
        </p:nvCxnSpPr>
        <p:spPr>
          <a:xfrm flipV="1" rot="10800000">
            <a:off x="8305200" y="4668480"/>
            <a:ext cx="533880" cy="869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53" name=""/>
          <p:cNvGrpSpPr/>
          <p:nvPr/>
        </p:nvGrpSpPr>
        <p:grpSpPr>
          <a:xfrm>
            <a:off x="3657600" y="5029200"/>
            <a:ext cx="1751040" cy="649440"/>
            <a:chOff x="3657600" y="5029200"/>
            <a:chExt cx="1751040" cy="649440"/>
          </a:xfrm>
        </p:grpSpPr>
        <p:sp>
          <p:nvSpPr>
            <p:cNvPr id="254" name=""/>
            <p:cNvSpPr/>
            <p:nvPr/>
          </p:nvSpPr>
          <p:spPr>
            <a:xfrm>
              <a:off x="3657600" y="5029200"/>
              <a:ext cx="17510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7600" y="5033160"/>
              <a:ext cx="1751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6" name=""/>
          <p:cNvCxnSpPr/>
          <p:nvPr/>
        </p:nvCxnSpPr>
        <p:spPr>
          <a:xfrm flipV="1" rot="10800000">
            <a:off x="4533120" y="4080960"/>
            <a:ext cx="2515320" cy="9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57" name=""/>
          <p:cNvGrpSpPr/>
          <p:nvPr/>
        </p:nvGrpSpPr>
        <p:grpSpPr>
          <a:xfrm>
            <a:off x="2971800" y="5791320"/>
            <a:ext cx="1217520" cy="877680"/>
            <a:chOff x="2971800" y="5791320"/>
            <a:chExt cx="1217520" cy="877680"/>
          </a:xfrm>
        </p:grpSpPr>
        <p:sp>
          <p:nvSpPr>
            <p:cNvPr id="258" name=""/>
            <p:cNvSpPr/>
            <p:nvPr/>
          </p:nvSpPr>
          <p:spPr>
            <a:xfrm>
              <a:off x="2971800" y="5791320"/>
              <a:ext cx="121752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590940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52280" y="3429000"/>
            <a:ext cx="2132280" cy="1473120"/>
            <a:chOff x="152280" y="3429000"/>
            <a:chExt cx="2132280" cy="1473120"/>
          </a:xfrm>
        </p:grpSpPr>
        <p:sp>
          <p:nvSpPr>
            <p:cNvPr id="261" name=""/>
            <p:cNvSpPr/>
            <p:nvPr/>
          </p:nvSpPr>
          <p:spPr>
            <a:xfrm>
              <a:off x="152280" y="3429000"/>
              <a:ext cx="2132280" cy="14731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80" y="3434400"/>
              <a:ext cx="213228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has sent a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/delete/renam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. Relay the request to all the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14600" y="3733920"/>
            <a:ext cx="2360520" cy="649080"/>
            <a:chOff x="2514600" y="3733920"/>
            <a:chExt cx="2360520" cy="649080"/>
          </a:xfrm>
        </p:grpSpPr>
        <p:sp>
          <p:nvSpPr>
            <p:cNvPr id="264" name=""/>
            <p:cNvSpPr/>
            <p:nvPr/>
          </p:nvSpPr>
          <p:spPr>
            <a:xfrm>
              <a:off x="2514600" y="3733920"/>
              <a:ext cx="236052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14600" y="3737880"/>
              <a:ext cx="236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lean up the registry and close the so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52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16758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038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133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80880" y="2514600"/>
            <a:ext cx="3651480" cy="650880"/>
            <a:chOff x="380880" y="2514600"/>
            <a:chExt cx="3651480" cy="650880"/>
          </a:xfrm>
        </p:grpSpPr>
        <p:sp>
          <p:nvSpPr>
            <p:cNvPr id="271" name=""/>
            <p:cNvSpPr/>
            <p:nvPr/>
          </p:nvSpPr>
          <p:spPr>
            <a:xfrm>
              <a:off x="380880" y="2514600"/>
              <a:ext cx="3651480" cy="650880"/>
            </a:xfrm>
            <a:custGeom>
              <a:avLst/>
              <a:gdLst/>
              <a:ahLst/>
              <a:rect l="l" t="t" r="r" b="b"/>
              <a:pathLst>
                <a:path w="10148" h="1813">
                  <a:moveTo>
                    <a:pt x="5074" y="0"/>
                  </a:moveTo>
                  <a:lnTo>
                    <a:pt x="10147" y="905"/>
                  </a:lnTo>
                  <a:lnTo>
                    <a:pt x="5074" y="1812"/>
                  </a:lnTo>
                  <a:lnTo>
                    <a:pt x="0" y="905"/>
                  </a:lnTo>
                  <a:lnTo>
                    <a:pt x="50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2656440"/>
              <a:ext cx="365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mount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3" name=""/>
          <p:cNvCxnSpPr/>
          <p:nvPr/>
        </p:nvCxnSpPr>
        <p:spPr>
          <a:xfrm flipV="1" rot="10800000">
            <a:off x="4033080" y="2328480"/>
            <a:ext cx="535680" cy="5119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4" name=""/>
          <p:cNvCxnSpPr/>
          <p:nvPr/>
        </p:nvCxnSpPr>
        <p:spPr>
          <a:xfrm flipV="1" rot="10800000">
            <a:off x="151560" y="2839680"/>
            <a:ext cx="229320" cy="1326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5" name=""/>
          <p:cNvCxnSpPr/>
          <p:nvPr/>
        </p:nvCxnSpPr>
        <p:spPr>
          <a:xfrm>
            <a:off x="2206800" y="3166560"/>
            <a:ext cx="1489680" cy="56772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6" name=""/>
          <p:cNvCxnSpPr/>
          <p:nvPr/>
        </p:nvCxnSpPr>
        <p:spPr>
          <a:xfrm flipV="1" rot="10800000">
            <a:off x="3580560" y="4384440"/>
            <a:ext cx="115200" cy="140724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77" name=""/>
          <p:cNvGrpSpPr/>
          <p:nvPr/>
        </p:nvGrpSpPr>
        <p:grpSpPr>
          <a:xfrm>
            <a:off x="228600" y="5694480"/>
            <a:ext cx="1979640" cy="923760"/>
            <a:chOff x="228600" y="5694480"/>
            <a:chExt cx="1979640" cy="923760"/>
          </a:xfrm>
        </p:grpSpPr>
        <p:sp>
          <p:nvSpPr>
            <p:cNvPr id="278" name=""/>
            <p:cNvSpPr/>
            <p:nvPr/>
          </p:nvSpPr>
          <p:spPr>
            <a:xfrm>
              <a:off x="228600" y="5694480"/>
              <a:ext cx="197964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" y="5698440"/>
              <a:ext cx="19796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reply from all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and relay it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0" name=""/>
          <p:cNvCxnSpPr/>
          <p:nvPr/>
        </p:nvCxnSpPr>
        <p:spPr>
          <a:xfrm>
            <a:off x="1218960" y="4903920"/>
            <a:ext cx="1080" cy="791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2209320" y="6156000"/>
            <a:ext cx="762840" cy="7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152280" y="2895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200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29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/>
          <p:nvPr/>
        </p:nvCxnSpPr>
        <p:spPr>
          <a:xfrm rot="10800000">
            <a:off x="5409360" y="5353920"/>
            <a:ext cx="38196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6" name=""/>
          <p:cNvCxnSpPr/>
          <p:nvPr/>
        </p:nvCxnSpPr>
        <p:spPr>
          <a:xfrm flipV="1" rot="10800000">
            <a:off x="4190400" y="5679720"/>
            <a:ext cx="343440" cy="55152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9D0D-2A1B-4C1D-8A59-4927E5AE2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380880"/>
            <a:ext cx="830412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icates the file system in its entire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s only regular files and directo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file is uniquely identified by a file hand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file-handle ca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so maintains a permanent TCP connection with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ssive connection for serving update requests from oth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ssive connection for serving access requests fro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in application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de for the file-handle cache module is from NFS server version 2.2beta31 developed by Mark Sh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903-371E-4CC4-ADA4-E18322305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57200"/>
            <a:ext cx="81518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ing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1861-95C6-4E0D-B27A-026D4D146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80880"/>
            <a:ext cx="83041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ccess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-access requests served by the storage site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directory/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a file/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n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/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 in a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l used for performanc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requests are served by invoking the corresponding UNIX system c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D11-8EAB-4AE0-8F63-DCD0A4449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733920" y="372960"/>
            <a:ext cx="1369800" cy="397080"/>
            <a:chOff x="3733920" y="372960"/>
            <a:chExt cx="1369800" cy="397080"/>
          </a:xfrm>
        </p:grpSpPr>
        <p:sp>
          <p:nvSpPr>
            <p:cNvPr id="297" name=""/>
            <p:cNvSpPr/>
            <p:nvPr/>
          </p:nvSpPr>
          <p:spPr>
            <a:xfrm>
              <a:off x="3733920" y="372960"/>
              <a:ext cx="1369800" cy="397080"/>
            </a:xfrm>
            <a:custGeom>
              <a:avLst/>
              <a:gdLst/>
              <a:ahLst/>
              <a:rect l="l" t="t" r="r" b="b"/>
              <a:pathLst>
                <a:path w="3811" h="1108">
                  <a:moveTo>
                    <a:pt x="3431" y="0"/>
                  </a:moveTo>
                  <a:lnTo>
                    <a:pt x="3501" y="2"/>
                  </a:lnTo>
                  <a:lnTo>
                    <a:pt x="3573" y="10"/>
                  </a:lnTo>
                  <a:lnTo>
                    <a:pt x="3643" y="18"/>
                  </a:lnTo>
                  <a:lnTo>
                    <a:pt x="3700" y="32"/>
                  </a:lnTo>
                  <a:lnTo>
                    <a:pt x="3749" y="48"/>
                  </a:lnTo>
                  <a:lnTo>
                    <a:pt x="3779" y="69"/>
                  </a:lnTo>
                  <a:lnTo>
                    <a:pt x="3803" y="90"/>
                  </a:lnTo>
                  <a:lnTo>
                    <a:pt x="3810" y="111"/>
                  </a:lnTo>
                  <a:lnTo>
                    <a:pt x="3810" y="996"/>
                  </a:lnTo>
                  <a:lnTo>
                    <a:pt x="3803" y="1017"/>
                  </a:lnTo>
                  <a:lnTo>
                    <a:pt x="3779" y="1038"/>
                  </a:lnTo>
                  <a:lnTo>
                    <a:pt x="3749" y="1058"/>
                  </a:lnTo>
                  <a:lnTo>
                    <a:pt x="3700" y="1075"/>
                  </a:lnTo>
                  <a:lnTo>
                    <a:pt x="3643" y="1089"/>
                  </a:lnTo>
                  <a:lnTo>
                    <a:pt x="3573" y="1097"/>
                  </a:lnTo>
                  <a:lnTo>
                    <a:pt x="3501" y="1104"/>
                  </a:lnTo>
                  <a:lnTo>
                    <a:pt x="3431" y="1107"/>
                  </a:lnTo>
                  <a:lnTo>
                    <a:pt x="381" y="1107"/>
                  </a:lnTo>
                  <a:lnTo>
                    <a:pt x="309" y="1104"/>
                  </a:lnTo>
                  <a:lnTo>
                    <a:pt x="237" y="1097"/>
                  </a:lnTo>
                  <a:lnTo>
                    <a:pt x="167" y="1089"/>
                  </a:lnTo>
                  <a:lnTo>
                    <a:pt x="110" y="1075"/>
                  </a:lnTo>
                  <a:lnTo>
                    <a:pt x="64" y="1058"/>
                  </a:lnTo>
                  <a:lnTo>
                    <a:pt x="31" y="1038"/>
                  </a:lnTo>
                  <a:lnTo>
                    <a:pt x="7" y="1017"/>
                  </a:lnTo>
                  <a:lnTo>
                    <a:pt x="0" y="996"/>
                  </a:lnTo>
                  <a:lnTo>
                    <a:pt x="0" y="111"/>
                  </a:lnTo>
                  <a:lnTo>
                    <a:pt x="7" y="90"/>
                  </a:lnTo>
                  <a:lnTo>
                    <a:pt x="31" y="69"/>
                  </a:lnTo>
                  <a:lnTo>
                    <a:pt x="64" y="48"/>
                  </a:lnTo>
                  <a:lnTo>
                    <a:pt x="110" y="32"/>
                  </a:lnTo>
                  <a:lnTo>
                    <a:pt x="167" y="18"/>
                  </a:lnTo>
                  <a:lnTo>
                    <a:pt x="237" y="10"/>
                  </a:lnTo>
                  <a:lnTo>
                    <a:pt x="309" y="2"/>
                  </a:lnTo>
                  <a:lnTo>
                    <a:pt x="381" y="0"/>
                  </a:lnTo>
                  <a:lnTo>
                    <a:pt x="3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3920" y="388080"/>
              <a:ext cx="1369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600200" y="1066680"/>
            <a:ext cx="5637240" cy="374760"/>
            <a:chOff x="1600200" y="1066680"/>
            <a:chExt cx="5637240" cy="374760"/>
          </a:xfrm>
        </p:grpSpPr>
        <p:sp>
          <p:nvSpPr>
            <p:cNvPr id="300" name=""/>
            <p:cNvSpPr/>
            <p:nvPr/>
          </p:nvSpPr>
          <p:spPr>
            <a:xfrm>
              <a:off x="1600200" y="1066680"/>
              <a:ext cx="56372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1070640"/>
              <a:ext cx="563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ddress and root of the exported file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57200" y="1752480"/>
            <a:ext cx="7923240" cy="924120"/>
            <a:chOff x="457200" y="1752480"/>
            <a:chExt cx="7923240" cy="924120"/>
          </a:xfrm>
        </p:grpSpPr>
        <p:sp>
          <p:nvSpPr>
            <p:cNvPr id="303" name=""/>
            <p:cNvSpPr/>
            <p:nvPr/>
          </p:nvSpPr>
          <p:spPr>
            <a:xfrm>
              <a:off x="457200" y="1752480"/>
              <a:ext cx="7923240" cy="9241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" y="1756800"/>
              <a:ext cx="79232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ke a permanent TCP connectio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, Create a socket and liste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ccess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rv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, Create a socket and listen for update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600200" y="2895480"/>
            <a:ext cx="5637240" cy="374760"/>
            <a:chOff x="1600200" y="2895480"/>
            <a:chExt cx="5637240" cy="374760"/>
          </a:xfrm>
        </p:grpSpPr>
        <p:sp>
          <p:nvSpPr>
            <p:cNvPr id="306" name=""/>
            <p:cNvSpPr/>
            <p:nvPr/>
          </p:nvSpPr>
          <p:spPr>
            <a:xfrm>
              <a:off x="1600200" y="2895480"/>
              <a:ext cx="56372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00200" y="2899440"/>
              <a:ext cx="563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ct a socket that is ready for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124080" y="3505320"/>
            <a:ext cx="2665440" cy="531720"/>
            <a:chOff x="3124080" y="3505320"/>
            <a:chExt cx="2665440" cy="531720"/>
          </a:xfrm>
        </p:grpSpPr>
        <p:sp>
          <p:nvSpPr>
            <p:cNvPr id="309" name=""/>
            <p:cNvSpPr/>
            <p:nvPr/>
          </p:nvSpPr>
          <p:spPr>
            <a:xfrm>
              <a:off x="3124080" y="3505320"/>
              <a:ext cx="2665440" cy="531720"/>
            </a:xfrm>
            <a:custGeom>
              <a:avLst/>
              <a:gdLst/>
              <a:ahLst/>
              <a:rect l="l" t="t" r="r" b="b"/>
              <a:pathLst>
                <a:path w="7410" h="1482">
                  <a:moveTo>
                    <a:pt x="3705" y="0"/>
                  </a:moveTo>
                  <a:lnTo>
                    <a:pt x="7409" y="740"/>
                  </a:lnTo>
                  <a:lnTo>
                    <a:pt x="3705" y="1481"/>
                  </a:lnTo>
                  <a:lnTo>
                    <a:pt x="0" y="740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9080" y="3587760"/>
              <a:ext cx="149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124080" y="4267080"/>
            <a:ext cx="2665440" cy="532080"/>
            <a:chOff x="3124080" y="4267080"/>
            <a:chExt cx="2665440" cy="532080"/>
          </a:xfrm>
        </p:grpSpPr>
        <p:sp>
          <p:nvSpPr>
            <p:cNvPr id="312" name=""/>
            <p:cNvSpPr/>
            <p:nvPr/>
          </p:nvSpPr>
          <p:spPr>
            <a:xfrm>
              <a:off x="3124080" y="4267080"/>
              <a:ext cx="2665440" cy="532080"/>
            </a:xfrm>
            <a:custGeom>
              <a:avLst/>
              <a:gdLst/>
              <a:ahLst/>
              <a:rect l="l" t="t" r="r" b="b"/>
              <a:pathLst>
                <a:path w="7410" h="1483">
                  <a:moveTo>
                    <a:pt x="3705" y="0"/>
                  </a:moveTo>
                  <a:lnTo>
                    <a:pt x="7409" y="741"/>
                  </a:lnTo>
                  <a:lnTo>
                    <a:pt x="3705" y="1482"/>
                  </a:lnTo>
                  <a:lnTo>
                    <a:pt x="0" y="741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79280" y="4350240"/>
              <a:ext cx="135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rv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4952880"/>
            <a:ext cx="2665440" cy="532080"/>
            <a:chOff x="3124080" y="4952880"/>
            <a:chExt cx="2665440" cy="532080"/>
          </a:xfrm>
        </p:grpSpPr>
        <p:sp>
          <p:nvSpPr>
            <p:cNvPr id="315" name=""/>
            <p:cNvSpPr/>
            <p:nvPr/>
          </p:nvSpPr>
          <p:spPr>
            <a:xfrm>
              <a:off x="3124080" y="4952880"/>
              <a:ext cx="2665440" cy="532080"/>
            </a:xfrm>
            <a:custGeom>
              <a:avLst/>
              <a:gdLst/>
              <a:ahLst/>
              <a:rect l="l" t="t" r="r" b="b"/>
              <a:pathLst>
                <a:path w="7410" h="1483">
                  <a:moveTo>
                    <a:pt x="3705" y="0"/>
                  </a:moveTo>
                  <a:lnTo>
                    <a:pt x="7409" y="741"/>
                  </a:lnTo>
                  <a:lnTo>
                    <a:pt x="3705" y="1482"/>
                  </a:lnTo>
                  <a:lnTo>
                    <a:pt x="0" y="741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960" y="5036040"/>
              <a:ext cx="1597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133720" y="5638680"/>
            <a:ext cx="4646520" cy="649440"/>
            <a:chOff x="2133720" y="5638680"/>
            <a:chExt cx="4646520" cy="649440"/>
          </a:xfrm>
        </p:grpSpPr>
        <p:sp>
          <p:nvSpPr>
            <p:cNvPr id="318" name=""/>
            <p:cNvSpPr/>
            <p:nvPr/>
          </p:nvSpPr>
          <p:spPr>
            <a:xfrm>
              <a:off x="2133720" y="5638680"/>
              <a:ext cx="46465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3720" y="5642640"/>
              <a:ext cx="4646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filename, read the contents and send the contents to the requesting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5440" y="3811680"/>
            <a:ext cx="1141920" cy="877680"/>
            <a:chOff x="685440" y="3811680"/>
            <a:chExt cx="1141920" cy="877680"/>
          </a:xfrm>
        </p:grpSpPr>
        <p:sp>
          <p:nvSpPr>
            <p:cNvPr id="321" name=""/>
            <p:cNvSpPr/>
            <p:nvPr/>
          </p:nvSpPr>
          <p:spPr>
            <a:xfrm rot="10800000">
              <a:off x="685440" y="3811680"/>
              <a:ext cx="114156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" y="392832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391520" y="3126960"/>
            <a:ext cx="1293840" cy="1266840"/>
            <a:chOff x="7391520" y="3126960"/>
            <a:chExt cx="1293840" cy="1266840"/>
          </a:xfrm>
        </p:grpSpPr>
        <p:sp>
          <p:nvSpPr>
            <p:cNvPr id="324" name=""/>
            <p:cNvSpPr/>
            <p:nvPr/>
          </p:nvSpPr>
          <p:spPr>
            <a:xfrm rot="10800000">
              <a:off x="7391520" y="31269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33004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ynch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467480" y="4727160"/>
            <a:ext cx="1293840" cy="1266840"/>
            <a:chOff x="7467480" y="4727160"/>
            <a:chExt cx="1293840" cy="1266840"/>
          </a:xfrm>
        </p:grpSpPr>
        <p:sp>
          <p:nvSpPr>
            <p:cNvPr id="327" name=""/>
            <p:cNvSpPr/>
            <p:nvPr/>
          </p:nvSpPr>
          <p:spPr>
            <a:xfrm rot="10800000">
              <a:off x="7467480" y="47271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67480" y="49006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ice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9" name=""/>
          <p:cNvCxnSpPr/>
          <p:nvPr/>
        </p:nvCxnSpPr>
        <p:spPr>
          <a:xfrm>
            <a:off x="5105520" y="571680"/>
            <a:ext cx="2134080" cy="6829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0" name=""/>
          <p:cNvCxnSpPr/>
          <p:nvPr/>
        </p:nvCxnSpPr>
        <p:spPr>
          <a:xfrm>
            <a:off x="7238520" y="1254240"/>
            <a:ext cx="1143720" cy="96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1" name=""/>
          <p:cNvCxnSpPr/>
          <p:nvPr/>
        </p:nvCxnSpPr>
        <p:spPr>
          <a:xfrm flipV="1" rot="10800000">
            <a:off x="7238160" y="2214360"/>
            <a:ext cx="1143720" cy="869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2" name=""/>
          <p:cNvCxnSpPr/>
          <p:nvPr/>
        </p:nvCxnSpPr>
        <p:spPr>
          <a:xfrm flipV="1" rot="10800000">
            <a:off x="5790600" y="3082680"/>
            <a:ext cx="1448280" cy="68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3" name=""/>
          <p:cNvCxnSpPr/>
          <p:nvPr/>
        </p:nvCxnSpPr>
        <p:spPr>
          <a:xfrm>
            <a:off x="5790960" y="3772080"/>
            <a:ext cx="108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4" name=""/>
          <p:cNvCxnSpPr/>
          <p:nvPr/>
        </p:nvCxnSpPr>
        <p:spPr>
          <a:xfrm>
            <a:off x="5790960" y="4533480"/>
            <a:ext cx="108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5" name=""/>
          <p:cNvCxnSpPr/>
          <p:nvPr/>
        </p:nvCxnSpPr>
        <p:spPr>
          <a:xfrm>
            <a:off x="5790960" y="5219640"/>
            <a:ext cx="991080" cy="74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6" name=""/>
          <p:cNvCxnSpPr/>
          <p:nvPr/>
        </p:nvCxnSpPr>
        <p:spPr>
          <a:xfrm flipV="1">
            <a:off x="5790960" y="3757320"/>
            <a:ext cx="160092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7" name=""/>
          <p:cNvCxnSpPr/>
          <p:nvPr/>
        </p:nvCxnSpPr>
        <p:spPr>
          <a:xfrm>
            <a:off x="5791320" y="4533480"/>
            <a:ext cx="1676880" cy="8247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8" name=""/>
          <p:cNvCxnSpPr/>
          <p:nvPr/>
        </p:nvCxnSpPr>
        <p:spPr>
          <a:xfrm rot="10800000">
            <a:off x="1828080" y="4249080"/>
            <a:ext cx="1296000" cy="9705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9" name=""/>
          <p:cNvCxnSpPr/>
          <p:nvPr/>
        </p:nvCxnSpPr>
        <p:spPr>
          <a:xfrm rot="10800000">
            <a:off x="1256760" y="4688640"/>
            <a:ext cx="3201120" cy="95004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40" name=""/>
          <p:cNvCxnSpPr/>
          <p:nvPr/>
        </p:nvCxnSpPr>
        <p:spPr>
          <a:xfrm flipV="1">
            <a:off x="1257480" y="3270960"/>
            <a:ext cx="3162960" cy="53892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41" name=""/>
          <p:cNvSpPr/>
          <p:nvPr/>
        </p:nvSpPr>
        <p:spPr>
          <a:xfrm>
            <a:off x="6477120" y="46476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5486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7242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39618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62320" y="47242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28600"/>
            <a:ext cx="28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A99A-9490-46C5-A558-A3BE8F4D4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656160" y="307440"/>
            <a:ext cx="1295280" cy="1266840"/>
            <a:chOff x="3656160" y="307440"/>
            <a:chExt cx="1295280" cy="1266840"/>
          </a:xfrm>
        </p:grpSpPr>
        <p:sp>
          <p:nvSpPr>
            <p:cNvPr id="350" name=""/>
            <p:cNvSpPr/>
            <p:nvPr/>
          </p:nvSpPr>
          <p:spPr>
            <a:xfrm rot="10800000">
              <a:off x="3656160" y="30744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600" y="48060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ynch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048120" y="1828800"/>
            <a:ext cx="2585880" cy="650880"/>
            <a:chOff x="3048120" y="1828800"/>
            <a:chExt cx="2585880" cy="650880"/>
          </a:xfrm>
        </p:grpSpPr>
        <p:sp>
          <p:nvSpPr>
            <p:cNvPr id="353" name=""/>
            <p:cNvSpPr/>
            <p:nvPr/>
          </p:nvSpPr>
          <p:spPr>
            <a:xfrm>
              <a:off x="3048120" y="182880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3">
                  <a:moveTo>
                    <a:pt x="3594" y="0"/>
                  </a:moveTo>
                  <a:lnTo>
                    <a:pt x="7188" y="905"/>
                  </a:lnTo>
                  <a:lnTo>
                    <a:pt x="3594" y="1812"/>
                  </a:lnTo>
                  <a:lnTo>
                    <a:pt x="0" y="905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197064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19920" y="1828800"/>
            <a:ext cx="2512800" cy="649440"/>
            <a:chOff x="6019920" y="1828800"/>
            <a:chExt cx="2512800" cy="649440"/>
          </a:xfrm>
        </p:grpSpPr>
        <p:sp>
          <p:nvSpPr>
            <p:cNvPr id="356" name=""/>
            <p:cNvSpPr/>
            <p:nvPr/>
          </p:nvSpPr>
          <p:spPr>
            <a:xfrm>
              <a:off x="6019920" y="182880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1832760"/>
              <a:ext cx="251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d with load and root file han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048120" y="2666880"/>
            <a:ext cx="2585880" cy="650880"/>
            <a:chOff x="3048120" y="2666880"/>
            <a:chExt cx="2585880" cy="650880"/>
          </a:xfrm>
        </p:grpSpPr>
        <p:sp>
          <p:nvSpPr>
            <p:cNvPr id="359" name=""/>
            <p:cNvSpPr/>
            <p:nvPr/>
          </p:nvSpPr>
          <p:spPr>
            <a:xfrm>
              <a:off x="3048120" y="266688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4">
                  <a:moveTo>
                    <a:pt x="3594" y="0"/>
                  </a:moveTo>
                  <a:lnTo>
                    <a:pt x="7188" y="906"/>
                  </a:lnTo>
                  <a:lnTo>
                    <a:pt x="3594" y="1813"/>
                  </a:lnTo>
                  <a:lnTo>
                    <a:pt x="0" y="906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280980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048120" y="3505320"/>
            <a:ext cx="2585880" cy="650880"/>
            <a:chOff x="3048120" y="3505320"/>
            <a:chExt cx="2585880" cy="650880"/>
          </a:xfrm>
        </p:grpSpPr>
        <p:sp>
          <p:nvSpPr>
            <p:cNvPr id="362" name=""/>
            <p:cNvSpPr/>
            <p:nvPr/>
          </p:nvSpPr>
          <p:spPr>
            <a:xfrm>
              <a:off x="3048120" y="350532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3">
                  <a:moveTo>
                    <a:pt x="3594" y="0"/>
                  </a:moveTo>
                  <a:lnTo>
                    <a:pt x="7188" y="905"/>
                  </a:lnTo>
                  <a:lnTo>
                    <a:pt x="3594" y="1812"/>
                  </a:lnTo>
                  <a:lnTo>
                    <a:pt x="0" y="905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364716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95480" y="4343400"/>
            <a:ext cx="2890800" cy="650880"/>
            <a:chOff x="2895480" y="4343400"/>
            <a:chExt cx="2890800" cy="650880"/>
          </a:xfrm>
        </p:grpSpPr>
        <p:sp>
          <p:nvSpPr>
            <p:cNvPr id="365" name=""/>
            <p:cNvSpPr/>
            <p:nvPr/>
          </p:nvSpPr>
          <p:spPr>
            <a:xfrm>
              <a:off x="2895480" y="4343400"/>
              <a:ext cx="2890800" cy="650880"/>
            </a:xfrm>
            <a:custGeom>
              <a:avLst/>
              <a:gdLst/>
              <a:ahLst/>
              <a:rect l="l" t="t" r="r" b="b"/>
              <a:pathLst>
                <a:path w="8036" h="1813">
                  <a:moveTo>
                    <a:pt x="4018" y="0"/>
                  </a:moveTo>
                  <a:lnTo>
                    <a:pt x="8035" y="905"/>
                  </a:lnTo>
                  <a:lnTo>
                    <a:pt x="4018" y="1812"/>
                  </a:lnTo>
                  <a:lnTo>
                    <a:pt x="0" y="905"/>
                  </a:lnTo>
                  <a:lnTo>
                    <a:pt x="40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95480" y="4485240"/>
              <a:ext cx="28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19520" y="5181480"/>
            <a:ext cx="3043080" cy="650880"/>
            <a:chOff x="2819520" y="5181480"/>
            <a:chExt cx="3043080" cy="650880"/>
          </a:xfrm>
        </p:grpSpPr>
        <p:sp>
          <p:nvSpPr>
            <p:cNvPr id="368" name=""/>
            <p:cNvSpPr/>
            <p:nvPr/>
          </p:nvSpPr>
          <p:spPr>
            <a:xfrm>
              <a:off x="2819520" y="5181480"/>
              <a:ext cx="3043080" cy="650880"/>
            </a:xfrm>
            <a:custGeom>
              <a:avLst/>
              <a:gdLst/>
              <a:ahLst/>
              <a:rect l="l" t="t" r="r" b="b"/>
              <a:pathLst>
                <a:path w="8459" h="1814">
                  <a:moveTo>
                    <a:pt x="4229" y="0"/>
                  </a:moveTo>
                  <a:lnTo>
                    <a:pt x="8458" y="906"/>
                  </a:lnTo>
                  <a:lnTo>
                    <a:pt x="4229" y="1813"/>
                  </a:lnTo>
                  <a:lnTo>
                    <a:pt x="0" y="90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9520" y="5324400"/>
              <a:ext cx="304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renam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27960" y="2744280"/>
            <a:ext cx="1295280" cy="1266840"/>
            <a:chOff x="6627960" y="2744280"/>
            <a:chExt cx="1295280" cy="1266840"/>
          </a:xfrm>
        </p:grpSpPr>
        <p:sp>
          <p:nvSpPr>
            <p:cNvPr id="371" name=""/>
            <p:cNvSpPr/>
            <p:nvPr/>
          </p:nvSpPr>
          <p:spPr>
            <a:xfrm rot="10800000">
              <a:off x="6627960" y="274428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9400" y="29188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/>
          <p:nvPr/>
        </p:nvCxnSpPr>
        <p:spPr>
          <a:xfrm flipV="1" rot="10800000">
            <a:off x="3047400" y="937800"/>
            <a:ext cx="610200" cy="12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4" name=""/>
          <p:cNvCxnSpPr/>
          <p:nvPr/>
        </p:nvCxnSpPr>
        <p:spPr>
          <a:xfrm>
            <a:off x="5635440" y="2154240"/>
            <a:ext cx="108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5" name=""/>
          <p:cNvCxnSpPr/>
          <p:nvPr/>
        </p:nvCxnSpPr>
        <p:spPr>
          <a:xfrm>
            <a:off x="5635440" y="2991960"/>
            <a:ext cx="1080" cy="840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6" name=""/>
          <p:cNvCxnSpPr/>
          <p:nvPr/>
        </p:nvCxnSpPr>
        <p:spPr>
          <a:xfrm>
            <a:off x="5635440" y="3832200"/>
            <a:ext cx="153000" cy="837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7" name=""/>
          <p:cNvCxnSpPr/>
          <p:nvPr/>
        </p:nvCxnSpPr>
        <p:spPr>
          <a:xfrm flipV="1" rot="10800000">
            <a:off x="2818800" y="4668480"/>
            <a:ext cx="7668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8" name=""/>
          <p:cNvCxnSpPr/>
          <p:nvPr/>
        </p:nvCxnSpPr>
        <p:spPr>
          <a:xfrm>
            <a:off x="5635440" y="2153880"/>
            <a:ext cx="3848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9" name=""/>
          <p:cNvCxnSpPr/>
          <p:nvPr/>
        </p:nvCxnSpPr>
        <p:spPr>
          <a:xfrm>
            <a:off x="5635800" y="2991960"/>
            <a:ext cx="993960" cy="38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0" name=""/>
          <p:cNvGrpSpPr/>
          <p:nvPr/>
        </p:nvGrpSpPr>
        <p:grpSpPr>
          <a:xfrm>
            <a:off x="304920" y="3505320"/>
            <a:ext cx="2284200" cy="649080"/>
            <a:chOff x="304920" y="3505320"/>
            <a:chExt cx="2284200" cy="649080"/>
          </a:xfrm>
        </p:grpSpPr>
        <p:sp>
          <p:nvSpPr>
            <p:cNvPr id="381" name=""/>
            <p:cNvSpPr/>
            <p:nvPr/>
          </p:nvSpPr>
          <p:spPr>
            <a:xfrm>
              <a:off x="304920" y="3505320"/>
              <a:ext cx="228420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920" y="3509280"/>
              <a:ext cx="2284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/>
          <p:nvPr/>
        </p:nvCxnSpPr>
        <p:spPr>
          <a:xfrm rot="10800000">
            <a:off x="2590200" y="3830040"/>
            <a:ext cx="457920" cy="216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4" name=""/>
          <p:cNvGrpSpPr/>
          <p:nvPr/>
        </p:nvGrpSpPr>
        <p:grpSpPr>
          <a:xfrm>
            <a:off x="6019920" y="4354560"/>
            <a:ext cx="2589120" cy="649080"/>
            <a:chOff x="6019920" y="4354560"/>
            <a:chExt cx="2589120" cy="649080"/>
          </a:xfrm>
        </p:grpSpPr>
        <p:sp>
          <p:nvSpPr>
            <p:cNvPr id="385" name=""/>
            <p:cNvSpPr/>
            <p:nvPr/>
          </p:nvSpPr>
          <p:spPr>
            <a:xfrm>
              <a:off x="6019920" y="4354560"/>
              <a:ext cx="258912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9920" y="435852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mov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7" name=""/>
          <p:cNvCxnSpPr/>
          <p:nvPr/>
        </p:nvCxnSpPr>
        <p:spPr>
          <a:xfrm>
            <a:off x="4341600" y="4995360"/>
            <a:ext cx="2973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8" name=""/>
          <p:cNvGrpSpPr/>
          <p:nvPr/>
        </p:nvGrpSpPr>
        <p:grpSpPr>
          <a:xfrm>
            <a:off x="6095880" y="5181480"/>
            <a:ext cx="2589480" cy="649440"/>
            <a:chOff x="6095880" y="5181480"/>
            <a:chExt cx="2589480" cy="649440"/>
          </a:xfrm>
        </p:grpSpPr>
        <p:sp>
          <p:nvSpPr>
            <p:cNvPr id="389" name=""/>
            <p:cNvSpPr/>
            <p:nvPr/>
          </p:nvSpPr>
          <p:spPr>
            <a:xfrm>
              <a:off x="6095880" y="5181480"/>
              <a:ext cx="258948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5880" y="5185440"/>
              <a:ext cx="258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nam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1" name=""/>
          <p:cNvCxnSpPr/>
          <p:nvPr/>
        </p:nvCxnSpPr>
        <p:spPr>
          <a:xfrm>
            <a:off x="4341600" y="5181120"/>
            <a:ext cx="30502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92" name=""/>
          <p:cNvGrpSpPr/>
          <p:nvPr/>
        </p:nvGrpSpPr>
        <p:grpSpPr>
          <a:xfrm>
            <a:off x="836280" y="5106600"/>
            <a:ext cx="1143360" cy="878040"/>
            <a:chOff x="836280" y="5106600"/>
            <a:chExt cx="1143360" cy="878040"/>
          </a:xfrm>
        </p:grpSpPr>
        <p:sp>
          <p:nvSpPr>
            <p:cNvPr id="393" name=""/>
            <p:cNvSpPr/>
            <p:nvPr/>
          </p:nvSpPr>
          <p:spPr>
            <a:xfrm rot="10800000">
              <a:off x="836280" y="5106600"/>
              <a:ext cx="114156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52236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5" name=""/>
          <p:cNvCxnSpPr/>
          <p:nvPr/>
        </p:nvCxnSpPr>
        <p:spPr>
          <a:xfrm flipV="1" rot="10800000">
            <a:off x="1980360" y="5506560"/>
            <a:ext cx="83916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5638680" y="5181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18288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27432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3200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4343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4038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48762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5181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3504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361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V="1" rot="10800000">
            <a:off x="1409040" y="4155840"/>
            <a:ext cx="38880" cy="950040"/>
          </a:xfrm>
          <a:prstGeom prst="bentConnector3">
            <a:avLst>
              <a:gd name="adj1" fmla="val 4953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07" name=""/>
          <p:cNvCxnSpPr/>
          <p:nvPr/>
        </p:nvCxnSpPr>
        <p:spPr>
          <a:xfrm flipV="1" rot="10800000">
            <a:off x="1980360" y="2153880"/>
            <a:ext cx="4039560" cy="3391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08" name=""/>
          <p:cNvSpPr/>
          <p:nvPr/>
        </p:nvSpPr>
        <p:spPr>
          <a:xfrm>
            <a:off x="228600" y="228600"/>
            <a:ext cx="263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/>
          <p:nvPr/>
        </p:nvCxnSpPr>
        <p:spPr>
          <a:xfrm flipV="1" rot="10800000">
            <a:off x="1980360" y="5506560"/>
            <a:ext cx="4115520" cy="388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10" name=""/>
          <p:cNvCxnSpPr/>
          <p:nvPr/>
        </p:nvCxnSpPr>
        <p:spPr>
          <a:xfrm flipV="1" rot="10800000">
            <a:off x="1980360" y="4679640"/>
            <a:ext cx="403956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1C84-318C-4309-AA39-5AFC6AD16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66680" y="2364840"/>
            <a:ext cx="1293840" cy="1266840"/>
            <a:chOff x="1066680" y="2364840"/>
            <a:chExt cx="1293840" cy="1266840"/>
          </a:xfrm>
        </p:grpSpPr>
        <p:sp>
          <p:nvSpPr>
            <p:cNvPr id="414" name=""/>
            <p:cNvSpPr/>
            <p:nvPr/>
          </p:nvSpPr>
          <p:spPr>
            <a:xfrm rot="10800000">
              <a:off x="1066680" y="236484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6680" y="253800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57200" y="3886200"/>
            <a:ext cx="2589120" cy="649440"/>
            <a:chOff x="457200" y="3886200"/>
            <a:chExt cx="2589120" cy="649440"/>
          </a:xfrm>
        </p:grpSpPr>
        <p:sp>
          <p:nvSpPr>
            <p:cNvPr id="417" name=""/>
            <p:cNvSpPr/>
            <p:nvPr/>
          </p:nvSpPr>
          <p:spPr>
            <a:xfrm>
              <a:off x="457200" y="3886200"/>
              <a:ext cx="25891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" y="389016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ke a TCP connection to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57200" y="4800600"/>
            <a:ext cx="2589120" cy="374760"/>
            <a:chOff x="457200" y="4800600"/>
            <a:chExt cx="2589120" cy="374760"/>
          </a:xfrm>
        </p:grpSpPr>
        <p:sp>
          <p:nvSpPr>
            <p:cNvPr id="420" name=""/>
            <p:cNvSpPr/>
            <p:nvPr/>
          </p:nvSpPr>
          <p:spPr>
            <a:xfrm>
              <a:off x="457200" y="4800600"/>
              <a:ext cx="258912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" y="480456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04920" y="5562720"/>
            <a:ext cx="2894040" cy="649080"/>
            <a:chOff x="304920" y="5562720"/>
            <a:chExt cx="2894040" cy="649080"/>
          </a:xfrm>
        </p:grpSpPr>
        <p:sp>
          <p:nvSpPr>
            <p:cNvPr id="423" name=""/>
            <p:cNvSpPr/>
            <p:nvPr/>
          </p:nvSpPr>
          <p:spPr>
            <a:xfrm>
              <a:off x="304920" y="5562720"/>
              <a:ext cx="28940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4920" y="5566680"/>
              <a:ext cx="2894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new contents of the file from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581280" y="5334120"/>
            <a:ext cx="2360880" cy="923760"/>
            <a:chOff x="3581280" y="5334120"/>
            <a:chExt cx="2360880" cy="923760"/>
          </a:xfrm>
        </p:grpSpPr>
        <p:sp>
          <p:nvSpPr>
            <p:cNvPr id="426" name=""/>
            <p:cNvSpPr/>
            <p:nvPr/>
          </p:nvSpPr>
          <p:spPr>
            <a:xfrm>
              <a:off x="3581280" y="5334120"/>
              <a:ext cx="236088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81280" y="5338080"/>
              <a:ext cx="236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rite the new contents to the file and close the conne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477120" y="5446800"/>
            <a:ext cx="1293840" cy="877680"/>
            <a:chOff x="6477120" y="5446800"/>
            <a:chExt cx="1293840" cy="877680"/>
          </a:xfrm>
        </p:grpSpPr>
        <p:sp>
          <p:nvSpPr>
            <p:cNvPr id="429" name=""/>
            <p:cNvSpPr/>
            <p:nvPr/>
          </p:nvSpPr>
          <p:spPr>
            <a:xfrm rot="10800000">
              <a:off x="6477120" y="5446800"/>
              <a:ext cx="129384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5563440"/>
              <a:ext cx="129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1" name=""/>
          <p:cNvCxnSpPr/>
          <p:nvPr/>
        </p:nvCxnSpPr>
        <p:spPr>
          <a:xfrm flipV="1" rot="10800000">
            <a:off x="456480" y="2995200"/>
            <a:ext cx="610200" cy="12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2" name=""/>
          <p:cNvCxnSpPr/>
          <p:nvPr/>
        </p:nvCxnSpPr>
        <p:spPr>
          <a:xfrm>
            <a:off x="3047760" y="4211640"/>
            <a:ext cx="1080" cy="7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3" name=""/>
          <p:cNvCxnSpPr/>
          <p:nvPr/>
        </p:nvCxnSpPr>
        <p:spPr>
          <a:xfrm>
            <a:off x="1752120" y="5176800"/>
            <a:ext cx="1080" cy="386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4" name=""/>
          <p:cNvCxnSpPr/>
          <p:nvPr/>
        </p:nvCxnSpPr>
        <p:spPr>
          <a:xfrm flipV="1">
            <a:off x="3200400" y="5795640"/>
            <a:ext cx="381600" cy="92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5" name=""/>
          <p:cNvCxnSpPr/>
          <p:nvPr/>
        </p:nvCxnSpPr>
        <p:spPr>
          <a:xfrm>
            <a:off x="5943600" y="5795640"/>
            <a:ext cx="534240" cy="8964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436" name=""/>
          <p:cNvGrpSpPr/>
          <p:nvPr/>
        </p:nvGrpSpPr>
        <p:grpSpPr>
          <a:xfrm>
            <a:off x="6477120" y="155160"/>
            <a:ext cx="1293840" cy="1266840"/>
            <a:chOff x="6477120" y="155160"/>
            <a:chExt cx="1293840" cy="1266840"/>
          </a:xfrm>
        </p:grpSpPr>
        <p:sp>
          <p:nvSpPr>
            <p:cNvPr id="437" name=""/>
            <p:cNvSpPr/>
            <p:nvPr/>
          </p:nvSpPr>
          <p:spPr>
            <a:xfrm rot="10800000">
              <a:off x="6477120" y="1551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7120" y="3286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ice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943600" y="1600200"/>
            <a:ext cx="2360520" cy="649440"/>
            <a:chOff x="5943600" y="1600200"/>
            <a:chExt cx="2360520" cy="649440"/>
          </a:xfrm>
        </p:grpSpPr>
        <p:sp>
          <p:nvSpPr>
            <p:cNvPr id="440" name=""/>
            <p:cNvSpPr/>
            <p:nvPr/>
          </p:nvSpPr>
          <p:spPr>
            <a:xfrm>
              <a:off x="5943600" y="1600200"/>
              <a:ext cx="23605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43600" y="1604160"/>
              <a:ext cx="236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connection from an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867280" y="2590920"/>
            <a:ext cx="2513160" cy="649080"/>
            <a:chOff x="5867280" y="2590920"/>
            <a:chExt cx="2513160" cy="649080"/>
          </a:xfrm>
        </p:grpSpPr>
        <p:sp>
          <p:nvSpPr>
            <p:cNvPr id="443" name=""/>
            <p:cNvSpPr/>
            <p:nvPr/>
          </p:nvSpPr>
          <p:spPr>
            <a:xfrm>
              <a:off x="5867280" y="2590920"/>
              <a:ext cx="251316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2594880"/>
              <a:ext cx="2513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service request from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91320" y="3505320"/>
            <a:ext cx="2665440" cy="649080"/>
            <a:chOff x="5791320" y="3505320"/>
            <a:chExt cx="2665440" cy="649080"/>
          </a:xfrm>
        </p:grpSpPr>
        <p:sp>
          <p:nvSpPr>
            <p:cNvPr id="446" name=""/>
            <p:cNvSpPr/>
            <p:nvPr/>
          </p:nvSpPr>
          <p:spPr>
            <a:xfrm>
              <a:off x="5791320" y="3505320"/>
              <a:ext cx="26654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91320" y="3509280"/>
              <a:ext cx="2665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based on the request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15000" y="4495680"/>
            <a:ext cx="2817720" cy="649440"/>
            <a:chOff x="5715000" y="4495680"/>
            <a:chExt cx="2817720" cy="649440"/>
          </a:xfrm>
        </p:grpSpPr>
        <p:sp>
          <p:nvSpPr>
            <p:cNvPr id="449" name=""/>
            <p:cNvSpPr/>
            <p:nvPr/>
          </p:nvSpPr>
          <p:spPr>
            <a:xfrm>
              <a:off x="5715000" y="4495680"/>
              <a:ext cx="28177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5000" y="4499640"/>
              <a:ext cx="281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respons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close the 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1" name=""/>
          <p:cNvCxnSpPr/>
          <p:nvPr/>
        </p:nvCxnSpPr>
        <p:spPr>
          <a:xfrm>
            <a:off x="7772400" y="785880"/>
            <a:ext cx="534240" cy="1140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"/>
          <p:cNvCxnSpPr/>
          <p:nvPr/>
        </p:nvCxnSpPr>
        <p:spPr>
          <a:xfrm>
            <a:off x="8305560" y="1925640"/>
            <a:ext cx="7668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"/>
          <p:cNvCxnSpPr/>
          <p:nvPr/>
        </p:nvCxnSpPr>
        <p:spPr>
          <a:xfrm flipV="1" rot="10800000">
            <a:off x="5790600" y="2916000"/>
            <a:ext cx="7668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4" name=""/>
          <p:cNvCxnSpPr/>
          <p:nvPr/>
        </p:nvCxnSpPr>
        <p:spPr>
          <a:xfrm>
            <a:off x="8458200" y="3830400"/>
            <a:ext cx="7668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5" name=""/>
          <p:cNvCxnSpPr/>
          <p:nvPr/>
        </p:nvCxnSpPr>
        <p:spPr>
          <a:xfrm flipV="1" rot="10800000">
            <a:off x="7771680" y="4820760"/>
            <a:ext cx="762840" cy="106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"/>
          <p:cNvSpPr/>
          <p:nvPr/>
        </p:nvSpPr>
        <p:spPr>
          <a:xfrm>
            <a:off x="152280" y="228600"/>
            <a:ext cx="263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B241-DC45-496B-A9E6-9161F01B0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380880"/>
            <a:ext cx="815184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fil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preferred file handle and a preferred 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ccess requests to its current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ges the preferred file handle and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ets the preferred file handle and the preferred 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 not support file-block ca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5C8-9194-454E-B4B5-30B523742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33520"/>
            <a:ext cx="815184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o frame, send and receive the response for each request is measured in 2 test setu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setup 1 is with two light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Test setup 2 is with two light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nd two heavi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re AMD K6/2 500 MHz processors;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Pentium II 400 MHz . All run Linux version 2.2.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are interconnected by a 10 Mbps Ethernet L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ings are measured a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quest is assumed to be complete when a response is received for the request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2AC-47F4-4FAD-8CBA-704C0D5BE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80880"/>
            <a:ext cx="632304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DFS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286000" y="1219320"/>
          <a:ext cx="4944960" cy="463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4944960" cy="46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1447920" y="5791320"/>
            <a:ext cx="52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This test is independent of the number of SS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8F4-A383-47FD-BBEA-994B3A59B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457200"/>
            <a:ext cx="77706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FS &amp; Local File System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ed the time taken by 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tmp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NFS-mounted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FS client runs in kernel and has a file c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FS server runs as an application and also has a file c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D834-E08B-492E-BCF8-97EEA35B5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457200"/>
            <a:ext cx="746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76200" y="1333440"/>
          <a:ext cx="6066000" cy="52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333440"/>
                    <a:ext cx="6066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4BDC-B88B-4B68-AECF-CF015106FE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304920"/>
            <a:ext cx="822780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version of the software implements all the functions descri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ing studies show that many improvements can be made to the existing software to enhance its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been a nice experience working on a big project involving complex design and imple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earned about various intricacies involved in a distribut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very interesting to read and understand the flow of a huge software code like the NFS version-2 open sou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earned the working of VFS in Linu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078-99F2-4BA9-BDE9-791557041E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57200"/>
            <a:ext cx="8380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ckground - Network File System (NF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fined by Sun Microsystems Inc for remote fil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provides the same operations on remote files that one expects to use on local files using the Remote Procedure Call mech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access among heterogeneous compu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provides UNIX file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orts files to be accessed by 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Handle uniquely identifies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replication and load balanc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9395-966D-415F-8A83-EABDB46D5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457200"/>
            <a:ext cx="815184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tur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fault-toleranc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 caching of data blocks a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Cache-coherence protocols from the Andrew and Sprite file systems can be used for cache coher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system can be made to run in the kernel space for better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 PDFS to VFS of the Linux kernel as a register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system administration tools for conveniently adding/deleting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BC35-CB2C-4D35-8783-7F21AB596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2971800"/>
            <a:ext cx="518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37D3-FE34-44D3-9A52-90ED483B5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2281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ckground - L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tributed OS developed at UCLA that provides a transparent network-wide file system with automatic storage re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partitioned operation of sub-nets and dynamic me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system is comprised of File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egorizes sites in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icate one entire file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te for each file group synchronizes access and select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open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/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goes through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38D-F300-4D6E-908B-C9259958A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"/>
            <a:ext cx="815184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DFS Over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supports a transparent global name sp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system is replicated in its entire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provides UNIX semantics for fil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combines the remote file-access mechanism of NFS and the access-synchronization mechanism of Loc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ault toler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uses TCP for commun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distributes load to different storage ser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aching of file bloc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0E5-EA0B-4219-9B76-71F316822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"/>
            <a:ext cx="8151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ite Categ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categorizes the sites 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the basis of their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issues access reque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contains a replica of the file system. It is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enforces access synchronization for files in the file system and maintains consistency among the various copies of the file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is only one synchronization site for the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057400" y="914400"/>
            <a:ext cx="4722840" cy="1680480"/>
            <a:chOff x="2057400" y="914400"/>
            <a:chExt cx="4722840" cy="1680480"/>
          </a:xfrm>
        </p:grpSpPr>
        <p:grpSp>
          <p:nvGrpSpPr>
            <p:cNvPr id="56" name=""/>
            <p:cNvGrpSpPr/>
            <p:nvPr/>
          </p:nvGrpSpPr>
          <p:grpSpPr>
            <a:xfrm>
              <a:off x="2927520" y="914400"/>
              <a:ext cx="2360520" cy="335880"/>
              <a:chOff x="2927520" y="914400"/>
              <a:chExt cx="2360520" cy="335880"/>
            </a:xfrm>
          </p:grpSpPr>
          <p:sp>
            <p:nvSpPr>
              <p:cNvPr id="57" name=""/>
              <p:cNvSpPr/>
              <p:nvPr/>
            </p:nvSpPr>
            <p:spPr>
              <a:xfrm>
                <a:off x="2927520" y="914400"/>
                <a:ext cx="2360520" cy="330120"/>
              </a:xfrm>
              <a:prstGeom prst="roundRect">
                <a:avLst>
                  <a:gd name="adj" fmla="val 47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27520" y="914400"/>
                <a:ext cx="2360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057400" y="1492200"/>
              <a:ext cx="1117440" cy="335880"/>
              <a:chOff x="2057400" y="1492200"/>
              <a:chExt cx="1117440" cy="335880"/>
            </a:xfrm>
          </p:grpSpPr>
          <p:sp>
            <p:nvSpPr>
              <p:cNvPr id="60" name=""/>
              <p:cNvSpPr/>
              <p:nvPr/>
            </p:nvSpPr>
            <p:spPr>
              <a:xfrm>
                <a:off x="2057400" y="1492200"/>
                <a:ext cx="1117440" cy="3301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57400" y="1492200"/>
                <a:ext cx="1117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289480" y="1492200"/>
              <a:ext cx="1117800" cy="335880"/>
              <a:chOff x="5289480" y="1492200"/>
              <a:chExt cx="1117800" cy="335880"/>
            </a:xfrm>
          </p:grpSpPr>
          <p:sp>
            <p:nvSpPr>
              <p:cNvPr id="63" name=""/>
              <p:cNvSpPr/>
              <p:nvPr/>
            </p:nvSpPr>
            <p:spPr>
              <a:xfrm>
                <a:off x="5289480" y="1492200"/>
                <a:ext cx="1117800" cy="3301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89480" y="1492200"/>
                <a:ext cx="1117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2057400" y="2138400"/>
              <a:ext cx="1490760" cy="335880"/>
              <a:chOff x="2057400" y="2138400"/>
              <a:chExt cx="1490760" cy="335880"/>
            </a:xfrm>
          </p:grpSpPr>
          <p:sp>
            <p:nvSpPr>
              <p:cNvPr id="66" name=""/>
              <p:cNvSpPr/>
              <p:nvPr/>
            </p:nvSpPr>
            <p:spPr>
              <a:xfrm>
                <a:off x="2057400" y="2138400"/>
                <a:ext cx="1490760" cy="33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400" y="2138400"/>
                <a:ext cx="149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165640" y="2259000"/>
              <a:ext cx="1614600" cy="335880"/>
              <a:chOff x="5165640" y="2259000"/>
              <a:chExt cx="1614600" cy="335880"/>
            </a:xfrm>
          </p:grpSpPr>
          <p:sp>
            <p:nvSpPr>
              <p:cNvPr id="69" name=""/>
              <p:cNvSpPr/>
              <p:nvPr/>
            </p:nvSpPr>
            <p:spPr>
              <a:xfrm>
                <a:off x="5165640" y="2259000"/>
                <a:ext cx="1614600" cy="33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65640" y="2259000"/>
                <a:ext cx="1614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2679840" y="1263240"/>
              <a:ext cx="1117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92680" y="1263600"/>
              <a:ext cx="1119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052800" y="1263600"/>
              <a:ext cx="111744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95880" y="1263600"/>
              <a:ext cx="136656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554200" y="1793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11920" y="17938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76640" y="1614600"/>
              <a:ext cx="211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2666880"/>
            <a:ext cx="8304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rmanent TCP connection between 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et up dur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art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rmanent TCP connection betwee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et up during moun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nsient TCP connection is set up betwee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The life of the connection is one access request and its re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nsient TCP connection is set up betwee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for requesting and receiving file up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80880"/>
            <a:ext cx="822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mmunication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122-A95A-4007-9D8F-A8FE5A078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228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ssues in a Distributed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system 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ic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cy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94C-D71A-4EEB-A072-9187C440AD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33520"/>
            <a:ext cx="815184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ou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s the file system by contact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u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for their lo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lect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the least load to serve the mount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btains the root file handle from the selec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lec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becomes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plic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supports replication improving availability and relia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nit of replication is the entire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ew file is created in all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00:48:58Z</dcterms:created>
  <dc:creator>rukku</dc:creator>
  <dc:description/>
  <dc:language>en-US</dc:language>
  <cp:lastModifiedBy> </cp:lastModifiedBy>
  <cp:lastPrinted>2000-07-01T00:58:47Z</cp:lastPrinted>
  <cp:revision>0</cp:revision>
  <dc:subject/>
  <dc:title>Pseudo Distributed File System</dc:title>
</cp:coreProperties>
</file>