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8961-72BE-49E2-89F9-4B878083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E5D8-6B08-4F43-827F-C5CFF267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D513-FACB-4976-97E1-14251179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41A0-08DB-4127-9EAD-0E61A725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69DE-4701-435A-ADD3-C2F26641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4513-8A29-43AC-8CB2-AAB1C4CD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72B6-9E12-4C85-854D-4485E1AD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01AE-2315-49D7-94A7-C332E3B4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D80B-5120-4533-8480-AD670FEF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C87D-F920-4416-84E8-8518C7B4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4C5-A8B3-4384-AB31-CC87E101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8FA7-AD82-4E5F-B6DC-7B3DAC72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A5AD-26A5-4E46-BFF9-044FB77DAFB5}" type="slidenum"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Design and Implementation of an Order-tracking System With .NET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Josh Marqui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Advisor: Dr. Raphael Fink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April 21, 2005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Fill in Remaining Information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dd Art Descriptions for the Artist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dd T-Shirt Size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t this point, the artist has a description and creates artwork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ccounting adds the order to its accounting softwar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Production knows to expect artwork on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Unicode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to have the shirts ready by the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Unicode MS"/>
              </a:rPr>
              <a:t>st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Office manager orders shirts with the specified sizes and amount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rtist Adds Artwork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rtwork Added to Order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he customer logs in at this point to view the status of the order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If he or she find the artwork acceptable, then he or she informs the sales representative, who marks the art approved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Once the art is approved, production expects separated artwork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he production department begins printing when the separated artwork arrives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he accounting department now has access to the order until the balance due is zero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Design Issues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(How I Developed OrderTracker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oftware Engineering comes into play  from initial concept to “finished” product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 first half of this project involved designing the software in detail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Design is important for both creating and describing the software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Object Oriented Hypermedia Design Model (OOHDM)</a:t>
            </a:r>
            <a:br>
              <a:rPr sz="40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Daniel Schwabe, Gustavo Rossi, Simone D. J. Barbosa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Requirements Gathering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Statement of Scope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Business Process Analysis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onceptual Desig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Use Cases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ontext Diagram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Navigational Desig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bstract Interface Desig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Page Flow Diagram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Page Pseudo-code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Implementatio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Requirements Gathering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he Statement of Scope is a narrative description of the application (see document)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Each requirement is uniquely identified by a number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fter I finish the implementation stage, I match requirements to site pages, code-behind files, and other documents to ensure OrderTracker fulfills each requirement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#004.00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OrderTracker SHALL allow each entity associated with the company to view specific pieces of data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#004.01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Inside Sales reps SHALL be allowed to view: any order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Discuss Project History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Demonstrate OrderTracker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Illustrate Design Issue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Business Proces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nalysis/Desig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how Implementation Decision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Discuss Conclusion and Future Work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230640" cy="64008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733560" y="304920"/>
            <a:ext cx="5181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Business Process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Outside sales to inside sale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Inside sales to accounting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ccounting to art and material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Art to Embroidery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Embroidery to Digitizing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Digitizing and materials to production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Production to shipping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Shipping to accounting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Conceptual Design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Use-Cases Exampl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1168560" indent="-711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Employee (Sales)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reate Customer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reate Contact Person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Search Customers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reate Order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Modify Order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View Order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Search Orders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Each use case maps to pseudo-code and eventually a page in the web applicatio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Context Diagram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8600" y="1303200"/>
            <a:ext cx="762012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Navigational Design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400800" cy="4894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95280" y="6248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Use-case categorization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Navigational Design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2093760"/>
            <a:ext cx="8686800" cy="2845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2280" y="4876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Main Administrator Menu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Navigational Design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686800" cy="4622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280" y="5943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Manage Orders Submenu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648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Abstract Interface Design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Focus on page flow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Pseudo-code for page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Login.aspx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display login options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when submit is clicked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query database to ensure username/password combination is valid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if valid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3" marL="1519920" indent="-217080">
              <a:spcBef>
                <a:spcPts val="451"/>
              </a:spcBef>
              <a:buClr>
                <a:srgbClr val="ffffff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redirect to Default.aspx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3" marL="1519920" indent="-217080">
              <a:spcBef>
                <a:spcPts val="451"/>
              </a:spcBef>
              <a:buClr>
                <a:srgbClr val="ffffff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how user error message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3" name="pageFlow" descr=""/>
          <p:cNvPicPr/>
          <p:nvPr/>
        </p:nvPicPr>
        <p:blipFill>
          <a:blip r:embed="rId2"/>
          <a:stretch/>
        </p:blipFill>
        <p:spPr>
          <a:xfrm>
            <a:off x="4557600" y="152280"/>
            <a:ext cx="4434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Implementation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Implementation begins after the initial design is finished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Begin implementation using pseudo-code and page flow diagram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Update design and refactor pages and code as necessary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Implementation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Development Environment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PC running Windows XP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MSDE (Microsoft SQL Server Desktop Engine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Visual Studio .NET 2003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IIS (Internet Information Server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Development Languages/Tool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C#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SP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DO.NET (SQL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HTML/CS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C#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Every page has a code-behind page written in C#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# tells ASP how to render web form controls on each pag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# is similar to C++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qlDataAdapter ad = new SqlDataAdapter( sql, cnOrderTrackerDB );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reach( DictionaryEntry prm in values )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ad.SelectCommand.Parameters.Add( prm.Key.ToString(), prm.Value );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Project History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Hands On Originals, a screenprinting company in Lexington, asked me to create an order-tracking system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n online order-tracking system seemed like an idea on which I could base a Master’s Project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I wanted to apply Software Engineering practices to the project and learn to develop software for the web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ASP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SP stands for Active Server Pag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SP is similar to HTM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he difference between ASP and HTML is that HTML is controlled on the client side while ASP is controlled on the server sid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SP has greater programmatic control compared to HTM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&lt;asp:Panel ID="pnlError" Runat="server" Visible="False"&gt;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&lt;asp:Label id="lblError" Runat="server" ForeColor="Red"&gt;&lt;/asp:Label&gt;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&lt;/asp:Panel&gt;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ASP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Handles Session Informatio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 Major Methods to retain Session State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ookies*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Hidden field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ession State* and Application Stat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Query Strings*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* OrderTracker uses these methods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ADO.NET (SQL)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OrderTracker’s core is the database system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yntax of ADO.NET is the same as SQ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DO.NET works with MSD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(Microsoft SQL Server Desktop Engine)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Developer builds tables within Visual Studio ID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Developer creates users for the database at the command l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he database itself is simply an mdf file stored on the server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4304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Database Schema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884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Most tables involve the order number as the primary key and foreign key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ome tables have no relation to other table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ables only use NOT NULL constraint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8" name="erDiagram" descr=""/>
          <p:cNvPicPr/>
          <p:nvPr/>
        </p:nvPicPr>
        <p:blipFill>
          <a:blip r:embed="rId2"/>
          <a:stretch/>
        </p:blipFill>
        <p:spPr>
          <a:xfrm>
            <a:off x="152280" y="162000"/>
            <a:ext cx="425304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Project Outcome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OrderTracker meet all specified requirement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Verified using requirements traceability matrix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Hands On Originals is pleased with the progres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Learning Outcome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I learned .NET, Session Management, Developing for Window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Windows development environment proved difficult to set up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Once configured correctly, implementation was relatively simpl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SP 1.1 apparently requires cookie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Future Work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Extensive testing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erver load testing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erver hard disk testing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ecurity testing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Usability testing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Implement security to allow financial transaction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Allow ASI and Embroidery order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Order Report/Statistics Generatio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Allow customer to upload artwork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Pressman, Robert S. Software Engineering: A Practitioner’s Approach. 6th Ed. New York: McGraw-Hill, 2005.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he OOHDM Wiki. June 18, 2004. Daniel Schwabe. January 23, 2005. &lt;http://www.oohdm.inf.puc-rio.br:8668/space/start&gt;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Yale Style Manual. 2002. Lynch and Horton. March 2, 2005. &lt;http://www.webstyleguide.com/&gt;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Brown, Keith. Security Headaches? Take ASP.NET 2.0! MSDN Magazine. June 2004. Microsoft. March 19, 2005. &lt;http://msdn.microsoft.com/msdnmag/issues/04/06/ASPNET20Security/&gt;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Thank You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Are there any questions?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Demonstration (offline)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I will now walk through the order creation process as OrderTracker handles it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Each slide shows a screenshot of the application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 demonstration will not show all aspects of the application, so feel free to ask questions as we go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Login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Create Customer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Manage Order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Create a New Order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dd the Customer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2:20:36Z</dcterms:created>
  <dc:creator>Joseph Shmoe</dc:creator>
  <dc:description/>
  <dc:language>en-US</dc:language>
  <cp:lastModifiedBy>Joseph Shmoe</cp:lastModifiedBy>
  <dcterms:modified xsi:type="dcterms:W3CDTF">2005-04-21T01:33:38Z</dcterms:modified>
  <cp:revision>13</cp:revision>
  <dc:subject/>
  <dc:title>Design and Implementation of an Order-tracking System With .NET</dc:title>
</cp:coreProperties>
</file>