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28.png" ContentType="image/png"/>
  <Override PartName="/ppt/media/image7.jpeg" ContentType="image/jpeg"/>
  <Override PartName="/ppt/media/image27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8.png" ContentType="image/png"/>
  <Override PartName="/ppt/media/image12.png" ContentType="image/png"/>
  <Override PartName="/ppt/media/image30.png" ContentType="image/png"/>
  <Override PartName="/ppt/media/image32.png" ContentType="image/png"/>
  <Override PartName="/ppt/media/image10.png" ContentType="image/png"/>
  <Override PartName="/ppt/media/image34.png" ContentType="image/png"/>
  <Override PartName="/ppt/media/image9.jpeg" ContentType="image/jpeg"/>
  <Override PartName="/ppt/media/image11.png" ContentType="image/png"/>
  <Override PartName="/ppt/media/image35.png" ContentType="image/png"/>
  <Override PartName="/ppt/media/image5.jpeg" ContentType="image/jpeg"/>
  <Override PartName="/ppt/media/image38.png" ContentType="image/png"/>
  <Override PartName="/ppt/media/image8.png" ContentType="image/png"/>
  <Override PartName="/ppt/media/image13.png" ContentType="image/png"/>
  <Override PartName="/ppt/media/image3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4.jpeg" ContentType="image/jpeg"/>
  <Override PartName="/ppt/media/image19.jpeg" ContentType="image/jpeg"/>
  <Override PartName="/ppt/media/image25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20.png" ContentType="image/png"/>
  <Override PartName="/ppt/media/image2.jpeg" ContentType="image/jpe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1C12D-4201-4EBB-81EA-8EA210545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B4381-643B-46F6-83B4-46D5A5731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5E710-7D8F-477E-BAB6-5927F11C8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4AABA-3F77-4543-8722-CE187B0B9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EB067-DE30-4308-A8FE-650A48CCE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05F5B-EA79-4605-BA52-ACD92C1CE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36645-BD78-4492-B2A5-A4CEF2416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9E49E-9265-4E12-A8A8-7FFFA7575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5B4AC-9F37-4BC5-9263-BCF582DFC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7BE7F-B622-49F8-A226-C597BBE68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4741A-EDED-4312-863D-AF872A6E1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683CE-7EE7-4C3E-B883-ED852CF4D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B73B5-8682-4FBE-872E-584E54FF0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2ADA2-94C2-479D-9C63-6358FA6FB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70F6F-1871-4529-9D26-10655BEDB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9AFCC-1F48-47EC-A40B-231855E17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F8DF6-E0FC-45D6-8FC2-E9961B79D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77753C-A160-426F-A51B-F5C4B8346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FEE109-0862-473B-B7ED-69E6C61D2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A49F1F-CB21-464D-9ECA-2BF1E9731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A1DE5B-3C48-472B-BCA7-A5C27B158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7CE7FD-13E8-442E-8B3F-93B356EE0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1B9C6-D765-4BDA-9C0F-1CA1030DA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0F0F6F-FB32-40CB-987B-2492423F4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2C7C0A-E310-495E-BDB3-D04338341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50DCFD-24B9-4C23-A7D2-75F8BEA41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095E0A-7D9A-4FEA-8E16-EDF5697A2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A31823-A560-4670-8226-8D2BC64ED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BE9137-FE90-4B96-890C-7C79D7542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3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4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BBF192-1144-4B22-922A-9220A9DA3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24261F-9903-4397-A9AD-C01F7295C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A36AEF-CC2D-4E65-84EC-25DE278D2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6BF794-CB89-4194-9B5F-D50AF86AF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F6102-D0A2-4C00-803A-A749050A4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116EDE-B627-4433-98D5-A689C9EDE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17A15E-2376-46D5-8E58-A36397F0F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8B69E1-14B0-490E-ADC3-764A0D6AF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5C143C-8A52-414F-B689-7F1D2419F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6CB56F-2392-4D12-BFE2-4C67F2BF1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D290D2-436E-4F20-9835-C7B9C479A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E8F97A-BD5F-4551-ADB4-4B1872072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A43561-EA3A-48DD-829C-DBB90224D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8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9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41599A-4B09-405E-8446-8F98E81FA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D2BF78-6CEB-4B2D-AD0D-73A67810F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D62D5-9BC1-481A-9EB9-B92C93FB6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D511F4-7515-45A9-9813-E9F835A21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8332B0-5D3E-4B6D-A5E8-D5CD30DFD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E3B3D6-7015-419E-BD36-AA3A90B8C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35C153-6772-4291-92C7-89B2DA6E9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A1E6D4-B19F-4D40-82D7-F4B78FF2D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1E8BE5-483C-46AB-B9B1-8D670E8FF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06A468-2B94-444A-BAA5-B3376FDE3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A1FEB2-6AE2-4884-A5B4-D138CDE64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E26B5F-B341-43B3-844C-1A22202AB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96ED4C-8E4C-4E02-856B-BF15FD7DB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AFAEA-5FC1-4F58-A1A6-3111C90AA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076F7A-0CAD-4EC1-BEF9-7C4B79C8F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08FEF2-CA79-4B8C-B31C-AC5EFA5F9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31752B-6898-4C9A-9FEC-ED930B550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9FF2D9-5DA1-4E67-956D-E798B0794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8B929F-6241-4522-9EFA-66C3C8ABE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BFBF02-8BDA-40AC-8E3D-ABA9DBF11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0A1A8E-216E-4990-BE40-A46DBF63B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2321B5-E14C-4D00-A101-E0AD4C550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D3F60E-C84C-41BC-92A5-3CEDF4620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9D2836-7195-45B0-8F57-96A5A8DBC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FD6CF-BA3B-43BC-AC2B-748DAA39C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8CEB3B-F8E7-4A93-91FC-7D36CEB96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2D07E4-4C03-408C-9ADE-6BD0CF3ED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81E7EB-6C1C-4274-B2B9-54225286C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535F67-E4DB-4B2D-85D0-DBB46676A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CEB9CB-42B2-4F95-BA2E-E5BA75485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FA60C4-E19E-4ED2-B56B-0F32BBCBB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C0C3CE-BDE4-4A5A-B983-9282A40F2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31BB9D-A7B7-4B98-BE7A-2F105CA0D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1346B2-EA0D-4F86-A112-59640A8C1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A4990C-C004-4C60-BBDD-B57FD092E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CA8E9-A722-4010-BC04-42C568EF3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65D742-0FD4-45E4-90AC-471D5151E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B49C06-78F4-419F-8A35-782331344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44DCAF-07EC-4784-8411-7B962F4E1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5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F231D2-A68F-4E8F-8317-387EF8F55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0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1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2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C22CE9-8EE3-4B19-8915-A10609077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6794D-C381-449F-B287-8A839A0BC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2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4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8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9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0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1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2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3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4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5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6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9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0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1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2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3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4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5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6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7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8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9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0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1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2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3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4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5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6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7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1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3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4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5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6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7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8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9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0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1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2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3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4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5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6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7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8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9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0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1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2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3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4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5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6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7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8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9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0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1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2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3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4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5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6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7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8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9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0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1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2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3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4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5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6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7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8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9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0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7AF29-0578-493A-AC85-2AC2CCFF481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e9d17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e9d17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ceb96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822240" indent="-285840">
              <a:spcBef>
                <a:spcPts val="751"/>
              </a:spcBef>
              <a:buClr>
                <a:srgbClr val="ceb96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104840" indent="-228600">
              <a:spcBef>
                <a:spcPts val="751"/>
              </a:spcBef>
              <a:buClr>
                <a:srgbClr val="ceb9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-209520">
              <a:spcBef>
                <a:spcPts val="751"/>
              </a:spcBef>
              <a:buClr>
                <a:srgbClr val="ceb9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600200" indent="-209520">
              <a:spcBef>
                <a:spcPts val="751"/>
              </a:spcBef>
              <a:buClr>
                <a:srgbClr val="dccea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4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5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6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2BCDD-BD23-41D5-BBC7-DD008C8E92E4}" type="slidenum">
              <a:rPr b="0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234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35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6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7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8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9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0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1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2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3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4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5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6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7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248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49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0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1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2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3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4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5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6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7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8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9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0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1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2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3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4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5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6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7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8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9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0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1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2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3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4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5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6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7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8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9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0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1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2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3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4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5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6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7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8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9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0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1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2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3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4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5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6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7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8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9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0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1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2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3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4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5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6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7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8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9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0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1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2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3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4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5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6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7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8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9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0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1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2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3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4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5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6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7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8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9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0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1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2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3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4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5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6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7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8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9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0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1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2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3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4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5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6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7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8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9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0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1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2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3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4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5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6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7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8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9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0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1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2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3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4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5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6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7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8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9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0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1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2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3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4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5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6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7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8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9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0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1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2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3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 type="dt" idx="7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4FF29-0911-4DB4-A3DB-6B68387FB093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ight Triangle 8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c9c2d1">
                  <a:alpha val="1176"/>
                </a:srgbClr>
              </a:gs>
              <a:gs pos="100000">
                <a:srgbClr val="c9c2d1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6" name="Isosceles Triangle 7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897527"/>
              </a:gs>
              <a:gs pos="100000">
                <a:srgbClr val="f9df8d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7" name="Straight Connector 10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7c6c8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8" name="Straight Connector 9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c0bfc2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e9d17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e9d17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ceb96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822240" indent="-285840">
              <a:spcBef>
                <a:spcPts val="751"/>
              </a:spcBef>
              <a:buClr>
                <a:srgbClr val="ceb96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104840" indent="-228600">
              <a:spcBef>
                <a:spcPts val="751"/>
              </a:spcBef>
              <a:buClr>
                <a:srgbClr val="ceb9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-209520">
              <a:spcBef>
                <a:spcPts val="751"/>
              </a:spcBef>
              <a:buClr>
                <a:srgbClr val="ceb9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600200" indent="-209520">
              <a:spcBef>
                <a:spcPts val="751"/>
              </a:spcBef>
              <a:buClr>
                <a:srgbClr val="dccea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6A47F-8F4C-4BF8-AF5F-255E7D843F73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9454f"/>
            </a:gs>
            <a:gs pos="100000">
              <a:srgbClr val="8c879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e9d17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e9d17f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ceb96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822240" indent="-285840">
              <a:spcBef>
                <a:spcPts val="751"/>
              </a:spcBef>
              <a:buClr>
                <a:srgbClr val="ceb96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104840" indent="-228600">
              <a:spcBef>
                <a:spcPts val="751"/>
              </a:spcBef>
              <a:buClr>
                <a:srgbClr val="ceb9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-209520">
              <a:spcBef>
                <a:spcPts val="751"/>
              </a:spcBef>
              <a:buClr>
                <a:srgbClr val="ceb9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600200" indent="-209520">
              <a:spcBef>
                <a:spcPts val="751"/>
              </a:spcBef>
              <a:buClr>
                <a:srgbClr val="dccea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dt" idx="13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 type="ftr" idx="14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71353-92B1-484B-86F3-B3B2D2BEABB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9454f"/>
            </a:gs>
            <a:gs pos="100000">
              <a:srgbClr val="8c879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e9d17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e9d17f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ceb96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822240" indent="-285840">
              <a:spcBef>
                <a:spcPts val="751"/>
              </a:spcBef>
              <a:buClr>
                <a:srgbClr val="ceb96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104840" indent="-228600">
              <a:spcBef>
                <a:spcPts val="751"/>
              </a:spcBef>
              <a:buClr>
                <a:srgbClr val="ceb9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-209520">
              <a:spcBef>
                <a:spcPts val="751"/>
              </a:spcBef>
              <a:buClr>
                <a:srgbClr val="ceb9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600200" indent="-209520">
              <a:spcBef>
                <a:spcPts val="751"/>
              </a:spcBef>
              <a:buClr>
                <a:srgbClr val="dccea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 type="dt" idx="16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 type="ftr" idx="17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 type="sldNum" idx="18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7A3E1-6FB0-4E04-B08E-BBA366D874E1}" type="slidenum">
              <a:rPr b="0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e9d17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e9d17f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ceb96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822240" indent="-285840">
              <a:spcBef>
                <a:spcPts val="751"/>
              </a:spcBef>
              <a:buClr>
                <a:srgbClr val="ceb96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104840" indent="-228600">
              <a:spcBef>
                <a:spcPts val="751"/>
              </a:spcBef>
              <a:buClr>
                <a:srgbClr val="ceb9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-209520">
              <a:spcBef>
                <a:spcPts val="751"/>
              </a:spcBef>
              <a:buClr>
                <a:srgbClr val="ceb9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600200" indent="-209520">
              <a:spcBef>
                <a:spcPts val="751"/>
              </a:spcBef>
              <a:buClr>
                <a:srgbClr val="dccea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 type="dt" idx="19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 type="ftr" idx="20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 type="sldNum" idx="21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81DF4-AC20-46D3-A4FE-100289F1545E}" type="slidenum">
              <a:rPr b="0" lang="en-US" sz="9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://www.rinkworks.com/brainfood/p/latreal1.shtml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hyperlink" Target="http://www.archive.org/details/lifelettersofcar00colluoft" TargetMode="External"/><Relationship Id="rId5" Type="http://schemas.openxmlformats.org/officeDocument/2006/relationships/hyperlink" Target="http://en.wikipedia.org/wiki/London" TargetMode="External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subTitle"/>
          </p:nvPr>
        </p:nvSpPr>
        <p:spPr>
          <a:xfrm>
            <a:off x="1371600" y="2133360"/>
            <a:ext cx="7020000" cy="21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Logic-Puzzle Solver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cc"/>
                </a:solidFill>
                <a:latin typeface="Tahoma"/>
              </a:rPr>
              <a:t>University of Kentuck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cc"/>
                </a:solidFill>
                <a:latin typeface="Tahoma"/>
              </a:rPr>
              <a:t>Computer Science Departmen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cc"/>
                </a:solidFill>
                <a:latin typeface="Tahoma"/>
              </a:rPr>
              <a:t>Masters Project Fall 2012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cc"/>
                </a:solidFill>
                <a:latin typeface="Tahoma"/>
              </a:rPr>
              <a:t>Darra Rick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"/>
          <p:cNvSpPr txBox="1"/>
          <p:nvPr/>
        </p:nvSpPr>
        <p:spPr>
          <a:xfrm>
            <a:off x="304920" y="2590920"/>
            <a:ext cx="8540640" cy="82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6" name="TextBox 4"/>
          <p:cNvSpPr/>
          <p:nvPr/>
        </p:nvSpPr>
        <p:spPr>
          <a:xfrm>
            <a:off x="304920" y="1066680"/>
            <a:ext cx="7391160" cy="590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ill Sans MT"/>
              </a:rPr>
              <a:t>The scenario and objects to be deduced are stated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ill Sans MT"/>
              </a:rPr>
              <a:t>Three men named John, Ansean and Ronald who each live in a colored house (red, green or blue); all have different occupations (mechanic, gym teacher or painter).  Figure out which man lives in what color house and what his occupation is.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ill Sans MT"/>
              </a:rPr>
              <a:t>A solution associates each element of each category (name, color, occupation) with exactly one element of each other category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ill Sans MT"/>
              </a:rPr>
              <a:t>A set of clues are given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ill Sans MT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Gill Sans MT"/>
              </a:rPr>
              <a:t>Ronald is not the painter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ill Sans MT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Gill Sans MT"/>
              </a:rPr>
              <a:t>Ansean does not live in a blue hous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ill Sans MT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Gill Sans MT"/>
              </a:rPr>
              <a:t>The man that lives in the green house is the painter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ill Sans MT"/>
              </a:rPr>
              <a:t>   </a:t>
            </a:r>
            <a:r>
              <a:rPr b="0" lang="en-US" sz="1400" spc="-1" strike="noStrike">
                <a:solidFill>
                  <a:srgbClr val="ffffff"/>
                </a:solidFill>
                <a:latin typeface="Gill Sans MT"/>
              </a:rPr>
              <a:t>John is the gym teacher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ill Sans MT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Gill Sans MT"/>
              </a:rPr>
              <a:t>The man who is the mechanic does not live in a red hous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The player deduces information from the scenario and clues, and then fills in a grid with true/false indicators until all objects are deduced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The solution is exact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Gill Sans MT"/>
              </a:rPr>
              <a:t>Person </a:t>
            </a: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	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Gill Sans MT"/>
              </a:rPr>
              <a:t>House Color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Gill Sans MT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	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Gill Sans MT"/>
              </a:rPr>
              <a:t>Occupa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Gill Sans MT"/>
              </a:rPr>
              <a:t>Ronald</a:t>
            </a:r>
            <a:r>
              <a:rPr b="0" i="1" lang="en-US" sz="1200" spc="-1" strike="noStrike">
                <a:solidFill>
                  <a:srgbClr val="ffffff"/>
                </a:solidFill>
                <a:latin typeface="Gill Sans MT"/>
              </a:rPr>
              <a:t>	</a:t>
            </a:r>
            <a:r>
              <a:rPr b="0" i="1" lang="en-US" sz="1200" spc="-1" strike="noStrike">
                <a:solidFill>
                  <a:srgbClr val="ffffff"/>
                </a:solidFill>
                <a:latin typeface="Gill Sans MT"/>
              </a:rPr>
              <a:t>	</a:t>
            </a:r>
            <a:r>
              <a:rPr b="0" i="1" lang="en-US" sz="1200" spc="-1" strike="noStrike">
                <a:solidFill>
                  <a:srgbClr val="ffffff"/>
                </a:solidFill>
                <a:latin typeface="Gill Sans MT"/>
              </a:rPr>
              <a:t>Blue</a:t>
            </a:r>
            <a:r>
              <a:rPr b="0" i="1" lang="en-US" sz="1200" spc="-1" strike="noStrike">
                <a:solidFill>
                  <a:srgbClr val="ffffff"/>
                </a:solidFill>
                <a:latin typeface="Gill Sans MT"/>
              </a:rPr>
              <a:t>	</a:t>
            </a:r>
            <a:r>
              <a:rPr b="0" i="1" lang="en-US" sz="1200" spc="-1" strike="noStrike">
                <a:solidFill>
                  <a:srgbClr val="ffffff"/>
                </a:solidFill>
                <a:latin typeface="Gill Sans MT"/>
              </a:rPr>
              <a:t>	</a:t>
            </a:r>
            <a:r>
              <a:rPr b="0" i="1" lang="en-US" sz="1200" spc="-1" strike="noStrike">
                <a:solidFill>
                  <a:srgbClr val="ffffff"/>
                </a:solidFill>
                <a:latin typeface="Gill Sans MT"/>
              </a:rPr>
              <a:t>Mechanic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Gill Sans MT"/>
              </a:rPr>
              <a:t>John</a:t>
            </a:r>
            <a:r>
              <a:rPr b="0" i="1" lang="en-US" sz="1200" spc="-1" strike="noStrike">
                <a:solidFill>
                  <a:srgbClr val="ffffff"/>
                </a:solidFill>
                <a:latin typeface="Gill Sans MT"/>
              </a:rPr>
              <a:t>	</a:t>
            </a:r>
            <a:r>
              <a:rPr b="0" i="1" lang="en-US" sz="1200" spc="-1" strike="noStrike">
                <a:solidFill>
                  <a:srgbClr val="ffffff"/>
                </a:solidFill>
                <a:latin typeface="Gill Sans MT"/>
              </a:rPr>
              <a:t>	</a:t>
            </a:r>
            <a:r>
              <a:rPr b="0" i="1" lang="en-US" sz="1200" spc="-1" strike="noStrike">
                <a:solidFill>
                  <a:srgbClr val="ffffff"/>
                </a:solidFill>
                <a:latin typeface="Gill Sans MT"/>
              </a:rPr>
              <a:t>Red</a:t>
            </a:r>
            <a:r>
              <a:rPr b="0" i="1" lang="en-US" sz="1200" spc="-1" strike="noStrike">
                <a:solidFill>
                  <a:srgbClr val="ffffff"/>
                </a:solidFill>
                <a:latin typeface="Gill Sans MT"/>
              </a:rPr>
              <a:t>	</a:t>
            </a:r>
            <a:r>
              <a:rPr b="0" i="1" lang="en-US" sz="1200" spc="-1" strike="noStrike">
                <a:solidFill>
                  <a:srgbClr val="ffffff"/>
                </a:solidFill>
                <a:latin typeface="Gill Sans MT"/>
              </a:rPr>
              <a:t>	</a:t>
            </a:r>
            <a:r>
              <a:rPr b="0" i="1" lang="en-US" sz="1200" spc="-1" strike="noStrike">
                <a:solidFill>
                  <a:srgbClr val="ffffff"/>
                </a:solidFill>
                <a:latin typeface="Gill Sans MT"/>
              </a:rPr>
              <a:t>Gym Teache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Gill Sans MT"/>
              </a:rPr>
              <a:t>Ansean</a:t>
            </a:r>
            <a:r>
              <a:rPr b="0" i="1" lang="en-US" sz="1200" spc="-1" strike="noStrike">
                <a:solidFill>
                  <a:srgbClr val="ffffff"/>
                </a:solidFill>
                <a:latin typeface="Gill Sans MT"/>
              </a:rPr>
              <a:t>	</a:t>
            </a:r>
            <a:r>
              <a:rPr b="0" i="1" lang="en-US" sz="1200" spc="-1" strike="noStrike">
                <a:solidFill>
                  <a:srgbClr val="ffffff"/>
                </a:solidFill>
                <a:latin typeface="Gill Sans MT"/>
              </a:rPr>
              <a:t>	</a:t>
            </a:r>
            <a:r>
              <a:rPr b="0" i="1" lang="en-US" sz="1200" spc="-1" strike="noStrike">
                <a:solidFill>
                  <a:srgbClr val="ffffff"/>
                </a:solidFill>
                <a:latin typeface="Gill Sans MT"/>
              </a:rPr>
              <a:t>Green</a:t>
            </a:r>
            <a:r>
              <a:rPr b="0" i="1" lang="en-US" sz="1200" spc="-1" strike="noStrike">
                <a:solidFill>
                  <a:srgbClr val="ffffff"/>
                </a:solidFill>
                <a:latin typeface="Gill Sans MT"/>
              </a:rPr>
              <a:t>	</a:t>
            </a:r>
            <a:r>
              <a:rPr b="0" i="1" lang="en-US" sz="1200" spc="-1" strike="noStrike">
                <a:solidFill>
                  <a:srgbClr val="ffffff"/>
                </a:solidFill>
                <a:latin typeface="Gill Sans MT"/>
              </a:rPr>
              <a:t>	</a:t>
            </a:r>
            <a:r>
              <a:rPr b="0" i="1" lang="en-US" sz="1200" spc="-1" strike="noStrike">
                <a:solidFill>
                  <a:srgbClr val="ffffff"/>
                </a:solidFill>
                <a:latin typeface="Gill Sans MT"/>
              </a:rPr>
              <a:t>Painte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Logic grid puzzles can be processed by the logic puzzle solver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27" name="Picture 54" descr=""/>
          <p:cNvPicPr/>
          <p:nvPr/>
        </p:nvPicPr>
        <p:blipFill>
          <a:blip r:embed="rId1"/>
          <a:stretch/>
        </p:blipFill>
        <p:spPr>
          <a:xfrm>
            <a:off x="6553080" y="2666880"/>
            <a:ext cx="2438640" cy="19814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628" name="Text Box 55"/>
          <p:cNvSpPr/>
          <p:nvPr/>
        </p:nvSpPr>
        <p:spPr>
          <a:xfrm>
            <a:off x="609480" y="76320"/>
            <a:ext cx="7467840" cy="9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Logic-Puzzle Examp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ahoma"/>
              </a:rPr>
              <a:t>Logic Grid Puzzl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"/>
          <p:cNvSpPr txBox="1"/>
          <p:nvPr/>
        </p:nvSpPr>
        <p:spPr>
          <a:xfrm>
            <a:off x="914400" y="1447560"/>
            <a:ext cx="800424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ustom Logic Grid Creatio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nteractive Logic Grid Input Interfac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tep Solve Deduction to puzzle solutio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lue Builder Interfac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ave/Open Existing Logic Gri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Java Apple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0" name="Text Box 4"/>
          <p:cNvSpPr/>
          <p:nvPr/>
        </p:nvSpPr>
        <p:spPr>
          <a:xfrm>
            <a:off x="838080" y="228600"/>
            <a:ext cx="7467840" cy="89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Logic Puzzle Solv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Tahoma"/>
              </a:rPr>
              <a:t>Main Features of the Application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31" name="Picture 5" descr=""/>
          <p:cNvPicPr/>
          <p:nvPr/>
        </p:nvPicPr>
        <p:blipFill>
          <a:blip r:embed="rId1"/>
          <a:stretch/>
        </p:blipFill>
        <p:spPr>
          <a:xfrm>
            <a:off x="3429000" y="3352680"/>
            <a:ext cx="5562720" cy="31244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"/>
          <p:cNvSpPr txBox="1"/>
          <p:nvPr/>
        </p:nvSpPr>
        <p:spPr>
          <a:xfrm>
            <a:off x="-360" y="1447920"/>
            <a:ext cx="3809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Logic Grid Key Component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Category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A set of objects that correspond to the same group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Every category contains the same number of objects/option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Grid Block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Corresponds to an option pair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Marked true, false or blank. 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Grid Region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Contains (P</a:t>
            </a:r>
            <a:r>
              <a:rPr b="0" lang="en-US" sz="14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) grid block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Corresponds to an individual pair of categorie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Each pair of categories is associated with exactly one grid region.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3" name="Text Box 5"/>
          <p:cNvSpPr/>
          <p:nvPr/>
        </p:nvSpPr>
        <p:spPr>
          <a:xfrm>
            <a:off x="838080" y="228600"/>
            <a:ext cx="7467840" cy="9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Custom Logic Gri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Structure Analysi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34" name="" descr=""/>
          <p:cNvPicPr/>
          <p:nvPr/>
        </p:nvPicPr>
        <p:blipFill>
          <a:blip r:embed="rId1"/>
          <a:stretch/>
        </p:blipFill>
        <p:spPr>
          <a:xfrm>
            <a:off x="3809880" y="1523880"/>
            <a:ext cx="5181840" cy="4572000"/>
          </a:xfrm>
          <a:prstGeom prst="rect">
            <a:avLst/>
          </a:prstGeom>
          <a:ln w="2232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TextBox 4"/>
          <p:cNvSpPr/>
          <p:nvPr/>
        </p:nvSpPr>
        <p:spPr>
          <a:xfrm>
            <a:off x="152280" y="1523880"/>
            <a:ext cx="3733920" cy="520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Vertical Panel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Category #1 …(# of Categories -1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Horizontal Panel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(#of Categories, (# of Categories -1)…Category 2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Grid Formula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Standard logic grid contains (C -1) rows of grid regions, C being the number of categori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umber of grid regions in each row r is C - 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Example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Category #</a:t>
            </a: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Category Nam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1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Nam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2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Color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3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Occupa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6" name="Text Box 21"/>
          <p:cNvSpPr/>
          <p:nvPr/>
        </p:nvSpPr>
        <p:spPr>
          <a:xfrm>
            <a:off x="838080" y="228600"/>
            <a:ext cx="7467840" cy="9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Custom Logic Grid Cre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Structure Analysi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37" name="" descr=""/>
          <p:cNvPicPr/>
          <p:nvPr/>
        </p:nvPicPr>
        <p:blipFill>
          <a:blip r:embed="rId1"/>
          <a:stretch/>
        </p:blipFill>
        <p:spPr>
          <a:xfrm>
            <a:off x="3809880" y="1523880"/>
            <a:ext cx="5181840" cy="4572000"/>
          </a:xfrm>
          <a:prstGeom prst="rect">
            <a:avLst/>
          </a:prstGeom>
          <a:ln w="2232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"/>
          <p:cNvSpPr txBox="1"/>
          <p:nvPr/>
        </p:nvSpPr>
        <p:spPr>
          <a:xfrm>
            <a:off x="380880" y="1295280"/>
            <a:ext cx="822960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34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Logic Grid (maingrid.java)  is a jagged multidimensional array that consists of these three objects (Java classes)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1" marL="631440" indent="-242640">
              <a:spcBef>
                <a:spcPts val="34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Block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1" marL="631440" indent="-242640">
              <a:spcBef>
                <a:spcPts val="34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Grid Region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1" marL="631440" indent="-242640">
              <a:spcBef>
                <a:spcPts val="34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Category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spcBef>
                <a:spcPts val="349"/>
              </a:spcBef>
              <a:buClr>
                <a:srgbClr val="ceb966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The user enters the number of categories, name of each category, number of options in each category and the name of each option as input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39" name="Picture 3" descr=""/>
          <p:cNvPicPr/>
          <p:nvPr/>
        </p:nvPicPr>
        <p:blipFill>
          <a:blip r:embed="rId1"/>
          <a:stretch/>
        </p:blipFill>
        <p:spPr>
          <a:xfrm>
            <a:off x="380880" y="4572000"/>
            <a:ext cx="2438640" cy="19810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640" name="Picture 2" descr=""/>
          <p:cNvPicPr/>
          <p:nvPr/>
        </p:nvPicPr>
        <p:blipFill>
          <a:blip r:embed="rId2"/>
          <a:stretch/>
        </p:blipFill>
        <p:spPr>
          <a:xfrm>
            <a:off x="3200400" y="4572000"/>
            <a:ext cx="2666880" cy="19796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641" name="Picture 1" descr=""/>
          <p:cNvPicPr/>
          <p:nvPr/>
        </p:nvPicPr>
        <p:blipFill>
          <a:blip r:embed="rId3"/>
          <a:stretch/>
        </p:blipFill>
        <p:spPr>
          <a:xfrm>
            <a:off x="6248520" y="4572000"/>
            <a:ext cx="2514600" cy="19810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642" name="Picture 6" descr=""/>
          <p:cNvPicPr/>
          <p:nvPr/>
        </p:nvPicPr>
        <p:blipFill>
          <a:blip r:embed="rId4"/>
          <a:stretch/>
        </p:blipFill>
        <p:spPr>
          <a:xfrm>
            <a:off x="533520" y="3124080"/>
            <a:ext cx="1371600" cy="1295640"/>
          </a:xfrm>
          <a:prstGeom prst="rect">
            <a:avLst/>
          </a:prstGeom>
          <a:ln w="0">
            <a:noFill/>
          </a:ln>
        </p:spPr>
      </p:pic>
      <p:sp>
        <p:nvSpPr>
          <p:cNvPr id="643" name="TextBox 8"/>
          <p:cNvSpPr/>
          <p:nvPr/>
        </p:nvSpPr>
        <p:spPr>
          <a:xfrm>
            <a:off x="2057400" y="3505320"/>
            <a:ext cx="3429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Example Logic Gri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3 Categories with 3 options in each grid reg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4" name="Text Box 9"/>
          <p:cNvSpPr/>
          <p:nvPr/>
        </p:nvSpPr>
        <p:spPr>
          <a:xfrm>
            <a:off x="838080" y="228600"/>
            <a:ext cx="7467840" cy="9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Custom Logic Grid Cre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ahoma"/>
              </a:rPr>
              <a:t>Implementatio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"/>
          <p:cNvSpPr txBox="1"/>
          <p:nvPr/>
        </p:nvSpPr>
        <p:spPr>
          <a:xfrm>
            <a:off x="301680" y="1599840"/>
            <a:ext cx="8540640" cy="197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80000"/>
              </a:lnSpc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Block (block.java)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609120" indent="-234360">
              <a:lnSpc>
                <a:spcPct val="80000"/>
              </a:lnSpc>
              <a:spcBef>
                <a:spcPts val="45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et to either true/false or nul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609120" indent="-2343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609120" indent="-234360">
              <a:lnSpc>
                <a:spcPct val="80000"/>
              </a:lnSpc>
              <a:spcBef>
                <a:spcPts val="45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ontains an action listener that changes its color to red, green or grey upon a user click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609120" indent="-2343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609120" indent="-234360">
              <a:lnSpc>
                <a:spcPct val="80000"/>
              </a:lnSpc>
              <a:spcBef>
                <a:spcPts val="45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ontains methods that allow it to interface with the entire logic grid object (maingrid.java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46" name="Picture 4" descr=""/>
          <p:cNvPicPr/>
          <p:nvPr/>
        </p:nvPicPr>
        <p:blipFill>
          <a:blip r:embed="rId1"/>
          <a:stretch/>
        </p:blipFill>
        <p:spPr>
          <a:xfrm>
            <a:off x="3124080" y="4952880"/>
            <a:ext cx="457200" cy="53352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647" name="Picture 6" descr=""/>
          <p:cNvPicPr/>
          <p:nvPr/>
        </p:nvPicPr>
        <p:blipFill>
          <a:blip r:embed="rId2"/>
          <a:stretch/>
        </p:blipFill>
        <p:spPr>
          <a:xfrm>
            <a:off x="4114800" y="4952880"/>
            <a:ext cx="438120" cy="53352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648" name="Picture 7" descr=""/>
          <p:cNvPicPr/>
          <p:nvPr/>
        </p:nvPicPr>
        <p:blipFill>
          <a:blip r:embed="rId3"/>
          <a:stretch/>
        </p:blipFill>
        <p:spPr>
          <a:xfrm>
            <a:off x="5105520" y="4952880"/>
            <a:ext cx="520560" cy="5335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649" name="Text Box 8"/>
          <p:cNvSpPr/>
          <p:nvPr/>
        </p:nvSpPr>
        <p:spPr>
          <a:xfrm>
            <a:off x="838080" y="228600"/>
            <a:ext cx="7467840" cy="9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Custom Logic Grid Cre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Implementa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"/>
          <p:cNvSpPr txBox="1"/>
          <p:nvPr/>
        </p:nvSpPr>
        <p:spPr>
          <a:xfrm>
            <a:off x="304920" y="1599840"/>
            <a:ext cx="8540640" cy="167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-246960">
              <a:lnSpc>
                <a:spcPct val="9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Grid Region (gridblock.java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534960" indent="-205560">
              <a:lnSpc>
                <a:spcPct val="90000"/>
              </a:lnSpc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2-dimensional array of grid block objects (block.java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534960" indent="-2055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534960" indent="-205560">
              <a:lnSpc>
                <a:spcPct val="90000"/>
              </a:lnSpc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imensions are determined by the number of options each category contains (specified by user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534960" indent="-2055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534960" indent="-205560">
              <a:lnSpc>
                <a:spcPct val="80000"/>
              </a:lnSpc>
              <a:spcBef>
                <a:spcPts val="45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ontains methods which allow it to interface with the entire logic grid object (maingrid.java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534960" indent="-2055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46960" indent="-246960">
              <a:lnSpc>
                <a:spcPct val="9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46960" indent="-2469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51" name="Picture 4" descr=""/>
          <p:cNvPicPr/>
          <p:nvPr/>
        </p:nvPicPr>
        <p:blipFill>
          <a:blip r:embed="rId1"/>
          <a:stretch/>
        </p:blipFill>
        <p:spPr>
          <a:xfrm>
            <a:off x="2362320" y="5257800"/>
            <a:ext cx="742680" cy="723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52" name="Picture 5" descr=""/>
          <p:cNvPicPr/>
          <p:nvPr/>
        </p:nvPicPr>
        <p:blipFill>
          <a:blip r:embed="rId2"/>
          <a:stretch/>
        </p:blipFill>
        <p:spPr>
          <a:xfrm>
            <a:off x="1676520" y="5486400"/>
            <a:ext cx="476280" cy="485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53" name="Picture 6" descr=""/>
          <p:cNvPicPr/>
          <p:nvPr/>
        </p:nvPicPr>
        <p:blipFill>
          <a:blip r:embed="rId3"/>
          <a:stretch/>
        </p:blipFill>
        <p:spPr>
          <a:xfrm>
            <a:off x="3276720" y="5029200"/>
            <a:ext cx="961920" cy="952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54" name="Picture 7" descr=""/>
          <p:cNvPicPr/>
          <p:nvPr/>
        </p:nvPicPr>
        <p:blipFill>
          <a:blip r:embed="rId4"/>
          <a:stretch/>
        </p:blipFill>
        <p:spPr>
          <a:xfrm>
            <a:off x="5638680" y="4572000"/>
            <a:ext cx="1428840" cy="1447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55" name="Picture 9" descr=""/>
          <p:cNvPicPr/>
          <p:nvPr/>
        </p:nvPicPr>
        <p:blipFill>
          <a:blip r:embed="rId5"/>
          <a:stretch/>
        </p:blipFill>
        <p:spPr>
          <a:xfrm>
            <a:off x="4343400" y="4800600"/>
            <a:ext cx="1200240" cy="1190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56" name="TextBox 13"/>
          <p:cNvSpPr/>
          <p:nvPr/>
        </p:nvSpPr>
        <p:spPr>
          <a:xfrm>
            <a:off x="1600200" y="50292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 MT"/>
              </a:rPr>
              <a:t>2 X 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7" name="TextBox 14"/>
          <p:cNvSpPr/>
          <p:nvPr/>
        </p:nvSpPr>
        <p:spPr>
          <a:xfrm>
            <a:off x="2362320" y="47242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 MT"/>
              </a:rPr>
              <a:t>3 X 3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8" name="TextBox 15"/>
          <p:cNvSpPr/>
          <p:nvPr/>
        </p:nvSpPr>
        <p:spPr>
          <a:xfrm>
            <a:off x="3429000" y="45720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 MT"/>
              </a:rPr>
              <a:t>4 X 4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9" name="TextBox 16"/>
          <p:cNvSpPr/>
          <p:nvPr/>
        </p:nvSpPr>
        <p:spPr>
          <a:xfrm>
            <a:off x="4572000" y="43434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 MT"/>
              </a:rPr>
              <a:t>5 X 5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0" name="TextBox 17"/>
          <p:cNvSpPr/>
          <p:nvPr/>
        </p:nvSpPr>
        <p:spPr>
          <a:xfrm>
            <a:off x="6019920" y="41148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 MT"/>
              </a:rPr>
              <a:t>6 X 6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1" name="Text Box 14"/>
          <p:cNvSpPr/>
          <p:nvPr/>
        </p:nvSpPr>
        <p:spPr>
          <a:xfrm>
            <a:off x="838080" y="228600"/>
            <a:ext cx="7467840" cy="9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Custom Logic Grid Cre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ahoma"/>
              </a:rPr>
              <a:t>Implementatio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2" name="Picture 2" descr=""/>
          <p:cNvPicPr/>
          <p:nvPr/>
        </p:nvPicPr>
        <p:blipFill>
          <a:blip r:embed="rId1"/>
          <a:stretch/>
        </p:blipFill>
        <p:spPr>
          <a:xfrm>
            <a:off x="3581280" y="4114800"/>
            <a:ext cx="2495520" cy="2362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63" name="Picture 3" descr=""/>
          <p:cNvPicPr/>
          <p:nvPr/>
        </p:nvPicPr>
        <p:blipFill>
          <a:blip r:embed="rId2"/>
          <a:stretch/>
        </p:blipFill>
        <p:spPr>
          <a:xfrm>
            <a:off x="6781680" y="4114800"/>
            <a:ext cx="1600200" cy="2362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64" name="TextBox 6"/>
          <p:cNvSpPr/>
          <p:nvPr/>
        </p:nvSpPr>
        <p:spPr>
          <a:xfrm>
            <a:off x="304920" y="1371600"/>
            <a:ext cx="8534160" cy="22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Gill Sans MT"/>
              </a:rPr>
              <a:t>The logic grid input interface is a two-dimensional jagged array of grid region objects (gridblock.java)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ill Sans MT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Gill Sans MT"/>
              </a:rPr>
              <a:t>The number of categories and the number of options entered by user determine the  multidimensional jagged array dimension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ill Sans MT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Gill Sans MT"/>
              </a:rPr>
              <a:t>Contains (C -1) rows of grid regions, where C is the number of categorie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ill Sans MT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Gill Sans MT"/>
              </a:rPr>
              <a:t>The number of grid regions in each row r is C –r, where r is the row number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ill Sans MT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Gill Sans MT"/>
              </a:rPr>
              <a:t>The logic grid object contains methods to reset the entire grid, functionality to undo/redo grid selections and to deduce new information from existing information selected in the logic grid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65" name="Picture 1" descr=""/>
          <p:cNvPicPr/>
          <p:nvPr/>
        </p:nvPicPr>
        <p:blipFill>
          <a:blip r:embed="rId3"/>
          <a:stretch/>
        </p:blipFill>
        <p:spPr>
          <a:xfrm>
            <a:off x="304920" y="4191120"/>
            <a:ext cx="2514600" cy="2279520"/>
          </a:xfrm>
          <a:prstGeom prst="rect">
            <a:avLst/>
          </a:prstGeom>
          <a:ln w="15840">
            <a:solidFill>
              <a:srgbClr val="000000"/>
            </a:solidFill>
            <a:miter/>
          </a:ln>
        </p:spPr>
      </p:pic>
      <p:sp>
        <p:nvSpPr>
          <p:cNvPr id="666" name="Text Box 7"/>
          <p:cNvSpPr/>
          <p:nvPr/>
        </p:nvSpPr>
        <p:spPr>
          <a:xfrm>
            <a:off x="838080" y="228600"/>
            <a:ext cx="7467840" cy="9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Interactive Logic Grid Input Interfa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ahoma"/>
              </a:rPr>
              <a:t>Implementatio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"/>
          <p:cNvSpPr txBox="1"/>
          <p:nvPr/>
        </p:nvSpPr>
        <p:spPr>
          <a:xfrm>
            <a:off x="533520" y="114264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PS propagates equality relations as in the following to solve the logic grid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 = B, B = C =&gt; A = C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A=B means that option A in its category is associated with option B in its category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668" name=""/>
          <p:cNvGraphicFramePr/>
          <p:nvPr/>
        </p:nvGraphicFramePr>
        <p:xfrm>
          <a:off x="5410080" y="4191120"/>
          <a:ext cx="3276720" cy="1447560"/>
        </p:xfrm>
        <a:graphic>
          <a:graphicData uri="http://schemas.openxmlformats.org/drawingml/2006/table">
            <a:tbl>
              <a:tblPr/>
              <a:tblGrid>
                <a:gridCol w="800280"/>
                <a:gridCol w="762120"/>
                <a:gridCol w="936360"/>
                <a:gridCol w="777960"/>
              </a:tblGrid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erson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3c14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lace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3c14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hing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3c14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et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3c145"/>
                    </a:solidFill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Jim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ndo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hing_1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at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Joe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ouse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hing_2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og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ike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railer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hing_3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at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Jimmy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nt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hing_4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use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</a:tr>
            </a:tbl>
          </a:graphicData>
        </a:graphic>
      </p:graphicFrame>
      <p:sp>
        <p:nvSpPr>
          <p:cNvPr id="669" name="TextBox 5"/>
          <p:cNvSpPr/>
          <p:nvPr/>
        </p:nvSpPr>
        <p:spPr>
          <a:xfrm>
            <a:off x="380880" y="2438280"/>
            <a:ext cx="5257800" cy="39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Given Facts: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Jim = Thing_3, Jim != House and Jim !=  Cat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Since: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Jim = Thing_3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It can be deduced through the equality relation that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Jim = Thing_3 =&gt; Thing_3 != House and Thing_3 != Cat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Given Fact: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Thing_3 = Trailer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It can be deduced: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Thing_3 = Trailer =&gt; Trailer = Jim and Trailer !=Cat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0" name="Rectangle 37"/>
          <p:cNvSpPr/>
          <p:nvPr/>
        </p:nvSpPr>
        <p:spPr>
          <a:xfrm>
            <a:off x="762120" y="152280"/>
            <a:ext cx="80010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Deduction to Puzzle Solu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ahoma"/>
              </a:rPr>
              <a:t>Implementation – Equality Relation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"/>
          <p:cNvSpPr txBox="1"/>
          <p:nvPr/>
        </p:nvSpPr>
        <p:spPr>
          <a:xfrm>
            <a:off x="53352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80000"/>
              </a:lnSpc>
              <a:spcBef>
                <a:spcPts val="3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Vertical Propaga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lvl="1" marL="616680" indent="-237240">
              <a:lnSpc>
                <a:spcPct val="80000"/>
              </a:lnSpc>
              <a:spcBef>
                <a:spcPts val="3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LPS examines the logic grid for true block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lvl="1" marL="616680" indent="-23724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lvl="1" marL="616680" indent="-237240">
              <a:lnSpc>
                <a:spcPct val="80000"/>
              </a:lnSpc>
              <a:spcBef>
                <a:spcPts val="3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A true block indicates that an option A from a category 1 is equal to an option B from a category 2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lvl="1" marL="616680" indent="-23724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lvl="1" marL="616680" indent="-237240">
              <a:lnSpc>
                <a:spcPct val="80000"/>
              </a:lnSpc>
              <a:spcBef>
                <a:spcPts val="3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Every (true/false) choice in the option B row propagates vertically to the option A row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lvl="1" marL="616680" indent="-23724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lvl="1" marL="616680" indent="-237240">
              <a:lnSpc>
                <a:spcPct val="80000"/>
              </a:lnSpc>
              <a:spcBef>
                <a:spcPts val="3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LPS sets every blank block in the same row or column as the true block at hand to fals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lvl="1" marL="616680" indent="-237240">
              <a:lnSpc>
                <a:spcPct val="80000"/>
              </a:lnSpc>
              <a:spcBef>
                <a:spcPts val="3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3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In the following examples, the category number is the first character at the beginning of each label, the number and the letter combined represent the option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3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There are three categories:  1, 2, and 3 and three options in each :  Category 1 contains (1A, 1B and 1C), Category 2 contains (2A, 2B and 2C) and Category 3 contains (3A, 3B and 3C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34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1" marL="616680" indent="-237240">
              <a:lnSpc>
                <a:spcPct val="80000"/>
              </a:lnSpc>
              <a:spcBef>
                <a:spcPts val="34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72" name="Picture 1" descr=""/>
          <p:cNvPicPr/>
          <p:nvPr/>
        </p:nvPicPr>
        <p:blipFill>
          <a:blip r:embed="rId1"/>
          <a:stretch/>
        </p:blipFill>
        <p:spPr>
          <a:xfrm>
            <a:off x="1371600" y="3962520"/>
            <a:ext cx="2752560" cy="2200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73" name="Picture 2" descr=""/>
          <p:cNvPicPr/>
          <p:nvPr/>
        </p:nvPicPr>
        <p:blipFill>
          <a:blip r:embed="rId2"/>
          <a:stretch/>
        </p:blipFill>
        <p:spPr>
          <a:xfrm>
            <a:off x="4724280" y="3962520"/>
            <a:ext cx="2781360" cy="2190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74" name="TextBox 6"/>
          <p:cNvSpPr/>
          <p:nvPr/>
        </p:nvSpPr>
        <p:spPr>
          <a:xfrm>
            <a:off x="1143000" y="5791320"/>
            <a:ext cx="74674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5" name="Rectangle 5"/>
          <p:cNvSpPr/>
          <p:nvPr/>
        </p:nvSpPr>
        <p:spPr>
          <a:xfrm>
            <a:off x="838080" y="6243480"/>
            <a:ext cx="6858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Times New Roman"/>
              </a:rPr>
              <a:t>Example 1 of Vertical Propagation in Logic Grid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Times New Roman"/>
              </a:rPr>
              <a:t>2B = 1B , 2B !=3A, 2B != 3C   =&gt;  1B != 3A  1B != 3C, 1B != 2A, 1B != 2C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6" name="Rectangle 8"/>
          <p:cNvSpPr/>
          <p:nvPr/>
        </p:nvSpPr>
        <p:spPr>
          <a:xfrm>
            <a:off x="1295280" y="152280"/>
            <a:ext cx="6705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Deduction to Puzzle Solu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Implementation – Vertical Propaga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ahoma"/>
              </a:rPr>
              <a:t>Agenda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What is the Logic-Puzzle Solver?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(1 Min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Demo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(10 Min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Logic-Puzzle History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(5 Min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Different Types of Logic Puzzles 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(5 Min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Main Features of the Application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Custom Logic Grid Creation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(3 min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Interactive Logic Grid Input Interface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(3 min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Deduction Algorithm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(10 min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Clue Builder Interface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(15 min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What I Learned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(3 min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Future Work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(3 min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Question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"/>
          <p:cNvSpPr txBox="1"/>
          <p:nvPr/>
        </p:nvSpPr>
        <p:spPr>
          <a:xfrm>
            <a:off x="304920" y="1294920"/>
            <a:ext cx="8540640" cy="174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Vertical Propaga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594360" indent="-228600">
              <a:lnSpc>
                <a:spcPct val="80000"/>
              </a:lnSpc>
              <a:spcBef>
                <a:spcPts val="45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PS examines each grid region for false block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594360" indent="-228600">
              <a:lnSpc>
                <a:spcPct val="80000"/>
              </a:lnSpc>
              <a:spcBef>
                <a:spcPts val="45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594360" indent="-228600">
              <a:lnSpc>
                <a:spcPct val="80000"/>
              </a:lnSpc>
              <a:spcBef>
                <a:spcPts val="45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 false block indicates that an option A in its category 1 is NOT equal to an option B in its category 2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594360" indent="-2286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594360" indent="-228600">
              <a:lnSpc>
                <a:spcPct val="80000"/>
              </a:lnSpc>
              <a:spcBef>
                <a:spcPts val="45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ny true choices in the corresponding rows for option B from its category 2 are set to false in the corresponding rows for option A in its category 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74320" indent="-2743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74320" indent="-2743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74320" indent="-2743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78" name="Picture 1" descr=""/>
          <p:cNvPicPr/>
          <p:nvPr/>
        </p:nvPicPr>
        <p:blipFill>
          <a:blip r:embed="rId1"/>
          <a:stretch/>
        </p:blipFill>
        <p:spPr>
          <a:xfrm>
            <a:off x="1600200" y="3733920"/>
            <a:ext cx="2543040" cy="19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79" name="Picture 2" descr=""/>
          <p:cNvPicPr/>
          <p:nvPr/>
        </p:nvPicPr>
        <p:blipFill>
          <a:blip r:embed="rId2"/>
          <a:stretch/>
        </p:blipFill>
        <p:spPr>
          <a:xfrm>
            <a:off x="4419720" y="3733920"/>
            <a:ext cx="2495520" cy="19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80" name="Rectangle 4"/>
          <p:cNvSpPr/>
          <p:nvPr/>
        </p:nvSpPr>
        <p:spPr>
          <a:xfrm>
            <a:off x="457200" y="5942880"/>
            <a:ext cx="8001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Example 2 of Vertical Propaga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2B != 1B, 2B=3B  =&gt; 3B !=1B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1" name="Rectangle 7"/>
          <p:cNvSpPr/>
          <p:nvPr/>
        </p:nvSpPr>
        <p:spPr>
          <a:xfrm>
            <a:off x="1600200" y="228600"/>
            <a:ext cx="6324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Deduction to Puzzle Solu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Implementation – Vertical Propaga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"/>
          <p:cNvSpPr txBox="1"/>
          <p:nvPr/>
        </p:nvSpPr>
        <p:spPr>
          <a:xfrm>
            <a:off x="304920" y="1218960"/>
            <a:ext cx="854064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orizontal Propagatio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lnSpc>
                <a:spcPct val="80000"/>
              </a:lnSpc>
              <a:spcBef>
                <a:spcPts val="45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PS examines each column in each grid region for true block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lnSpc>
                <a:spcPct val="80000"/>
              </a:lnSpc>
              <a:spcBef>
                <a:spcPts val="45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very (true/false) choice in the option B column  propagates horizontally  to the option A colum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lnSpc>
                <a:spcPct val="80000"/>
              </a:lnSpc>
              <a:spcBef>
                <a:spcPts val="45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PS sets every blank block in the same row or column as a true block to false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83" name="Picture 3" descr=""/>
          <p:cNvPicPr/>
          <p:nvPr/>
        </p:nvPicPr>
        <p:blipFill>
          <a:blip r:embed="rId1"/>
          <a:stretch/>
        </p:blipFill>
        <p:spPr>
          <a:xfrm>
            <a:off x="1371600" y="3809880"/>
            <a:ext cx="2619360" cy="2028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84" name="Picture 4" descr=""/>
          <p:cNvPicPr/>
          <p:nvPr/>
        </p:nvPicPr>
        <p:blipFill>
          <a:blip r:embed="rId2"/>
          <a:stretch/>
        </p:blipFill>
        <p:spPr>
          <a:xfrm>
            <a:off x="4518000" y="3809880"/>
            <a:ext cx="2644920" cy="2057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85" name="Rectangle 5"/>
          <p:cNvSpPr/>
          <p:nvPr/>
        </p:nvSpPr>
        <p:spPr>
          <a:xfrm>
            <a:off x="2212200" y="5988960"/>
            <a:ext cx="3670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Example 1 of Horizontal Propaga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2B = 3B, 2B != 1A, 2B != 1C =&gt; 3B != 1A,  3B != 1C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6" name="Rectangle 7"/>
          <p:cNvSpPr/>
          <p:nvPr/>
        </p:nvSpPr>
        <p:spPr>
          <a:xfrm>
            <a:off x="1295280" y="228600"/>
            <a:ext cx="655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Deduction to Puzzle Solu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Implementation – Horizontal Propaga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"/>
          <p:cNvSpPr txBox="1"/>
          <p:nvPr/>
        </p:nvSpPr>
        <p:spPr>
          <a:xfrm>
            <a:off x="457200" y="144792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LPS examines each column in each grid region for false block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ny true choices in the corresponding columns for option B from its category 2 are set to false in the corresponding columns for option A in its category  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88" name="Picture 5" descr=""/>
          <p:cNvPicPr/>
          <p:nvPr/>
        </p:nvPicPr>
        <p:blipFill>
          <a:blip r:embed="rId1"/>
          <a:stretch/>
        </p:blipFill>
        <p:spPr>
          <a:xfrm>
            <a:off x="1752480" y="3581280"/>
            <a:ext cx="2438640" cy="2114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89" name="Picture 6" descr=""/>
          <p:cNvPicPr/>
          <p:nvPr/>
        </p:nvPicPr>
        <p:blipFill>
          <a:blip r:embed="rId2"/>
          <a:stretch/>
        </p:blipFill>
        <p:spPr>
          <a:xfrm>
            <a:off x="4648320" y="3581280"/>
            <a:ext cx="2581200" cy="2114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90" name="Rectangle 4"/>
          <p:cNvSpPr/>
          <p:nvPr/>
        </p:nvSpPr>
        <p:spPr>
          <a:xfrm>
            <a:off x="304920" y="598104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Example 2 of Horizontal Propaga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2B != 3B,  3B = 1B =&gt; 2B !=1B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1" name="Rectangle 7"/>
          <p:cNvSpPr/>
          <p:nvPr/>
        </p:nvSpPr>
        <p:spPr>
          <a:xfrm>
            <a:off x="1371600" y="228600"/>
            <a:ext cx="685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Deduction to Puzzle Solu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Implementation – Horizontal Propaga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"/>
          <p:cNvSpPr txBox="1"/>
          <p:nvPr/>
        </p:nvSpPr>
        <p:spPr>
          <a:xfrm>
            <a:off x="304920" y="1371600"/>
            <a:ext cx="854064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onflict Recognitio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PS notifies the user of grid block conflicts by a red borde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93" name="Picture 3" descr=""/>
          <p:cNvPicPr/>
          <p:nvPr/>
        </p:nvPicPr>
        <p:blipFill>
          <a:blip r:embed="rId1"/>
          <a:stretch/>
        </p:blipFill>
        <p:spPr>
          <a:xfrm>
            <a:off x="2971800" y="2971800"/>
            <a:ext cx="2324160" cy="1905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94" name="TextBox 7"/>
          <p:cNvSpPr/>
          <p:nvPr/>
        </p:nvSpPr>
        <p:spPr>
          <a:xfrm>
            <a:off x="685800" y="236232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Example: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2B = 1B, 2B != 3A  and 2B!=3C =&gt; 1B !=3A,  but the grid says that 1B = 3A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5" name="Rectangle 6"/>
          <p:cNvSpPr/>
          <p:nvPr/>
        </p:nvSpPr>
        <p:spPr>
          <a:xfrm>
            <a:off x="1371600" y="228600"/>
            <a:ext cx="6477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Deduction to Puzzle Solu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Implementation – Conflict Recogni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"/>
          <p:cNvSpPr txBox="1"/>
          <p:nvPr/>
        </p:nvSpPr>
        <p:spPr>
          <a:xfrm>
            <a:off x="304920" y="1905120"/>
            <a:ext cx="533376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Users can compose and automatically apply puzzle clues into the logic grid using the clue builder interface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vailable operations are : IS (=) and IS NOT (!=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Jim IS in the condo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or composite clues, operations  AND/OR are available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Jim IS in the condo AND owns a rat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97" name="Picture 2" descr=""/>
          <p:cNvPicPr/>
          <p:nvPr/>
        </p:nvPicPr>
        <p:blipFill>
          <a:blip r:embed="rId1"/>
          <a:stretch/>
        </p:blipFill>
        <p:spPr>
          <a:xfrm>
            <a:off x="5943600" y="1219320"/>
            <a:ext cx="3029040" cy="52290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698" name="Rectangle 5"/>
          <p:cNvSpPr/>
          <p:nvPr/>
        </p:nvSpPr>
        <p:spPr>
          <a:xfrm>
            <a:off x="1981080" y="152280"/>
            <a:ext cx="4953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Clue-Builder Interfa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Implementa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"/>
          <p:cNvSpPr txBox="1"/>
          <p:nvPr/>
        </p:nvSpPr>
        <p:spPr>
          <a:xfrm>
            <a:off x="457200" y="1599840"/>
            <a:ext cx="8540640" cy="167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-257040">
              <a:lnSpc>
                <a:spcPct val="80000"/>
              </a:lnSpc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lue object class (Clue.java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57040" indent="-2570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57040" indent="-257040">
              <a:lnSpc>
                <a:spcPct val="80000"/>
              </a:lnSpc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 clue is entered by the user through the clue-builder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57040" indent="-2570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57040" indent="-257040">
              <a:lnSpc>
                <a:spcPct val="80000"/>
              </a:lnSpc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onsists of a base category, base option, IS/IS NOT Boolean choice and at least one additional category pai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57040" indent="-2570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57040" indent="-2570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0" name="TextBox 3"/>
          <p:cNvSpPr/>
          <p:nvPr/>
        </p:nvSpPr>
        <p:spPr>
          <a:xfrm>
            <a:off x="152280" y="380988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            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John IS NOT Tall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      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(PERSON, John) IS NOT (CHARACTERISTIC, Tall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1" name="TextBox 4"/>
          <p:cNvSpPr/>
          <p:nvPr/>
        </p:nvSpPr>
        <p:spPr>
          <a:xfrm>
            <a:off x="914400" y="510552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a3c145"/>
                </a:solidFill>
                <a:latin typeface="Gill Sans MT"/>
              </a:rPr>
              <a:t>Base Category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2" name="TextBox 5"/>
          <p:cNvSpPr/>
          <p:nvPr/>
        </p:nvSpPr>
        <p:spPr>
          <a:xfrm>
            <a:off x="3809880" y="510552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a3c145"/>
                </a:solidFill>
                <a:latin typeface="Gill Sans MT"/>
              </a:rPr>
              <a:t>Additional Category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3" name="TextBox 6"/>
          <p:cNvSpPr/>
          <p:nvPr/>
        </p:nvSpPr>
        <p:spPr>
          <a:xfrm>
            <a:off x="2666880" y="4343400"/>
            <a:ext cx="20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a3c145"/>
                </a:solidFill>
                <a:latin typeface="Gill Sans MT"/>
              </a:rPr>
              <a:t>Boolean Operation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4" name="TextBox 7"/>
          <p:cNvSpPr/>
          <p:nvPr/>
        </p:nvSpPr>
        <p:spPr>
          <a:xfrm>
            <a:off x="2209680" y="510552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a3c145"/>
                </a:solidFill>
                <a:latin typeface="Gill Sans MT"/>
              </a:rPr>
              <a:t>Base Option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5" name="TextBox 8"/>
          <p:cNvSpPr/>
          <p:nvPr/>
        </p:nvSpPr>
        <p:spPr>
          <a:xfrm>
            <a:off x="5334120" y="510552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a3c145"/>
                </a:solidFill>
                <a:latin typeface="Gill Sans MT"/>
              </a:rPr>
              <a:t>Additional  Option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6" name="Rectangle 10"/>
          <p:cNvSpPr/>
          <p:nvPr/>
        </p:nvSpPr>
        <p:spPr>
          <a:xfrm>
            <a:off x="2362320" y="228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Clue-Builder Interfa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Implementation – Clue.jav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7" name=""/>
          <p:cNvGraphicFramePr/>
          <p:nvPr/>
        </p:nvGraphicFramePr>
        <p:xfrm>
          <a:off x="762120" y="3276720"/>
          <a:ext cx="4114800" cy="2239920"/>
        </p:xfrm>
        <a:graphic>
          <a:graphicData uri="http://schemas.openxmlformats.org/drawingml/2006/table">
            <a:tbl>
              <a:tblPr/>
              <a:tblGrid>
                <a:gridCol w="960480"/>
                <a:gridCol w="31543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ector Index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3c14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ategory/Option Pai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3c145"/>
                    </a:solidFill>
                  </a:tcPr>
                </a:tc>
              </a:tr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CHARACTERISTIC, Tall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CHARACTERISTIC, Obese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</a:tr>
              <a:tr h="53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STATE, Kentucky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</a:tbl>
          </a:graphicData>
        </a:graphic>
      </p:graphicFrame>
      <p:sp>
        <p:nvSpPr>
          <p:cNvPr id="708" name="TextBox 4"/>
          <p:cNvSpPr/>
          <p:nvPr/>
        </p:nvSpPr>
        <p:spPr>
          <a:xfrm>
            <a:off x="533520" y="2743200"/>
            <a:ext cx="632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John IS NOT Tall OR Obese OR from K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9" name="TextBox 5"/>
          <p:cNvSpPr/>
          <p:nvPr/>
        </p:nvSpPr>
        <p:spPr>
          <a:xfrm>
            <a:off x="5562720" y="2971800"/>
            <a:ext cx="35812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Base Category: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PERSO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Base Option: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Joh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Boolean Operation :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IS NO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dditional Category/Option Pairs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(CHARACTERISTIC, Tall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(CHARACTERISTIC, Obese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(STATE, Kentucky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John IS NOT Tal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John IS NOT Obes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John IS NOT from Kentuck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0" name="Rectangle 23"/>
          <p:cNvSpPr/>
          <p:nvPr/>
        </p:nvSpPr>
        <p:spPr>
          <a:xfrm>
            <a:off x="2362320" y="1522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Clue-Builder Interfa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Implementation – Clue.jav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1" name="Content Placeholder 2"/>
          <p:cNvSpPr/>
          <p:nvPr/>
        </p:nvSpPr>
        <p:spPr>
          <a:xfrm>
            <a:off x="380880" y="2209680"/>
            <a:ext cx="8541000" cy="167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382680">
              <a:lnSpc>
                <a:spcPct val="80000"/>
              </a:lnSpc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447840" indent="-382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447840" indent="-382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2" name="Text Box 25"/>
          <p:cNvSpPr/>
          <p:nvPr/>
        </p:nvSpPr>
        <p:spPr>
          <a:xfrm>
            <a:off x="533520" y="914400"/>
            <a:ext cx="1752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3" name="Content Placeholder 2"/>
          <p:cNvSpPr/>
          <p:nvPr/>
        </p:nvSpPr>
        <p:spPr>
          <a:xfrm>
            <a:off x="380880" y="1219320"/>
            <a:ext cx="854100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382680">
              <a:lnSpc>
                <a:spcPct val="80000"/>
              </a:lnSpc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dditional category pairs are stored in a vector object and processed individuall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"/>
          <p:cNvSpPr txBox="1"/>
          <p:nvPr/>
        </p:nvSpPr>
        <p:spPr>
          <a:xfrm>
            <a:off x="304920" y="1142640"/>
            <a:ext cx="8540640" cy="24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34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Pending Clue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lnSpc>
                <a:spcPct val="80000"/>
              </a:lnSpc>
              <a:spcBef>
                <a:spcPts val="34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Some clues cannot be applied directly to the logic grid because they require supporting information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lnSpc>
                <a:spcPct val="80000"/>
              </a:lnSpc>
              <a:spcBef>
                <a:spcPts val="34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John IS tall OR from KY or drives a Mazda”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lnSpc>
                <a:spcPct val="80000"/>
              </a:lnSpc>
              <a:spcBef>
                <a:spcPts val="34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The IS/OR combination means John is exactly only one of the options listed within the clu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lnSpc>
                <a:spcPct val="80000"/>
              </a:lnSpc>
              <a:spcBef>
                <a:spcPts val="34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LPS updates and narrows down pending clues as more information is deduced from the logic grid ( process of elimination)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lnSpc>
                <a:spcPct val="80000"/>
              </a:lnSpc>
              <a:spcBef>
                <a:spcPts val="34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As LPS deduces more information, category/option pairs are removed from the additional category vector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lnSpc>
                <a:spcPct val="80000"/>
              </a:lnSpc>
              <a:spcBef>
                <a:spcPts val="34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When only one category/option pair remains, the clue is applied to the logic grid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715" name=""/>
          <p:cNvGraphicFramePr/>
          <p:nvPr/>
        </p:nvGraphicFramePr>
        <p:xfrm>
          <a:off x="304920" y="5105520"/>
          <a:ext cx="2895480" cy="1600200"/>
        </p:xfrm>
        <a:graphic>
          <a:graphicData uri="http://schemas.openxmlformats.org/drawingml/2006/table">
            <a:tbl>
              <a:tblPr/>
              <a:tblGrid>
                <a:gridCol w="761760"/>
                <a:gridCol w="2133720"/>
              </a:tblGrid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ector Index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3c14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ategory/Option Pair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3c145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CHARACTERISTIC, Tall)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  </a:t>
                      </a:r>
                      <a:r>
                        <a:rPr b="0" lang="en-US" sz="13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X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STATE, Kentucky)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VEHICLE, Mazda)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16" name=""/>
          <p:cNvGraphicFramePr/>
          <p:nvPr/>
        </p:nvGraphicFramePr>
        <p:xfrm>
          <a:off x="3352680" y="5105520"/>
          <a:ext cx="2667240" cy="1133280"/>
        </p:xfrm>
        <a:graphic>
          <a:graphicData uri="http://schemas.openxmlformats.org/drawingml/2006/table">
            <a:tbl>
              <a:tblPr/>
              <a:tblGrid>
                <a:gridCol w="727200"/>
                <a:gridCol w="194004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ector Inde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3c14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ategory/Option Pai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3c145"/>
                    </a:solidFill>
                  </a:tcPr>
                </a:tc>
              </a:tr>
              <a:tr h="30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   </a:t>
                      </a: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CHARACTERISTIC, Tall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VEHICLE, Mazda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17" name=""/>
          <p:cNvGraphicFramePr/>
          <p:nvPr/>
        </p:nvGraphicFramePr>
        <p:xfrm>
          <a:off x="6172200" y="5105520"/>
          <a:ext cx="2743200" cy="828720"/>
        </p:xfrm>
        <a:graphic>
          <a:graphicData uri="http://schemas.openxmlformats.org/drawingml/2006/table">
            <a:tbl>
              <a:tblPr/>
              <a:tblGrid>
                <a:gridCol w="762120"/>
                <a:gridCol w="198108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ector Inde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3c14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ategory/Option Pai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3c145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VEHICLE, Mazda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</a:tbl>
          </a:graphicData>
        </a:graphic>
      </p:graphicFrame>
      <p:sp>
        <p:nvSpPr>
          <p:cNvPr id="718" name="TextBox 6"/>
          <p:cNvSpPr/>
          <p:nvPr/>
        </p:nvSpPr>
        <p:spPr>
          <a:xfrm>
            <a:off x="152280" y="4572000"/>
            <a:ext cx="358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John DOES NOT live in Kentucky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9" name="TextBox 7"/>
          <p:cNvSpPr/>
          <p:nvPr/>
        </p:nvSpPr>
        <p:spPr>
          <a:xfrm>
            <a:off x="3733920" y="4572000"/>
            <a:ext cx="342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John IS NOT Tall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0" name="Rectangle 48"/>
          <p:cNvSpPr/>
          <p:nvPr/>
        </p:nvSpPr>
        <p:spPr>
          <a:xfrm>
            <a:off x="2286000" y="1522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Clue-Builder Interfa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Implementation – Pending Clu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"/>
          <p:cNvSpPr txBox="1"/>
          <p:nvPr/>
        </p:nvSpPr>
        <p:spPr>
          <a:xfrm>
            <a:off x="380520" y="1219320"/>
            <a:ext cx="8541000" cy="196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Associate clues are clues derived from IS/OR composite clues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When all of the options in a composite IS/OR clue come from the same category, it is derived that the base option IS NOT the remaining unlisted option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Associate clues are not pending and can be applied directly to logic grid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722" name=""/>
          <p:cNvGraphicFramePr/>
          <p:nvPr/>
        </p:nvGraphicFramePr>
        <p:xfrm>
          <a:off x="3581280" y="4114800"/>
          <a:ext cx="2286000" cy="2496960"/>
        </p:xfrm>
        <a:graphic>
          <a:graphicData uri="http://schemas.openxmlformats.org/drawingml/2006/table">
            <a:tbl>
              <a:tblPr/>
              <a:tblGrid>
                <a:gridCol w="2286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ategory:  CHARACTERISTIC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3c145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bes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al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hor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ock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li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</a:tbl>
          </a:graphicData>
        </a:graphic>
      </p:graphicFrame>
      <p:sp>
        <p:nvSpPr>
          <p:cNvPr id="723" name="TextBox 4"/>
          <p:cNvSpPr/>
          <p:nvPr/>
        </p:nvSpPr>
        <p:spPr>
          <a:xfrm>
            <a:off x="1143000" y="3581280"/>
            <a:ext cx="685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John is tall or obese or short  = &gt; John IS NOT Stocky or Sli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4" name="Rectangle 21"/>
          <p:cNvSpPr/>
          <p:nvPr/>
        </p:nvSpPr>
        <p:spPr>
          <a:xfrm>
            <a:off x="2286000" y="1522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Clue-Builder Interfa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Implementation – Associate Clu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"/>
          <p:cNvSpPr txBox="1"/>
          <p:nvPr/>
        </p:nvSpPr>
        <p:spPr>
          <a:xfrm>
            <a:off x="301680" y="838080"/>
            <a:ext cx="8540640" cy="526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User-Interface Principle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Structure:  A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user Interface requires an organized and meaningful user interface design.  The location of the core functionality should be apparent to user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Visibility: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ll necessary user interface components designated for a specific task are evident, visible and distinguishable from any other user interface component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Development project management using Netbeans integrated development environment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Java object-oriented programming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Java Swing library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Java applet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6" name="Rectangle 4"/>
          <p:cNvSpPr/>
          <p:nvPr/>
        </p:nvSpPr>
        <p:spPr>
          <a:xfrm>
            <a:off x="2362320" y="228600"/>
            <a:ext cx="495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Tahoma"/>
              </a:rPr>
              <a:t>What I Learne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"/>
          <p:cNvSpPr txBox="1"/>
          <p:nvPr/>
        </p:nvSpPr>
        <p:spPr>
          <a:xfrm>
            <a:off x="304920" y="1371240"/>
            <a:ext cx="8540640" cy="167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A web application that performs the deductive reasoning necessary to solve most logic grid puzzles and problem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Motivation for creation: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 To provide an online supplemental tool to use for deducing the solution to logic grid problem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97" name="Picture 2" descr=""/>
          <p:cNvPicPr/>
          <p:nvPr/>
        </p:nvPicPr>
        <p:blipFill>
          <a:blip r:embed="rId1"/>
          <a:stretch/>
        </p:blipFill>
        <p:spPr>
          <a:xfrm>
            <a:off x="1143000" y="2971800"/>
            <a:ext cx="7010280" cy="366696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598" name="Text Box 6"/>
          <p:cNvSpPr/>
          <p:nvPr/>
        </p:nvSpPr>
        <p:spPr>
          <a:xfrm>
            <a:off x="609480" y="304920"/>
            <a:ext cx="7467840" cy="9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Logic-Puzzle Solv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What is it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"/>
          <p:cNvSpPr txBox="1"/>
          <p:nvPr/>
        </p:nvSpPr>
        <p:spPr>
          <a:xfrm>
            <a:off x="533160" y="838080"/>
            <a:ext cx="8381880" cy="523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xpand Logic Puzzle Solver to puzzles of larger size.  LPS currently can only handle puzzles with a maximum of 6 categories and 6 options (6x6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rocess numeric quantity categories such as WEIGHT(150 LB,180 LB, 233 LB, 152LB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ATCH clue typ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roy and Gloria are in some order the swimmer and the person who is 23 years old.”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he match clue type would signal LPS to exclude all other person options except Troy and Gloria with the options SPORT(Swimming) and AGE(23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rocess order-position related categories POSITION(1,2,3,4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nsean is heavier than the person who is standing two positions to the left of the person who is heavier than Gloria”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8" name="Rectangle 4"/>
          <p:cNvSpPr/>
          <p:nvPr/>
        </p:nvSpPr>
        <p:spPr>
          <a:xfrm>
            <a:off x="2362320" y="228600"/>
            <a:ext cx="495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Tahoma"/>
              </a:rPr>
              <a:t>Future Work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"/>
          <p:cNvSpPr txBox="1"/>
          <p:nvPr/>
        </p:nvSpPr>
        <p:spPr>
          <a:xfrm>
            <a:off x="304920" y="106632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 Logic Puzzle database, with unsolved puzzles for the user to choose from.  This enhancement will alleviate users from having to use logic puzzles from outside source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0" name="Rectangle 4"/>
          <p:cNvSpPr/>
          <p:nvPr/>
        </p:nvSpPr>
        <p:spPr>
          <a:xfrm>
            <a:off x="2362320" y="228600"/>
            <a:ext cx="495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Tahoma"/>
              </a:rPr>
              <a:t>Future Work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ahoma"/>
              </a:rPr>
              <a:t>References</a:t>
            </a:r>
            <a:endParaRPr b="0" lang="en-US" sz="1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2" name=""/>
          <p:cNvSpPr txBox="1"/>
          <p:nvPr/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.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rain Food. “#2.” </a:t>
            </a:r>
            <a:r>
              <a:rPr b="0" lang="en-US" sz="1800" spc="-1" strike="noStrike" u="sng">
                <a:solidFill>
                  <a:srgbClr val="a3c145"/>
                </a:solidFill>
                <a:uFillTx/>
                <a:latin typeface="Tahoma"/>
                <a:hlinkClick r:id="rId1"/>
              </a:rPr>
              <a:t>www.rinkworks.com/brainfood/p/latreal1.shtm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2.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ischer, Dave. “Logic Puzzles”, Puzzles.about.com/od/glossary/g/logic_puzzles.htm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3.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Wikipedia contributors. "Lewis Carroll." </a:t>
            </a: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Wikipedia, The Free Encyclopedia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. Wikipedia, The Free Encyclopedia, 6 Sep. 2012. Web. 16 Sep. 2012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"/>
          <p:cNvSpPr txBox="1"/>
          <p:nvPr/>
        </p:nvSpPr>
        <p:spPr>
          <a:xfrm>
            <a:off x="457200" y="1294920"/>
            <a:ext cx="8229600" cy="22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374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ahoma"/>
              </a:rPr>
              <a:t>A logic puzzle is a puzzle in which the solution can deduced from a given set of conditions.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>
              <a:spcBef>
                <a:spcPts val="374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>
              <a:spcBef>
                <a:spcPts val="374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ahoma"/>
              </a:rPr>
              <a:t>Logic puzzles were popularized in the book </a:t>
            </a:r>
            <a:r>
              <a:rPr b="0" i="1" lang="en-US" sz="1500" spc="-1" strike="noStrike">
                <a:solidFill>
                  <a:srgbClr val="ffffff"/>
                </a:solidFill>
                <a:latin typeface="Tahoma"/>
              </a:rPr>
              <a:t>The Game of Logic, </a:t>
            </a:r>
            <a:r>
              <a:rPr b="0" lang="en-US" sz="1500" spc="-1" strike="noStrike">
                <a:solidFill>
                  <a:srgbClr val="ffffff"/>
                </a:solidFill>
                <a:latin typeface="Tahoma"/>
              </a:rPr>
              <a:t>published in 1886 by Charles Lutwidge Dodgson, also known as Lewis Carroll.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>
              <a:spcBef>
                <a:spcPts val="374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ahoma"/>
              </a:rPr>
              <a:t>Dodgson also is the author of the well known works, </a:t>
            </a:r>
            <a:r>
              <a:rPr b="0" i="1" lang="en-US" sz="1500" spc="-1" strike="noStrike">
                <a:solidFill>
                  <a:srgbClr val="ffffff"/>
                </a:solidFill>
                <a:latin typeface="Tahoma"/>
              </a:rPr>
              <a:t>Alice and Wonderland</a:t>
            </a:r>
            <a:r>
              <a:rPr b="0" lang="en-US" sz="15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en-US" sz="1500" spc="-1" strike="noStrike">
                <a:solidFill>
                  <a:srgbClr val="ffffff"/>
                </a:solidFill>
                <a:latin typeface="Tahoma"/>
              </a:rPr>
              <a:t>(1865) </a:t>
            </a:r>
            <a:r>
              <a:rPr b="0" lang="en-US" sz="1500" spc="-1" strike="noStrike">
                <a:solidFill>
                  <a:srgbClr val="ffffff"/>
                </a:solidFill>
                <a:latin typeface="Tahoma"/>
              </a:rPr>
              <a:t>and </a:t>
            </a:r>
            <a:r>
              <a:rPr b="0" i="1" lang="en-US" sz="1500" spc="-1" strike="noStrike">
                <a:solidFill>
                  <a:srgbClr val="ffffff"/>
                </a:solidFill>
                <a:latin typeface="Tahoma"/>
              </a:rPr>
              <a:t>Through the Looking Glass (1872).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>
              <a:spcBef>
                <a:spcPts val="374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ahoma"/>
              </a:rPr>
              <a:t>Dodgson was a mathematician whose concentration was primarily on symbolic logic and logical reasoning.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00" name="Picture 6" descr="http://upload.wikimedia.org/wikipedia/commons/thumb/f/fb/LewisCarrollSelfPhoto.jpg/220px-LewisCarrollSelfPhoto.jpg"/>
          <p:cNvPicPr/>
          <p:nvPr/>
        </p:nvPicPr>
        <p:blipFill>
          <a:blip r:embed="rId1"/>
          <a:stretch/>
        </p:blipFill>
        <p:spPr>
          <a:xfrm>
            <a:off x="685800" y="4724280"/>
            <a:ext cx="2011320" cy="20574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601" name="Picture 7" descr="fig1-35.gif"/>
          <p:cNvPicPr/>
          <p:nvPr/>
        </p:nvPicPr>
        <p:blipFill>
          <a:blip r:embed="rId2"/>
          <a:stretch/>
        </p:blipFill>
        <p:spPr>
          <a:xfrm>
            <a:off x="4038480" y="4648320"/>
            <a:ext cx="2011320" cy="20239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602" name="Picture 2" descr="http://www.nudelmanbooks.com/pictures/257.jpg"/>
          <p:cNvPicPr/>
          <p:nvPr/>
        </p:nvPicPr>
        <p:blipFill>
          <a:blip r:embed="rId3"/>
          <a:stretch/>
        </p:blipFill>
        <p:spPr>
          <a:xfrm>
            <a:off x="6324480" y="4648320"/>
            <a:ext cx="1849680" cy="20574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603" name="Text Box 8"/>
          <p:cNvSpPr/>
          <p:nvPr/>
        </p:nvSpPr>
        <p:spPr>
          <a:xfrm>
            <a:off x="609480" y="228600"/>
            <a:ext cx="7467840" cy="9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Logic Puzz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Histor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4" name=""/>
          <p:cNvSpPr/>
          <p:nvPr/>
        </p:nvSpPr>
        <p:spPr>
          <a:xfrm>
            <a:off x="609480" y="4114800"/>
            <a:ext cx="2286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5" name=""/>
          <p:cNvSpPr/>
          <p:nvPr/>
        </p:nvSpPr>
        <p:spPr>
          <a:xfrm>
            <a:off x="4952880" y="4191120"/>
            <a:ext cx="2286000" cy="337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ahoma"/>
              </a:rPr>
              <a:t>The Game of Logic – C.L Dodgeson aka Lewis Carroll (1886)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6" name=""/>
          <p:cNvSpPr/>
          <p:nvPr/>
        </p:nvSpPr>
        <p:spPr>
          <a:xfrm>
            <a:off x="457200" y="4044600"/>
            <a:ext cx="2666880" cy="62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ahoma"/>
              </a:rPr>
              <a:t>Stuart Dodgson (1898) </a:t>
            </a:r>
            <a:r>
              <a:rPr b="0" lang="en-US" sz="800" spc="-1" strike="noStrike" u="sng">
                <a:solidFill>
                  <a:srgbClr val="a3c145"/>
                </a:solidFill>
                <a:uFillTx/>
                <a:latin typeface="Tahoma"/>
                <a:hlinkClick r:id="rId4"/>
              </a:rPr>
              <a:t>The Life and Letters of Lewis Carroll</a:t>
            </a:r>
            <a:r>
              <a:rPr b="1" lang="en-US" sz="8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en-US" sz="800" spc="-1" strike="noStrike" u="sng">
                <a:solidFill>
                  <a:srgbClr val="a3c145"/>
                </a:solidFill>
                <a:uFillTx/>
                <a:latin typeface="Tahoma"/>
                <a:hlinkClick r:id="rId5"/>
              </a:rPr>
              <a:t>London</a:t>
            </a:r>
            <a:r>
              <a:rPr b="1" lang="en-US" sz="800" spc="-1" strike="noStrike">
                <a:solidFill>
                  <a:srgbClr val="ffffff"/>
                </a:solidFill>
                <a:latin typeface="Tahoma"/>
              </a:rPr>
              <a:t>: T. Fisher Unwin, pp. p. 50 Retrieved on 22 December 2010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7" name="Picture 4" descr="http://www.hrc.utexas.edu/exhibitions/web/carroll/images/gameoflogicbig.jpg"/>
          <p:cNvPicPr/>
          <p:nvPr/>
        </p:nvPicPr>
        <p:blipFill>
          <a:blip r:embed="rId1"/>
          <a:stretch/>
        </p:blipFill>
        <p:spPr>
          <a:xfrm>
            <a:off x="457200" y="1371600"/>
            <a:ext cx="8305920" cy="47451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608" name="TextBox 3"/>
          <p:cNvSpPr/>
          <p:nvPr/>
        </p:nvSpPr>
        <p:spPr>
          <a:xfrm>
            <a:off x="914400" y="6248520"/>
            <a:ext cx="777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 MT"/>
              </a:rPr>
              <a:t>The Game of Logic – C.L Dodgson aka Lewis Carroll (1886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9" name="Text Box 5"/>
          <p:cNvSpPr/>
          <p:nvPr/>
        </p:nvSpPr>
        <p:spPr>
          <a:xfrm>
            <a:off x="914400" y="152280"/>
            <a:ext cx="7467480" cy="9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Logic Puzz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Histor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"/>
          <p:cNvSpPr txBox="1"/>
          <p:nvPr/>
        </p:nvSpPr>
        <p:spPr>
          <a:xfrm>
            <a:off x="304920" y="1218960"/>
            <a:ext cx="854064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here are many types of logic puzzle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odoku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KenKe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ateral Thinking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ogic Gri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11" name="Picture 4" descr="kenken_6x6_CNET_1.9.2008.png"/>
          <p:cNvPicPr/>
          <p:nvPr/>
        </p:nvPicPr>
        <p:blipFill>
          <a:blip r:embed="rId1"/>
          <a:stretch/>
        </p:blipFill>
        <p:spPr>
          <a:xfrm>
            <a:off x="609480" y="3581280"/>
            <a:ext cx="3353040" cy="28195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612" name="Picture 5" descr="Soduku-Week-1.jpg"/>
          <p:cNvPicPr/>
          <p:nvPr/>
        </p:nvPicPr>
        <p:blipFill>
          <a:blip r:embed="rId2"/>
          <a:stretch/>
        </p:blipFill>
        <p:spPr>
          <a:xfrm>
            <a:off x="4724280" y="3581280"/>
            <a:ext cx="3733920" cy="28195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613" name="Text Box 6"/>
          <p:cNvSpPr/>
          <p:nvPr/>
        </p:nvSpPr>
        <p:spPr>
          <a:xfrm>
            <a:off x="914400" y="228600"/>
            <a:ext cx="746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Logic-Puzzle Examp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"/>
          <p:cNvSpPr txBox="1"/>
          <p:nvPr/>
        </p:nvSpPr>
        <p:spPr>
          <a:xfrm>
            <a:off x="304920" y="1447920"/>
            <a:ext cx="8540640" cy="167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nvolves a 9x9 grid divided into 3x3 sub-block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nitially some numbers are given in the grid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he object is to fill the grid using digits 1-9 in an arrangement  where no digit repeats in any sub-block, row, or colum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15" name="Picture 5" descr="Soduku.gif"/>
          <p:cNvPicPr/>
          <p:nvPr/>
        </p:nvPicPr>
        <p:blipFill>
          <a:blip r:embed="rId1"/>
          <a:stretch/>
        </p:blipFill>
        <p:spPr>
          <a:xfrm>
            <a:off x="1219320" y="3429000"/>
            <a:ext cx="3047760" cy="30290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616" name="Picture 6" descr="hardest-Soduku.jpg"/>
          <p:cNvPicPr/>
          <p:nvPr/>
        </p:nvPicPr>
        <p:blipFill>
          <a:blip r:embed="rId2"/>
          <a:stretch/>
        </p:blipFill>
        <p:spPr>
          <a:xfrm>
            <a:off x="5410080" y="3429000"/>
            <a:ext cx="2895840" cy="29718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617" name="Text Box 6"/>
          <p:cNvSpPr/>
          <p:nvPr/>
        </p:nvSpPr>
        <p:spPr>
          <a:xfrm>
            <a:off x="609480" y="228600"/>
            <a:ext cx="7467840" cy="9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Logic-Puzzle Examp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Sodoku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"/>
          <p:cNvSpPr txBox="1"/>
          <p:nvPr/>
        </p:nvSpPr>
        <p:spPr>
          <a:xfrm>
            <a:off x="304920" y="1219320"/>
            <a:ext cx="82296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lvl="2" marL="1119960" indent="-22392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-223920">
              <a:lnSpc>
                <a:spcPct val="100000"/>
              </a:lnSpc>
              <a:spcBef>
                <a:spcPts val="451"/>
              </a:spcBef>
              <a:buClr>
                <a:srgbClr val="a3c145"/>
              </a:buClr>
              <a:buSzPct val="80000"/>
              <a:buFont typeface="Gill Sans MT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 MT"/>
              </a:rPr>
              <a:t>Similar to Sodoku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-223920">
              <a:lnSpc>
                <a:spcPct val="100000"/>
              </a:lnSpc>
              <a:spcBef>
                <a:spcPts val="451"/>
              </a:spcBef>
              <a:buClr>
                <a:srgbClr val="a3c145"/>
              </a:buClr>
              <a:buSzPct val="80000"/>
              <a:buFont typeface="Gill Sans MT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 MT"/>
              </a:rPr>
              <a:t>Grid size ranges from 3x3 to 9x9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-223920">
              <a:lnSpc>
                <a:spcPct val="100000"/>
              </a:lnSpc>
              <a:spcBef>
                <a:spcPts val="451"/>
              </a:spcBef>
              <a:buClr>
                <a:srgbClr val="a3c145"/>
              </a:buClr>
              <a:buSzPct val="80000"/>
              <a:buFont typeface="Gill Sans MT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 MT"/>
              </a:rPr>
              <a:t>Solution  contains no number that appears more than once in any row or column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-223920">
              <a:lnSpc>
                <a:spcPct val="100000"/>
              </a:lnSpc>
              <a:spcBef>
                <a:spcPts val="451"/>
              </a:spcBef>
              <a:buClr>
                <a:srgbClr val="a3c145"/>
              </a:buClr>
              <a:buSzPct val="80000"/>
              <a:buFont typeface="Gill Sans MT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 MT"/>
              </a:rPr>
              <a:t>There are no grid blocks; KenKen grids are divided into cages.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-223920">
              <a:lnSpc>
                <a:spcPct val="100000"/>
              </a:lnSpc>
              <a:spcBef>
                <a:spcPts val="451"/>
              </a:spcBef>
              <a:buClr>
                <a:srgbClr val="a3c145"/>
              </a:buClr>
              <a:buSzPct val="80000"/>
              <a:buFont typeface="Gill Sans MT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 MT"/>
              </a:rPr>
              <a:t>Each cage is divided into cell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-223920">
              <a:lnSpc>
                <a:spcPct val="100000"/>
              </a:lnSpc>
              <a:spcBef>
                <a:spcPts val="451"/>
              </a:spcBef>
              <a:buClr>
                <a:srgbClr val="a3c145"/>
              </a:buClr>
              <a:buSzPct val="80000"/>
              <a:buFont typeface="Gill Sans MT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 MT"/>
              </a:rPr>
              <a:t>The digits in the cells of each cage must produce a target number when combined using a specified mathematical operation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-22392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19" name="Picture 3" descr="KenKen_4x4_Starter2.png"/>
          <p:cNvPicPr/>
          <p:nvPr/>
        </p:nvPicPr>
        <p:blipFill>
          <a:blip r:embed="rId1"/>
          <a:stretch/>
        </p:blipFill>
        <p:spPr>
          <a:xfrm>
            <a:off x="1066680" y="4267080"/>
            <a:ext cx="2819520" cy="22860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620" name="Picture 4" descr="kenken_puzzle.png"/>
          <p:cNvPicPr/>
          <p:nvPr/>
        </p:nvPicPr>
        <p:blipFill>
          <a:blip r:embed="rId2"/>
          <a:stretch/>
        </p:blipFill>
        <p:spPr>
          <a:xfrm>
            <a:off x="4800600" y="4267080"/>
            <a:ext cx="3200400" cy="22860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621" name="Text Box 6"/>
          <p:cNvSpPr/>
          <p:nvPr/>
        </p:nvSpPr>
        <p:spPr>
          <a:xfrm>
            <a:off x="609480" y="228600"/>
            <a:ext cx="7467840" cy="9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Logic-Puzzle Examp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KenK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"/>
          <p:cNvSpPr txBox="1"/>
          <p:nvPr/>
        </p:nvSpPr>
        <p:spPr>
          <a:xfrm>
            <a:off x="380880" y="1219320"/>
            <a:ext cx="838224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lvl="2" marL="902880" indent="-180360">
              <a:lnSpc>
                <a:spcPct val="80000"/>
              </a:lnSpc>
              <a:spcBef>
                <a:spcPts val="4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2" marL="902880" indent="-180360">
              <a:lnSpc>
                <a:spcPct val="80000"/>
              </a:lnSpc>
              <a:spcBef>
                <a:spcPts val="4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Gill Sans MT"/>
              </a:rPr>
              <a:t>Riddle type puzzle requiring critical and logical thinking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2" marL="902880" indent="-1803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2" marL="902880" indent="-180360">
              <a:lnSpc>
                <a:spcPct val="80000"/>
              </a:lnSpc>
              <a:spcBef>
                <a:spcPts val="4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Gill Sans MT"/>
              </a:rPr>
              <a:t>Unlike most riddles they are inexact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2" marL="902880" indent="-180360">
              <a:lnSpc>
                <a:spcPct val="80000"/>
              </a:lnSpc>
              <a:spcBef>
                <a:spcPts val="4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2" marL="902880" indent="-180360">
              <a:lnSpc>
                <a:spcPct val="80000"/>
              </a:lnSpc>
              <a:spcBef>
                <a:spcPts val="4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Gill Sans MT"/>
              </a:rPr>
              <a:t>Hybrid between puzzles and story telling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2" marL="902880" indent="-1803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2" marL="902880" indent="-180360">
              <a:lnSpc>
                <a:spcPct val="80000"/>
              </a:lnSpc>
              <a:spcBef>
                <a:spcPts val="4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Gill Sans MT"/>
              </a:rPr>
              <a:t>A scenario with an unlikely outcome is presented to a player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2" marL="902880" indent="-1803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2" marL="902880" indent="-180360">
              <a:lnSpc>
                <a:spcPct val="80000"/>
              </a:lnSpc>
              <a:spcBef>
                <a:spcPts val="4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Gill Sans MT"/>
              </a:rPr>
              <a:t>Solution is found by deriving  a feasible and logical reason for the outcome. 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2" marL="902880" indent="-1803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2" marL="902880" indent="-180360">
              <a:lnSpc>
                <a:spcPct val="80000"/>
              </a:lnSpc>
              <a:spcBef>
                <a:spcPts val="4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Gill Sans MT"/>
              </a:rPr>
              <a:t>The player asks the presenter questions</a:t>
            </a:r>
            <a:r>
              <a:rPr b="1" lang="en-US" sz="14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Gill Sans MT"/>
              </a:rPr>
              <a:t>about the scenario that can only be answered with Yes, No or irrelevant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2" marL="902880" indent="-180360"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600" spc="-1" strike="noStrike">
              <a:solidFill>
                <a:srgbClr val="ffffff"/>
              </a:solidFill>
              <a:latin typeface="Tahoma"/>
            </a:endParaRPr>
          </a:p>
          <a:p>
            <a:pPr marL="270720" indent="-270720">
              <a:lnSpc>
                <a:spcPct val="80000"/>
              </a:lnSpc>
              <a:spcBef>
                <a:spcPts val="15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3" name="Rectangle 4"/>
          <p:cNvSpPr/>
          <p:nvPr/>
        </p:nvSpPr>
        <p:spPr>
          <a:xfrm>
            <a:off x="0" y="4691520"/>
            <a:ext cx="891540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ill Sans MT"/>
                <a:ea typeface="Arial"/>
              </a:rPr>
              <a:t>Scenario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ill Sans MT"/>
                <a:ea typeface="Arial"/>
              </a:rPr>
              <a:t>In the middle of the ocean is a yacht.  Several corpses are floating in the water nearby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ill Sans MT"/>
                <a:ea typeface="Arial"/>
              </a:rPr>
              <a:t>Solution  </a:t>
            </a:r>
            <a:r>
              <a:rPr b="1" i="1" lang="en-US" sz="1400" spc="-1" strike="noStrike">
                <a:solidFill>
                  <a:srgbClr val="ffffff"/>
                </a:solidFill>
                <a:latin typeface="Gill Sans MT"/>
                <a:ea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ill Sans MT"/>
                <a:ea typeface="Arial"/>
              </a:rPr>
              <a:t>A group of people were on an ocean voyage in a yacht.  One day they decided to go swim.  They put on their swim suits and dove off the side of the yacht.  They discovered belatedly that they had forgotten to put a ladder down the side of the yacht and couldn’t climb in so they drowned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4" name="Text Box 7"/>
          <p:cNvSpPr/>
          <p:nvPr/>
        </p:nvSpPr>
        <p:spPr>
          <a:xfrm>
            <a:off x="609480" y="228600"/>
            <a:ext cx="7467840" cy="9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Gill Sans MT"/>
              </a:rPr>
              <a:t>Logic-Puzzle Examp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ffffcc"/>
                </a:solidFill>
                <a:latin typeface="Gill Sans MT"/>
              </a:rPr>
              <a:t>Lateral Thinkin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0T14:04:53Z</dcterms:created>
  <dc:creator>Owner</dc:creator>
  <dc:description/>
  <dc:language>en-US</dc:language>
  <cp:lastModifiedBy>Brian</cp:lastModifiedBy>
  <dcterms:modified xsi:type="dcterms:W3CDTF">2012-11-30T01:06:11Z</dcterms:modified>
  <cp:revision>262</cp:revision>
  <dc:subject/>
  <dc:title>Slide 1</dc:title>
</cp:coreProperties>
</file>