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530-0C0D-402A-A065-C5E915D6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07A-B0A7-43C7-877E-EAF2AB5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3EC-B04C-46D6-A55D-83D877DB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DA0-A7F4-4CB6-B4FD-5EC79B00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268-CF79-4B9B-9120-C6A7370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198-87CD-4E19-9046-72566ED6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49C-A8E9-45EA-BEB9-7CCA281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F74-00F7-4CA6-84CB-AD023D5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1C0-ED97-4934-906E-3774F0C9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497-124A-4F0A-A905-D571A95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796-92FC-4F5F-A62E-738601EF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C7C-9B85-4FB8-955D-F8BA6E4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94E-5EF2-4D8E-9FCF-B9333F99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6094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08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Back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96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5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62200" y="1219320"/>
            <a:ext cx="4003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904760" y="1219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048120"/>
            <a:ext cx="971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219280" y="3048120"/>
            <a:ext cx="34308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571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3048120"/>
            <a:ext cx="2286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3048120"/>
            <a:ext cx="5713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3400" y="3048120"/>
            <a:ext cx="400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048120"/>
            <a:ext cx="34272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3048120"/>
            <a:ext cx="6858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5120" y="52833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RelationName=Prin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205740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cn=Lock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44840" y="6858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4840" y="1600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4440" y="274320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274320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16440" y="2743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M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78760" y="274320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40" y="5029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5520" y="502920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0244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064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06560" y="1981080"/>
            <a:ext cx="3124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63600" y="19810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54320" y="198108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4320" y="198108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640" y="3124080"/>
            <a:ext cx="22096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31240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1320" y="3124080"/>
            <a:ext cx="24386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3124080"/>
            <a:ext cx="4876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97600" y="16876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cn=Relations, 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35240"/>
            <a:ext cx="24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RelationName=us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320040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_from_prog=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_alias_file=/usr/local/etc/sat/lib/user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_alias_file=/usr/local/etc/sat/lib/dist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18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nt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6416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ly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024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80" y="5791320"/>
            <a:ext cx="305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FullHostName=al.cs.uky.ed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, cn=Relation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9560" y="5562720"/>
            <a:ext cx="21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Name=l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hostname=l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=128.163.146.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type=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ver=2.2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3960" y="152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of SAT data in L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1:06:06Z</dcterms:created>
  <dc:creator>hhshah</dc:creator>
  <dc:description/>
  <dc:language>en-US</dc:language>
  <cp:lastModifiedBy>hhshah</cp:lastModifiedBy>
  <dcterms:modified xsi:type="dcterms:W3CDTF">2000-06-28T11:33:37Z</dcterms:modified>
  <cp:revision>4</cp:revision>
  <dc:subject/>
  <dc:title>No Slide Title</dc:title>
</cp:coreProperties>
</file>