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A61-AD4B-4A95-B4BB-315A6C06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153-9FFE-49DD-B6F9-B16FA7DF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29F-CD4A-497B-B279-DA83B608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0DC-9CA2-4041-83D4-7B85722E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4BA-B369-479C-8F86-2CC4249E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391-80E7-4492-8143-9425718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44A-0125-4109-8B33-8224CB5F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0D2-8530-43B5-BA7F-C0BC4397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B03-EFC5-4373-A2A3-FFB2B9B7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D15-BF96-4F2A-9167-1C8A5DCB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234-F1F0-419A-AF14-3264CFB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91C-C8C6-4648-BA43-307D9931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5CC6-599B-46AA-BBB6-78C129CC6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OCH: A web-based educational software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3880"/>
            <a:ext cx="76960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santh Ramachand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d by: Dr. Raphael A. F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2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ponsored by Prentice Hall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hor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author-iface-1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9905760" cy="6324480"/>
          </a:xfrm>
          <a:prstGeom prst="rect">
            <a:avLst/>
          </a:prstGeom>
          <a:ln w="0">
            <a:noFill/>
          </a:ln>
        </p:spPr>
      </p:pic>
      <p:pic>
        <p:nvPicPr>
          <p:cNvPr id="113" name="author-iface-2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03629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author-iface-3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1036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horing tool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uthor-iface-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0287000" cy="7856640"/>
          </a:xfrm>
          <a:prstGeom prst="rect">
            <a:avLst/>
          </a:prstGeom>
          <a:ln w="0">
            <a:noFill/>
          </a:ln>
        </p:spPr>
      </p:pic>
      <p:pic>
        <p:nvPicPr>
          <p:cNvPr id="117" name="author-iface-q1" descr=""/>
          <p:cNvPicPr/>
          <p:nvPr/>
        </p:nvPicPr>
        <p:blipFill>
          <a:blip r:embed="rId2"/>
          <a:stretch/>
        </p:blipFill>
        <p:spPr>
          <a:xfrm>
            <a:off x="2362320" y="762120"/>
            <a:ext cx="570852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author-iface-q2" descr=""/>
          <p:cNvPicPr/>
          <p:nvPr/>
        </p:nvPicPr>
        <p:blipFill>
          <a:blip r:embed="rId3"/>
          <a:stretch/>
        </p:blipFill>
        <p:spPr>
          <a:xfrm>
            <a:off x="2362320" y="762120"/>
            <a:ext cx="5715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POCH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modules" descr=""/>
          <p:cNvPicPr/>
          <p:nvPr/>
        </p:nvPicPr>
        <p:blipFill>
          <a:blip r:embed="rId1"/>
          <a:stretch/>
        </p:blipFill>
        <p:spPr>
          <a:xfrm>
            <a:off x="685800" y="1314360"/>
            <a:ext cx="77724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f-the shelf components I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DB, CHEMAPI: JChem (ChemAxon In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APPLET: MarvinSketch (ChemAxon In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RSE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BB: BlackBoard 5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Lite: Simple Cours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BB: Apache httpd + Weblogic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Lite: Tomcat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DB, COURSEDB: Oracle 9.i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0384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 I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800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a Java-based web applicatio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rvlet specification 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type development approach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yers in EPO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layers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POCH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al: Abstract data and fun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R-dgm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153280" cy="4800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2952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 Object-Relational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r Interface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Interact with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pla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cess user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SP (Java Server Pages)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TML, JavaScri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: EPOCH objects, Sess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Script/HTML compatibility with different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code in JSP scripts for presentation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upport the UI layer by holding the data and functions needed by the user in a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class for each type of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in the class for each user action in a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blemSetS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session in which an author creates/modifies a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blemSetSession.getProblem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return the current problem for the UI layer to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blemSetSession.saveProblem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save the current probl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ession objects are bound to the current HTTP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: EPOCH Objects, Persistenc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sistence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tore and retrieve object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(wi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et, set, add, dele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ype of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blem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 the cl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: EPOCH Objects, JDBC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structures stored/retrieved using CHE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648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,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9625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 to 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sistence layer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ER-dgm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153640" cy="5638680"/>
          </a:xfrm>
          <a:prstGeom prst="rect">
            <a:avLst/>
          </a:prstGeom>
          <a:ln w="0">
            <a:noFill/>
          </a:ln>
        </p:spPr>
      </p:pic>
      <p:pic>
        <p:nvPicPr>
          <p:cNvPr id="141" name="schema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ganic Chemistry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question1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403848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answer" descr=""/>
          <p:cNvPicPr/>
          <p:nvPr/>
        </p:nvPicPr>
        <p:blipFill>
          <a:blip r:embed="rId2"/>
          <a:stretch/>
        </p:blipFill>
        <p:spPr>
          <a:xfrm>
            <a:off x="1143000" y="480060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19810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major product of the following rea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91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emical-Intelligence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evaluate a predicate on a chemic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t exactly structure 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it contain substructure B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it have the functional group Q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it have a positive char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hem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: Find if structu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 the functional group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tructure has the functional group alcohol if the C-O-H chain exists and that C is not doubly bonded to any O or singly bonded to any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4419720"/>
            <a:ext cx="457200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-Group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5029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5943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5334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/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4800600"/>
            <a:ext cx="10670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l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4648320"/>
            <a:ext cx="685800" cy="68580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lo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562720"/>
            <a:ext cx="685800" cy="76176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9528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248520" y="5638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572000"/>
            <a:ext cx="1219320" cy="83808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S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5638680"/>
            <a:ext cx="1295640" cy="83844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L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038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al Group 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methyl-alcohol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107640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formic-acid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480" y="3124080"/>
            <a:ext cx="81536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to: Search for substructures with negative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? By creating a Prolog program (facts + rules) and evaluating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2209680"/>
            <a:ext cx="1447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an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alcoh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213372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ic ac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an alcohol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-Group Analyzer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419720"/>
            <a:ext cx="22860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C1-O1-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C1=O2 or C1-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523880"/>
            <a:ext cx="2286000" cy="198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rvin  11200315292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  2  0  0  0  0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8437    0.4375    0.0000 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0469    0.2240    0.0000 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6302    1.2344    0.0000 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2  1  0  0  0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3  2  0  0  0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  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990720"/>
            <a:ext cx="518148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atoms in MOL f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arbon(c1). hydrogen(h1). hydrogen(h2). oxygen(o1). oxygen(o2) 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bonds in MOL f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ouble(c1,o2). double(o2,c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ingle(c1,h1). single(h1,c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ingle(c1,o1). single(o1,c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ingle(o1,h2). single(h2,o1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first ch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hain1(C1, O1, H1) :- single(C1,O1)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arbon(C1),    oxygen(O1),    single(O1,H1),    hydrogen(H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 second ch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hain2(N, C1, O2) :- double(C1,O2),    carbon(C1),    oxygen(O2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hain2(N, C1, O2) :- double(C1,N),    carbon(C1),    nitrogen(N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main go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tructure :- chain1(C1, O1, H1)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not((chain2(N, C1, O2)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2 \= O1)) , ! 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ormic-acid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33680" cy="666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95280" y="9907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mic ac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0384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sting and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ing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: Bugs, RFE (Request For Enhanc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: UI,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: 1..5 (lowest..high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s applied based on priority and the impact on th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581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ing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I Layer: HTML tag checker, JavaScript debu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CH Objects, Session layer, Persistence lay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ing log, using print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-intelligence layer: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urrent status of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CH 1.0 is now open for bet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ed at UKY (http://epoch.chem.uky.e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350 students and 3 instructors at UKY and UN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ing EPOCH for Fal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lan more class tests in Sprin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awaiting more instructor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CH 2.0 development is under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lan additional facilities in EPOCH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formation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ecdot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lass in UKY, Fal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est 1 – Class average: 77, EPOCH percentage: 43, EPOCH average: 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est 2 – Class average: 66, EPOCH percentage: 61, EPOCH average: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est 3 – Class average: 53, EPOCH percentage: 63, EPOCH average: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aver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rage score (out of 100) of the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CH percent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centage of students in the class who solve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CH problems assigned by the instr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CH averag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score (out of 100) of those stud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ans1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50" name="wans2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1905120" cy="1218960"/>
          </a:xfrm>
          <a:prstGeom prst="rect">
            <a:avLst/>
          </a:prstGeom>
          <a:ln w="0">
            <a:noFill/>
          </a:ln>
        </p:spPr>
      </p:pic>
      <p:pic>
        <p:nvPicPr>
          <p:cNvPr id="51" name="wans3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990720"/>
            <a:ext cx="54104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e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ponse structure contain a Br ato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dbac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r is a leaving group.  It should not be incorporated into the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743200"/>
            <a:ext cx="5562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 the number of C atoms in the response structure not equal to 1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dbac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-C bonds are unlikely to be made or broken in this reaction.  Count your carb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4572000"/>
            <a:ext cx="5486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 the charge of the response structure not equal to 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dbac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expected product is neutr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ypical student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active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veal 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the student a feedback to improve an in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e student to reach at the right answer by him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6576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CH (Electronic Personal Organic Chemistry Home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these ideas to Organic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 are che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POCH basic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ine homework program for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-to-use course aid for instruct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instructors and authors to create or modify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use of existing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-drawing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nformatics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EPOCH as a plug-in to existing course-management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flav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POCH B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BlackBoard 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POCH L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Simple Cours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ject sponsor: Prentice Hall Inc. (http://www.prenhall.co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4120" y="228600"/>
            <a:ext cx="3504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rs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05740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12408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19112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533412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09480"/>
            <a:ext cx="18288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ware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3886200"/>
            <a:ext cx="1600200" cy="76212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819520"/>
            <a:ext cx="1600200" cy="76176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133720"/>
            <a:ext cx="380880" cy="22860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514600"/>
            <a:ext cx="380880" cy="22860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895480"/>
            <a:ext cx="380880" cy="22860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22096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ho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gr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200400"/>
            <a:ext cx="2133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ho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grade b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respo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26708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/modify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685800"/>
            <a:ext cx="23619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course notes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838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66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133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623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200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267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867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4956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334120"/>
            <a:ext cx="2057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ain problem 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up/restor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24382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question p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3581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ter question p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6765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76920" y="312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00800" y="3580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4343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16765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1219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tudent-iface-1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6400800"/>
          </a:xfrm>
          <a:prstGeom prst="rect">
            <a:avLst/>
          </a:prstGeom>
          <a:ln w="0">
            <a:noFill/>
          </a:ln>
        </p:spPr>
      </p:pic>
      <p:pic>
        <p:nvPicPr>
          <p:cNvPr id="99" name="student-iface-2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686800" cy="6537240"/>
          </a:xfrm>
          <a:prstGeom prst="rect">
            <a:avLst/>
          </a:prstGeom>
          <a:ln w="0">
            <a:noFill/>
          </a:ln>
        </p:spPr>
      </p:pic>
      <p:pic>
        <p:nvPicPr>
          <p:cNvPr id="100" name="student-iface-3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686800" cy="6553080"/>
          </a:xfrm>
          <a:prstGeom prst="rect">
            <a:avLst/>
          </a:prstGeom>
          <a:ln w="0">
            <a:noFill/>
          </a:ln>
        </p:spPr>
      </p:pic>
      <p:pic>
        <p:nvPicPr>
          <p:cNvPr id="101" name="student-iface-4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8839080" cy="6559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t Interfac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homework pro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ns-iface-1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0058400" cy="6476760"/>
          </a:xfrm>
          <a:prstGeom prst="rect">
            <a:avLst/>
          </a:prstGeom>
          <a:ln w="0">
            <a:noFill/>
          </a:ln>
        </p:spPr>
      </p:pic>
      <p:pic>
        <p:nvPicPr>
          <p:cNvPr id="104" name="ins-iface-2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0058400" cy="6476760"/>
          </a:xfrm>
          <a:prstGeom prst="rect">
            <a:avLst/>
          </a:prstGeom>
          <a:ln w="0">
            <a:noFill/>
          </a:ln>
        </p:spPr>
      </p:pic>
      <p:pic>
        <p:nvPicPr>
          <p:cNvPr id="105" name="ins-iface-3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10058400" cy="6476760"/>
          </a:xfrm>
          <a:prstGeom prst="rect">
            <a:avLst/>
          </a:prstGeom>
          <a:ln w="0">
            <a:noFill/>
          </a:ln>
        </p:spPr>
      </p:pic>
      <p:pic>
        <p:nvPicPr>
          <p:cNvPr id="106" name="ins-iface-4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10058400" cy="6476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structor Interfa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homework assemb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ructor interfa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grade book and response vie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ins-gbook-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0287000" cy="6781680"/>
          </a:xfrm>
          <a:prstGeom prst="rect">
            <a:avLst/>
          </a:prstGeom>
          <a:ln w="0">
            <a:noFill/>
          </a:ln>
        </p:spPr>
      </p:pic>
      <p:pic>
        <p:nvPicPr>
          <p:cNvPr id="110" name="ins-overview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028700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3:54:01Z</dcterms:created>
  <dc:creator>Prasanth</dc:creator>
  <dc:description/>
  <dc:language>en-US</dc:language>
  <cp:lastModifiedBy>Prasanth</cp:lastModifiedBy>
  <dcterms:modified xsi:type="dcterms:W3CDTF">2003-12-08T20:48:45Z</dcterms:modified>
  <cp:revision>206</cp:revision>
  <dc:subject/>
  <dc:title>EPOCH</dc:title>
</cp:coreProperties>
</file>