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15A-BCCE-4C88-8DAD-957A8945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093-808D-4A43-8BC0-C176CFEF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F96-099E-4BF9-9354-C0684E2D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D08-DE13-4A6A-9601-63007FF9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D1B5-8582-4752-94AD-492A356F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10B5-78D4-4893-B18B-5420CE1B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F302-8ED7-4B0F-8D89-EBF22E11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EE7A-FD70-46B9-9E40-54BF8DBA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8E4C-DD31-4221-A96B-3980549B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061D-B759-4566-B1EC-B9F6AE09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9394-C336-4328-B810-B6812FF4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244-7267-4E46-A4A7-04425CD7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F016-D176-463B-AA19-7128E107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CC37-F775-4037-A60E-D0E878B1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D2AC-E0A2-437A-8D67-32DF95AD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DB5E-DC63-4D43-9315-7EB746F2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C218-A2B4-4595-A069-B9D03588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D38-E33E-44B4-B5F6-CABF5917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A81-3902-4F6F-BFA9-6B9FD99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0B4-9877-49D6-829F-96CE9092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B96-8E6E-4FD9-85F7-5CAE8C73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350-F369-445B-9618-E1583D7B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DAC-7D4C-4EC6-8D40-F0D0478D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1F0-0379-48A0-ABEA-4D8FCED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28195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F5C-6136-4C33-AFFD-814788A78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1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vi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CE67-C8BC-4836-83AF-1EB65EF09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0.xml"/><Relationship Id="rId3" Type="http://schemas.openxmlformats.org/officeDocument/2006/relationships/slide" Target="slide17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bcbcb"/>
                </a:solidFill>
                <a:latin typeface="Times New Roman"/>
              </a:rPr>
              <a:t>Database Explorer </a:t>
            </a:r>
            <a:r>
              <a:rPr b="1" sz="3600" spc="-1" strike="noStrike">
                <a:solidFill>
                  <a:srgbClr val="cbcbcb"/>
                </a:solidFill>
                <a:latin typeface="Symbol"/>
                <a:ea typeface="Symbol"/>
              </a:rPr>
              <a:t></a:t>
            </a:r>
            <a:r>
              <a:rPr b="1" sz="3600" spc="-1" strike="noStrike">
                <a:solidFill>
                  <a:srgbClr val="cbcbcb"/>
                </a:solidFill>
                <a:latin typeface="Times New Roman"/>
              </a:rPr>
              <a:t> a Tool to Simplify Accessing Remote Databases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n Gu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800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isor: Raphael Fink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1219320" y="5943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reate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943600" cy="5181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5335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reate a new 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32C-01C5-4924-B0E8-A8E69478EC3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914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elete a t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drop1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93696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D6A-04AC-49B9-A036-21B25B74E9C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edit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5715000" cy="5035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14400" y="6094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dit table sche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172-8E7D-4879-B487-271D3668707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sql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91320" cy="4826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762120"/>
            <a:ext cx="42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rite your own SQL stat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2BC-45AE-4597-813F-867928B8272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wrong_account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4718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762120"/>
            <a:ext cx="396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 example of an error mess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0DF-A7BD-45B5-AE8E-1940E140F1E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ign of the database explorer applic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plementation of the database explorer applic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sting and testing 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9628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3962520" y="2286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153280" y="2819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3657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3429000" y="4648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CA0-BCBC-4940-A8B4-8AA5680F69F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lational Databases and SQL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DBC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wo- and Three-Tier Client/Server Mode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ava R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FC/Sw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29628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3048120" y="3962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7924680" y="3429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251460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3124080" y="4495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5B3-101F-4E6F-A664-810DD2AE7F9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DBC (1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DBC API (Java Database Connectivity Application Programming Interfac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is the JDBC API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atures of the JDBC AP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Limitation of JDB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Major database vendor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endorse JDB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Oracle, Sybase, IBM, Borland, Informix, Intersoft, Intersolve, Symantic, WebLogi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7848720" y="6019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869-08C7-4F40-BDF3-2DAD4FFBE4E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DBC (2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of the JDBC AP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BMS in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(compared to ODB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the most common form of SQL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92 Entry-Level Stand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DBC drivers are vendor-depen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D00-944E-4774-8D33-D85E631EF4D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DBC (3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Limitations of JDB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JDBC only allows sequential access of data in a ResultSet and does not allow multiple reads of the sam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Results that are not the ResultSet object, such as row counts, must be handled separat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tandard JDBC methods provide no means to determine the number of rows returned by a query or in a ResultS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6960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F26-980A-46B8-B84F-CA7A0B50A1E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4678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The goal of my project is to develop a tool for simplifying access to remote databases that support JDBC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By the use of three-tier client/server model with RMI and JDBC, I overcome some limitations of a two-tier environment and JDBC driver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7260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BF2-18D8-484C-982B-533B5BD6B50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s (1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-Tier Client/Server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is the two-tier client/server model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dvantages of a two-tier database acces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Disadvantages of a two-tier database acces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-Tier Client/Server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is the three-tier client/server model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dvantages of a three-tier database acces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Disadvantages of a three-tier database access syst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5867280" y="2286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6172200" y="3962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848720" y="5943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894-CD9A-44C5-B4C4-07391481AE87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s (2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wo-tier client/server mode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666880"/>
            <a:ext cx="6324840" cy="33530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2819520"/>
            <a:ext cx="2286000" cy="144756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4572000"/>
            <a:ext cx="2057400" cy="1219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971800"/>
            <a:ext cx="1600200" cy="30492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3429000"/>
            <a:ext cx="1600200" cy="30492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886200"/>
            <a:ext cx="160020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724280"/>
            <a:ext cx="160020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5105520"/>
            <a:ext cx="1219320" cy="22860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257800"/>
            <a:ext cx="1219320" cy="22860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410080"/>
            <a:ext cx="1219320" cy="22860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276720"/>
            <a:ext cx="22860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4197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41148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3733920"/>
            <a:ext cx="22860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4952880"/>
            <a:ext cx="2286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4419720"/>
            <a:ext cx="5486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4419720"/>
            <a:ext cx="5562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411480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3733920"/>
            <a:ext cx="22860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276720"/>
            <a:ext cx="22860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952880"/>
            <a:ext cx="228600" cy="15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44197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2971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3429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DBC Dr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38862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 Inte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4495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274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5638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5410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472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 Inte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0A8-C592-47A8-A837-73F1DC7A09D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3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Advantages of a two-tier database-access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 two-tier access system is less complicated to implem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two-tier architecture maintains a persistent connection between the client and the database, thereby eliminating overhead associated with opening and closing connec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 two-tier system is usually faster than a three-tier implementation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92E-6806-420E-9AC8-2C6526E5330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4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Dis</a:t>
            </a:r>
            <a:r>
              <a:rPr b="1" sz="2300" spc="-1" strike="noStrike">
                <a:solidFill>
                  <a:srgbClr val="ffffff"/>
                </a:solidFill>
                <a:latin typeface="Arial"/>
              </a:rPr>
              <a:t>advantages of a two-tier database-access system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Most currently available drivers require that native libraries be loaded on the client machin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Local configuration must be maintained for native code if required by the drive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pplets can only open up connections to the server from which they were downloaded. So there are problems when a two-tier system is used on the internet:  You need to have your database running on the same server as your web serv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731520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C9C-2804-437A-A3D4-C38FA9713D9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5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three-tier client/server mode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66680" y="2286000"/>
            <a:ext cx="6705720" cy="4038480"/>
            <a:chOff x="1066680" y="2286000"/>
            <a:chExt cx="6705720" cy="4038480"/>
          </a:xfrm>
        </p:grpSpPr>
        <p:sp>
          <p:nvSpPr>
            <p:cNvPr id="206" name=""/>
            <p:cNvSpPr/>
            <p:nvPr/>
          </p:nvSpPr>
          <p:spPr>
            <a:xfrm>
              <a:off x="1066680" y="2286000"/>
              <a:ext cx="6705720" cy="4038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28840" y="4413240"/>
              <a:ext cx="4114800" cy="1716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52880" y="2438280"/>
              <a:ext cx="2210040" cy="1717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10080" y="2666880"/>
              <a:ext cx="1301760" cy="258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10080" y="2819520"/>
              <a:ext cx="1301760" cy="258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10080" y="2971800"/>
              <a:ext cx="1301760" cy="25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0080" y="3124080"/>
              <a:ext cx="1301760" cy="25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3657600"/>
              <a:ext cx="1359000" cy="257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920" y="4545000"/>
              <a:ext cx="1893600" cy="939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76400" y="5665680"/>
              <a:ext cx="1436760" cy="268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1920" y="4545000"/>
              <a:ext cx="1438200" cy="268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41920" y="5072040"/>
              <a:ext cx="1438200" cy="47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4875120"/>
              <a:ext cx="18936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17920" y="5138640"/>
              <a:ext cx="18936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60880" y="5467320"/>
              <a:ext cx="261720" cy="201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62680" y="4808520"/>
              <a:ext cx="261720" cy="268200"/>
            </a:xfrm>
            <a:prstGeom prst="upArrow">
              <a:avLst>
                <a:gd name="adj1" fmla="val 50000"/>
                <a:gd name="adj2" fmla="val 2561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3352680"/>
              <a:ext cx="262080" cy="336600"/>
            </a:xfrm>
            <a:prstGeom prst="upArrow">
              <a:avLst>
                <a:gd name="adj1" fmla="val 50000"/>
                <a:gd name="adj2" fmla="val 3210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4267080"/>
              <a:ext cx="261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8320" y="4267080"/>
              <a:ext cx="261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3600" y="3886200"/>
              <a:ext cx="262080" cy="384120"/>
            </a:xfrm>
            <a:prstGeom prst="upArrow">
              <a:avLst>
                <a:gd name="adj1" fmla="val 50000"/>
                <a:gd name="adj2" fmla="val 3664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29280" y="4267080"/>
              <a:ext cx="280800" cy="282600"/>
            </a:xfrm>
            <a:prstGeom prst="upArrow">
              <a:avLst>
                <a:gd name="adj1" fmla="val 50000"/>
                <a:gd name="adj2" fmla="val 2516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68640" y="4267080"/>
              <a:ext cx="284040" cy="282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5880" y="3352680"/>
              <a:ext cx="262080" cy="336600"/>
            </a:xfrm>
            <a:prstGeom prst="downArrow">
              <a:avLst>
                <a:gd name="adj1" fmla="val 50000"/>
                <a:gd name="adj2" fmla="val 3210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3886200"/>
              <a:ext cx="262080" cy="384120"/>
            </a:xfrm>
            <a:prstGeom prst="downArrow">
              <a:avLst>
                <a:gd name="adj1" fmla="val 50000"/>
                <a:gd name="adj2" fmla="val 3664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0000" y="4267080"/>
              <a:ext cx="287280" cy="282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80000" y="4808520"/>
              <a:ext cx="258840" cy="268200"/>
            </a:xfrm>
            <a:prstGeom prst="downArrow">
              <a:avLst>
                <a:gd name="adj1" fmla="val 50000"/>
                <a:gd name="adj2" fmla="val 2590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11600" y="5467320"/>
              <a:ext cx="260280" cy="201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3080" y="4267080"/>
              <a:ext cx="303120" cy="282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103600">
              <a:off x="4422600" y="5724000"/>
              <a:ext cx="733680" cy="196920"/>
            </a:xfrm>
            <a:prstGeom prst="rightArrow">
              <a:avLst>
                <a:gd name="adj1" fmla="val 50000"/>
                <a:gd name="adj2" fmla="val 9314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034600">
              <a:off x="4226040" y="5528880"/>
              <a:ext cx="531720" cy="200160"/>
            </a:xfrm>
            <a:prstGeom prst="leftArrow">
              <a:avLst>
                <a:gd name="adj1" fmla="val 50000"/>
                <a:gd name="adj2" fmla="val 66412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5000" y="312408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6400" y="3657600"/>
              <a:ext cx="130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etwork Interfa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0200" y="2438280"/>
              <a:ext cx="2133720" cy="17100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28800" y="2666880"/>
              <a:ext cx="1674720" cy="27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60480" y="3143160"/>
              <a:ext cx="1700280" cy="808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60480" y="3408480"/>
              <a:ext cx="1674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60480" y="3672000"/>
              <a:ext cx="1674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73400" y="2895480"/>
              <a:ext cx="241200" cy="311400"/>
            </a:xfrm>
            <a:prstGeom prst="upArrow">
              <a:avLst>
                <a:gd name="adj1" fmla="val 50000"/>
                <a:gd name="adj2" fmla="val 3227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22480" y="2895480"/>
              <a:ext cx="277920" cy="252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2666880"/>
              <a:ext cx="106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2080" y="3143160"/>
              <a:ext cx="106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MI Stub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38320" y="3409920"/>
              <a:ext cx="16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mote Reference Lay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12920" y="3672000"/>
              <a:ext cx="12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port Lay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00200" y="2438280"/>
              <a:ext cx="9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29200" y="2438280"/>
              <a:ext cx="11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base Ser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83080" y="5734080"/>
              <a:ext cx="91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xy Ser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03480" y="4611600"/>
              <a:ext cx="1109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port Lay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09800" y="4878360"/>
              <a:ext cx="156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mote Reference Lay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70080" y="5205240"/>
              <a:ext cx="104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MI Skelet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35240" y="566892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JDBC Dri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1880" y="454500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etwork Interfa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41920" y="5072040"/>
              <a:ext cx="14382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base Librari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Call Level Interfac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3962520"/>
              <a:ext cx="304560" cy="311040"/>
            </a:xfrm>
            <a:prstGeom prst="downArrow">
              <a:avLst>
                <a:gd name="adj1" fmla="val 50000"/>
                <a:gd name="adj2" fmla="val 25532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720" y="3962520"/>
              <a:ext cx="304560" cy="311040"/>
            </a:xfrm>
            <a:prstGeom prst="upArrow">
              <a:avLst>
                <a:gd name="adj1" fmla="val 50000"/>
                <a:gd name="adj2" fmla="val 25532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1CD-AFED-4338-8AA2-D991317DF63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6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Advantages of a three-tier database access syst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Clients do not need to have native libraries loaded local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Drivers can be managed central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database server does not have to be directly visible to the Internet. The three-tier model allows us to separate our database server from the web serv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899-96D9-494C-A0EC-1D8EB8379AC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wo-Tier and Three-Tier Client/Server Model (7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advantages of a three-tier database access  syst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client does not maintain a persistent database connec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 separate proxy server is requir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t is necessary to develop and incorporate a robust and efficient network protocol that can pass data back and forth between the proxy server and th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0773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8D1-0345-41FF-A28D-332F64B15E9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 </a:t>
            </a:r>
            <a:br>
              <a:rPr sz="4200"/>
            </a:b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(remote method invocatio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RMI allows an object running in one Java Virtual Machine (VM) to invoke methods on an object running in another Java VM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RMI is a method to build distributed applica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Features of R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Framework of a RMI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Advantages of using RMI to implement a three-tier client/server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7620120" y="5943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381880" y="3505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3505320" y="4114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648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5562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5E8-8716-40FD-B4C7-21E30FE4308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RMI is method for building a distributed object applic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o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server program and client program in RMI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A typical </a:t>
            </a:r>
            <a:r>
              <a:rPr b="1" sz="2000" spc="-1" strike="noStrike">
                <a:solidFill>
                  <a:srgbClr val="ff3300"/>
                </a:solidFill>
                <a:latin typeface="Arial"/>
              </a:rPr>
              <a:t>server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application creates some remote objects, makes references to them accessible, and waits for clients to invoke methods on these remote objec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A typical </a:t>
            </a:r>
            <a:r>
              <a:rPr b="1" sz="2000" spc="-1" strike="noStrike">
                <a:solidFill>
                  <a:srgbClr val="ff3300"/>
                </a:solidFill>
                <a:latin typeface="Arial"/>
              </a:rPr>
              <a:t>client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application gets a remote reference to one or more remote objects in the server and then invokes methods on them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sz="2000" spc="-1" strike="noStrike">
                <a:solidFill>
                  <a:srgbClr val="ff3300"/>
                </a:solidFill>
                <a:latin typeface="Arial"/>
              </a:rPr>
              <a:t>RMI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provides the mechanism by which the server and the client communicate and pass information back and forth.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45820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E77-BE7C-4E25-8AF3-B28510A5291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In a three-tier JDBC application, RMI can be used as a robust and efficient network protocol to pass data back and forth between the proxy server and the client.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The advantages of using RMI to implement a three-tier client/server model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RMI is a part of Java, not a vendor-specific implementation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t has all the advantages of a three-tier architecture described previous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t maintains a persistent connection with the database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9246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5328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DB5-F86A-4866-95FB-51D600597CDD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Overview of the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7260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523880"/>
            <a:ext cx="807732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n my project, I built a Java database application named “</a:t>
            </a:r>
            <a:r>
              <a:rPr b="1" sz="2200" spc="-1" strike="noStrike">
                <a:solidFill>
                  <a:srgbClr val="ff3300"/>
                </a:solidFill>
                <a:latin typeface="Arial"/>
              </a:rPr>
              <a:t>Database Explorer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” to simplify accessing remote databases that support JDBC. Database explorer can interact with any relational database, regardless of vendor and type of driver, as long as the database endorses JDBC. I employ Java RMI as a means to build a three-tier client/server environment. In this three-tier environment, a third server acts as a proxy to handle requests from the client and then pass them off to the database server. Database explorer allows multiple users to access a remote database simultaneously. I developed a GUI with JFC/Swing to help the user to perform most database operation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609-D842-4B18-806D-EB599E0F35B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FC/Swing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JFC (Java Foundation Class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wing versus AWT (Abstract Window Toolki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ome Swing widgets are analogous to the basic AWT widgets but they have greater capabilities than their corresponding AWT widge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widgets in Swing are lightweight components, rather than peer-based components in AWT.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wing also contains some new widgets such as trees, tables and splitter panes that greatly improve the look and functionality of GU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9608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DA7-8ABD-47C9-98D3-78E621719FF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Design of Database Explorer 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of Database Explorer (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ll JDBC drivers are managed centrally on the middle (proxy) server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Multiple users can access a database simultaneously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The client can interact with any database, regardless of the vendor and type of driver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t provides a simple database login procedur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The user can randomly access any single row or column or field of data in a table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9628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6172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inu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86600" y="6324480"/>
            <a:ext cx="45720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F0E-DA56-468A-B6AC-8B8F11221EC0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Design of Database Explorer 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of Database Explorer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t provides dynamic catalog, schema and table information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t automatically converts the user's input into SQL statements and then submits them to the JDBC for execution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t automatically maps the data types between SQL and Java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The client GUI allows database data and tables to be interactively created, fetched, displayed and modified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296280" y="457200"/>
            <a:ext cx="3733920" cy="6309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sp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Instruction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lete sample document icon and replace with working document icons as follow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reate document in W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turn to PowerPo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Insert Menu, select Object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Create from File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ocate File name in “File”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ke sure “Display as Icon” is check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lect i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Slide Show Menu, Select Action Setting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“Object Action” and select “Edi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010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D60-503B-4DA8-94FE-583FDC42BD56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Implementation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Driver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proxy server chooses and loads the correct JDBC drivers at the application run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Uniform Method for All Data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UniversalMath1 BT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 designed and implemented a class </a:t>
            </a:r>
            <a:r>
              <a:rPr b="1" sz="2000" spc="-1" strike="noStrike">
                <a:solidFill>
                  <a:srgbClr val="ff3300"/>
                </a:solidFill>
                <a:latin typeface="Courier New"/>
              </a:rPr>
              <a:t>DataTable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 to handle results of all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UniversalMath1 BT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ll data are placed in an array of vectors and have row and column indices. Each column of data has a certain amount of header information associated with it. In this "two-dimensional array", I can  access any field by referring to its row-column pai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A64-A498-4BE1-A5CC-AEC042505EEF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Implementation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ession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UniversalMath1 BT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o accommodate multiple users, th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UniversalMath1 BT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creates multiple instances of the remote objects.To differentiate which instance is used, I assign a reference ID for each objec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66"/>
              </a:buClr>
              <a:buFont typeface="UniversalMath1 BT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ee the picture on the next p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449-424D-48CA-B58F-0F472CB96C9E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bcbcb"/>
                </a:solidFill>
                <a:latin typeface="Times New Roman"/>
              </a:rPr>
              <a:t>Implementation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1981080"/>
            <a:ext cx="693396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784520" y="2341440"/>
            <a:ext cx="1509120" cy="1773000"/>
            <a:chOff x="1784520" y="2341440"/>
            <a:chExt cx="1509120" cy="1773000"/>
          </a:xfrm>
        </p:grpSpPr>
        <p:sp>
          <p:nvSpPr>
            <p:cNvPr id="298" name=""/>
            <p:cNvSpPr/>
            <p:nvPr/>
          </p:nvSpPr>
          <p:spPr>
            <a:xfrm>
              <a:off x="1784520" y="2341440"/>
              <a:ext cx="150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84520" y="3071160"/>
              <a:ext cx="150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84520" y="3801600"/>
              <a:ext cx="150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587840" y="369720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87840" y="401004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87840" y="432288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87840" y="484488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5157720"/>
            <a:ext cx="15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ssion Object Inst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57640" y="2446200"/>
            <a:ext cx="204804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57640" y="3489480"/>
            <a:ext cx="2048040" cy="22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1840" y="3697200"/>
            <a:ext cx="16192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71840" y="4010040"/>
            <a:ext cx="16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71840" y="4322880"/>
            <a:ext cx="16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87840" y="369720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71840" y="4844880"/>
            <a:ext cx="161928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71840" y="5157720"/>
            <a:ext cx="16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71840" y="36972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71840" y="48448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71840" y="43228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71840" y="4010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87840" y="484488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71840" y="46353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91120" y="46353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3124080"/>
            <a:ext cx="17258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Application (SID =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3886200"/>
            <a:ext cx="17258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Application (SID =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5640" y="2550960"/>
            <a:ext cx="2058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xy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ject Bound to RMI Regist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33640" y="2133720"/>
            <a:ext cx="3024360" cy="3962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48520" y="5791320"/>
            <a:ext cx="11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03840" y="547056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D [  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19840" y="3071880"/>
            <a:ext cx="323640" cy="417600"/>
          </a:xfrm>
          <a:prstGeom prst="downArrow">
            <a:avLst>
              <a:gd name="adj1" fmla="val 50000"/>
              <a:gd name="adj2" fmla="val 322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94000" y="2446200"/>
            <a:ext cx="8636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94000" y="2966760"/>
            <a:ext cx="86364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94000" y="2863800"/>
            <a:ext cx="86364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2286000"/>
            <a:ext cx="17258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Application (SID =1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18C-2BA4-4991-8603-6DCA6DBF98A4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Future improvements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Remove the limitations of the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Test Database Explorer in other RDBMS, such as   Microsoft SQL server, Informix and WebLogic</a:t>
            </a:r>
            <a:r>
              <a:rPr b="0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5410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53F-EED3-4E16-AD6A-36D3940A83BC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Conclusion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n my project, I designed a tool named </a:t>
            </a:r>
            <a:r>
              <a:rPr b="1" sz="2200" spc="-1" strike="noStrike">
                <a:solidFill>
                  <a:srgbClr val="ff3300"/>
                </a:solidFill>
                <a:latin typeface="Arial"/>
              </a:rPr>
              <a:t>Database Explorer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for simplifying access to any remote databases that support JDBC. I successfully built a three-tier client/server architecture with Java RMI and implemented the tool by the use of Java, JDBC and Java JFC/Swing. At this time, it works for relational database systems Oracle and Sybas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#line of code: 6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#month of work: 5 month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F59-44DB-4B9D-88A1-5614A6D343A0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Acknowledgements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I would like to express my sincere gratitude to my advisor Dr. Finkel for all the guidance and support he gave 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I also thanks Dr. Jaromczyk and Dr. Jaynes for being my committee memebers.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3AB-9E5C-42CA-98CB-AC4BC91DB4D6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Relational Databases and SQL (1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ional Databas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al Model  is proposed by E.F. Codd in 197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A relational database consists of a collection of tables, each of which is assigned a unique name. Each table has a number of columns (attributes) and rows (tuples or record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erminologi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 and Entity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onship and Relationship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lational database currently availab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9E8-1D22-45BA-8B1A-2F1165A8621E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990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n wind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login1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86400" cy="224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1FD-610A-47EE-B669-0DC77C463138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Relational Databases and SQL (3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QL (Structured Query Languag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QL is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a specialized language used for the access and management relational databas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QL89 and SQL9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dded in SQL92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levels of SQL92: SQL92 entry level, SQL92 intermediate level and SQL92 full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main parts of SQL language: DDL and DM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DA4-8E20-46FE-8BCA-F33A9E95401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Relational Databases and SQL (4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550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DL (Data Definition Language) 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relation sche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re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ind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relation sche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pecify access rights to relations and view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pecify integrity constraint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CREATE TABLE Student (SSN 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CHAR(10),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Name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VARCHAR(30),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Department    VARCHAR(10),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     PRIMARY KEY   (SSN) 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223-F467-43B2-8A30-A33E178CA540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Relational Databases and SQL (5)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M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Data Manipulation Languag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tuples into th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tuples from th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uples in the database (upda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SSN, Nam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FROM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Stud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WHERE 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Courier New"/>
              </a:rPr>
              <a:t>Program = 'CS'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5638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D22-6E8B-45F7-87C3-25D3E349362C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 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 of RMI applic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Locate remote objec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Communicate with remote objec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Load class bytecodes for objects that are passed aroun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An illustration depicts an RMI distributed application that uses the registry to obtain a reference to a remote object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562720" y="5181480"/>
            <a:ext cx="144756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6960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14D-52DC-4069-A8CA-6127C565F8AF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6212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981080"/>
            <a:ext cx="81536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Features of RM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5000"/>
              </a:lnSpc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Dynamic code loa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5000"/>
              </a:lnSpc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RMI distribute application is made up of interfaces and class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5000"/>
              </a:lnSpc>
              <a:spcBef>
                <a:spcPts val="550"/>
              </a:spcBef>
              <a:buClr>
                <a:srgbClr val="00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RMI passes a remote </a:t>
            </a:r>
            <a:r>
              <a:rPr b="1" i="1" sz="2200" spc="-1" strike="noStrike">
                <a:solidFill>
                  <a:srgbClr val="ffffff"/>
                </a:solidFill>
                <a:latin typeface="Arial"/>
              </a:rPr>
              <a:t>stub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(reference) for a remote object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36C-8221-419B-B1B6-79DFA30E8773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Dynamic Code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RMI is able to download the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bytecodes</a:t>
            </a:r>
            <a:r>
              <a:rPr b="1" i="1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of an object'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class if the class is not defined in the receiver's virtu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machine. RMI passes objects by their true type, so th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behavior of those objects is not changed when they a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sent to another virtual machine. It allows new types to b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ntroduced into a remote virtual machine, thus extend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behavior of an application dynamic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20120" y="5562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222-B405-4FCB-8FCA-3238347C42FB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Times New Roman"/>
              </a:rPr>
              <a:t>Java RMI</a:t>
            </a:r>
            <a:endParaRPr b="0" lang="en-US" sz="4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work of RMI 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nterface definition for the remote servi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Implementation of the remote servic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200" spc="-1" strike="noStrike">
                <a:solidFill>
                  <a:srgbClr val="ffffff"/>
                </a:solidFill>
                <a:latin typeface="Arial"/>
              </a:rPr>
              <a:t>Stub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sz="2200" spc="-1" strike="noStrike">
                <a:solidFill>
                  <a:srgbClr val="ffffff"/>
                </a:solidFill>
                <a:latin typeface="Arial"/>
              </a:rPr>
              <a:t>Skeleton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fil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 server to host the remote servic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A RMI naming service that allows clients to find the remote servic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A client program that needs the remote services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5943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DE2-6A0F-48CF-A8FC-C4EA15778D4D}" type="slidenum">
              <a:t>46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main2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476760" cy="539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89D-B4D8-412F-A16D-F60056BF761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457200" y="457200"/>
            <a:ext cx="8515440" cy="6095880"/>
            <a:chOff x="457200" y="457200"/>
            <a:chExt cx="8515440" cy="6095880"/>
          </a:xfrm>
        </p:grpSpPr>
        <p:pic>
          <p:nvPicPr>
            <p:cNvPr id="104" name="sybase" descr=""/>
            <p:cNvPicPr/>
            <p:nvPr/>
          </p:nvPicPr>
          <p:blipFill>
            <a:blip r:embed="rId1"/>
            <a:stretch/>
          </p:blipFill>
          <p:spPr>
            <a:xfrm>
              <a:off x="1523880" y="1066680"/>
              <a:ext cx="6248520" cy="52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204800">
              <a:off x="762120" y="1295280"/>
              <a:ext cx="838080" cy="228240"/>
            </a:xfrm>
            <a:custGeom>
              <a:avLst/>
              <a:gdLst>
                <a:gd name="textAreaLeft" fmla="*/ 154800 w 838080"/>
                <a:gd name="textAreaRight" fmla="*/ 619920 w 838080"/>
                <a:gd name="textAreaTop" fmla="*/ 30600 h 228240"/>
                <a:gd name="textAreaBottom" fmla="*/ 197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77" hR="21600" stAng="10800000" swAng="-5400000"/>
                  <a:lnTo>
                    <a:pt x="11987" y="21600"/>
                  </a:lnTo>
                  <a:arcTo wR="7977" hR="21600" stAng="5400000" swAng="-1106018"/>
                  <a:lnTo>
                    <a:pt x="18968" y="16035"/>
                  </a:lnTo>
                  <a:lnTo>
                    <a:pt x="17959" y="0"/>
                  </a:lnTo>
                  <a:lnTo>
                    <a:pt x="11686" y="16035"/>
                  </a:lnTo>
                  <a:lnTo>
                    <a:pt x="13322" y="16035"/>
                  </a:lnTo>
                  <a:arcTo wR="7977" hR="21600" stAng="4293982" swAng="777333"/>
                  <a:lnTo>
                    <a:pt x="9982" y="20907"/>
                  </a:lnTo>
                  <a:arcTo wR="7977" hR="21600" stAng="5728685" swAng="5071315"/>
                  <a:close/>
                </a:path>
                <a:path fill="darkenLess" w="21600" h="21600">
                  <a:moveTo>
                    <a:pt x="0" y="0"/>
                  </a:moveTo>
                  <a:arcTo wR="7977" hR="21600" stAng="10800000" swAng="-5400000"/>
                  <a:lnTo>
                    <a:pt x="11987" y="21600"/>
                  </a:lnTo>
                  <a:arcTo wR="7977" hR="21600" stAng="5400000" swAng="328685"/>
                  <a:lnTo>
                    <a:pt x="9982" y="20907"/>
                  </a:lnTo>
                  <a:arcTo wR="7977" hR="21600" stAng="5728685" swAng="5071315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91120" y="761760"/>
              <a:ext cx="152280" cy="121896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225720 h 1218960"/>
                <a:gd name="textAreaBottom" fmla="*/ 87156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99" stAng="-5400000" swAng="-5400000"/>
                  <a:lnTo>
                    <a:pt x="0" y="11441"/>
                  </a:lnTo>
                  <a:arcTo wR="21600" hR="7999" stAng="10800000" swAng="-2779631"/>
                  <a:lnTo>
                    <a:pt x="14400" y="21143"/>
                  </a:lnTo>
                  <a:lnTo>
                    <a:pt x="21600" y="17719"/>
                  </a:lnTo>
                  <a:lnTo>
                    <a:pt x="14400" y="13381"/>
                  </a:lnTo>
                  <a:lnTo>
                    <a:pt x="14400" y="15541"/>
                  </a:lnTo>
                  <a:arcTo wR="21600" hR="7999" stAng="8020369" swAng="2499777"/>
                  <a:lnTo>
                    <a:pt x="506" y="9720"/>
                  </a:lnTo>
                  <a:arcTo wR="21600" hR="7999" stAng="-10520146" swAng="5120146"/>
                  <a:close/>
                </a:path>
                <a:path fill="darkenLess" w="21600" h="21600">
                  <a:moveTo>
                    <a:pt x="21600" y="0"/>
                  </a:moveTo>
                  <a:arcTo wR="21600" hR="7999" stAng="-5400000" swAng="-5400000"/>
                  <a:lnTo>
                    <a:pt x="0" y="7999"/>
                  </a:lnTo>
                  <a:arcTo wR="21600" hR="7999" stAng="10800000" swAng="-279854"/>
                  <a:lnTo>
                    <a:pt x="506" y="9720"/>
                  </a:lnTo>
                  <a:arcTo wR="21600" hR="7999" stAng="-10520146" swAng="5120146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4132200">
              <a:off x="7543440" y="1447200"/>
              <a:ext cx="228240" cy="175284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334800 h 1752840"/>
                <a:gd name="textAreaBottom" fmla="*/ 12427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251" stAng="-5400000" swAng="5400000"/>
                  <a:lnTo>
                    <a:pt x="21600" y="11190"/>
                  </a:lnTo>
                  <a:arcTo wR="21600" hR="8251" stAng="0" swAng="2832739"/>
                  <a:lnTo>
                    <a:pt x="7200" y="21128"/>
                  </a:lnTo>
                  <a:lnTo>
                    <a:pt x="0" y="17971"/>
                  </a:lnTo>
                  <a:lnTo>
                    <a:pt x="7200" y="13869"/>
                  </a:lnTo>
                  <a:lnTo>
                    <a:pt x="7200" y="16029"/>
                  </a:lnTo>
                  <a:arcTo wR="21600" hR="8251" stAng="2832739" swAng="-2595438"/>
                  <a:lnTo>
                    <a:pt x="21255" y="9720"/>
                  </a:lnTo>
                  <a:arcTo wR="21600" hR="8251" stAng="-237301" swAng="-5162699"/>
                  <a:close/>
                </a:path>
                <a:path fill="darkenLess" w="21600" h="21600">
                  <a:moveTo>
                    <a:pt x="0" y="0"/>
                  </a:moveTo>
                  <a:arcTo wR="21600" hR="8251" stAng="-5400000" swAng="5400000"/>
                  <a:lnTo>
                    <a:pt x="21600" y="11190"/>
                  </a:lnTo>
                  <a:arcTo wR="21600" hR="8251" stAng="0" swAng="-237301"/>
                  <a:lnTo>
                    <a:pt x="21255" y="9720"/>
                  </a:lnTo>
                  <a:arcTo wR="21600" hR="8251" stAng="-237301" swAng="-5162699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2666880"/>
              <a:ext cx="990720" cy="151920"/>
            </a:xfrm>
            <a:custGeom>
              <a:avLst/>
              <a:gdLst>
                <a:gd name="textAreaLeft" fmla="*/ 189000 w 990720"/>
                <a:gd name="textAreaRight" fmla="*/ 702720 w 990720"/>
                <a:gd name="textAreaTop" fmla="*/ 20160 h 151920"/>
                <a:gd name="textAreaBottom" fmla="*/ 13176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46" hR="21600" stAng="10800000" swAng="-5400000"/>
                  <a:lnTo>
                    <a:pt x="11195" y="21600"/>
                  </a:lnTo>
                  <a:arcTo wR="8246" hR="21600" stAng="5400000" swAng="-2831700"/>
                  <a:lnTo>
                    <a:pt x="21128" y="7200"/>
                  </a:lnTo>
                  <a:lnTo>
                    <a:pt x="17966" y="0"/>
                  </a:lnTo>
                  <a:lnTo>
                    <a:pt x="13859" y="7200"/>
                  </a:lnTo>
                  <a:lnTo>
                    <a:pt x="16019" y="7200"/>
                  </a:lnTo>
                  <a:arcTo wR="8246" hR="21600" stAng="2568300" swAng="2593563"/>
                  <a:lnTo>
                    <a:pt x="9720" y="21252"/>
                  </a:lnTo>
                  <a:arcTo wR="8246" hR="21600" stAng="5638137" swAng="5161863"/>
                  <a:close/>
                </a:path>
                <a:path fill="darkenLess" w="21600" h="21600">
                  <a:moveTo>
                    <a:pt x="0" y="0"/>
                  </a:moveTo>
                  <a:arcTo wR="8246" hR="21600" stAng="10800000" swAng="-5400000"/>
                  <a:lnTo>
                    <a:pt x="11195" y="21600"/>
                  </a:lnTo>
                  <a:arcTo wR="8246" hR="21600" stAng="5400000" swAng="238137"/>
                  <a:lnTo>
                    <a:pt x="9720" y="21252"/>
                  </a:lnTo>
                  <a:arcTo wR="8246" hR="21600" stAng="5638137" swAng="5161863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4400" y="3657240"/>
              <a:ext cx="990720" cy="152280"/>
            </a:xfrm>
            <a:custGeom>
              <a:avLst/>
              <a:gdLst>
                <a:gd name="textAreaLeft" fmla="*/ 189000 w 990720"/>
                <a:gd name="textAreaRight" fmla="*/ 702720 w 99072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46" hR="21600" stAng="10800000" swAng="-5400000"/>
                  <a:lnTo>
                    <a:pt x="11195" y="21600"/>
                  </a:lnTo>
                  <a:arcTo wR="8246" hR="21600" stAng="5400000" swAng="-2831700"/>
                  <a:lnTo>
                    <a:pt x="21128" y="7200"/>
                  </a:lnTo>
                  <a:lnTo>
                    <a:pt x="17966" y="0"/>
                  </a:lnTo>
                  <a:lnTo>
                    <a:pt x="13859" y="7200"/>
                  </a:lnTo>
                  <a:lnTo>
                    <a:pt x="16019" y="7200"/>
                  </a:lnTo>
                  <a:arcTo wR="8246" hR="21600" stAng="2568300" swAng="2593563"/>
                  <a:lnTo>
                    <a:pt x="9720" y="21252"/>
                  </a:lnTo>
                  <a:arcTo wR="8246" hR="21600" stAng="5638137" swAng="5161863"/>
                  <a:close/>
                </a:path>
                <a:path fill="darkenLess" w="21600" h="21600">
                  <a:moveTo>
                    <a:pt x="0" y="0"/>
                  </a:moveTo>
                  <a:arcTo wR="8246" hR="21600" stAng="10800000" swAng="-5400000"/>
                  <a:lnTo>
                    <a:pt x="11195" y="21600"/>
                  </a:lnTo>
                  <a:arcTo wR="8246" hR="21600" stAng="5400000" swAng="238137"/>
                  <a:lnTo>
                    <a:pt x="9720" y="21252"/>
                  </a:lnTo>
                  <a:arcTo wR="8246" hR="21600" stAng="5638137" swAng="5161863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171800">
              <a:off x="990720" y="4571640"/>
              <a:ext cx="1066680" cy="15228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238160" y="4114440"/>
              <a:ext cx="1219320" cy="152280"/>
            </a:xfrm>
            <a:custGeom>
              <a:avLst/>
              <a:gdLst>
                <a:gd name="textAreaLeft" fmla="*/ 212760 w 1219320"/>
                <a:gd name="textAreaRight" fmla="*/ 883800 w 121932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768000">
              <a:off x="2999520" y="5153040"/>
              <a:ext cx="401400" cy="1676160"/>
            </a:xfrm>
            <a:custGeom>
              <a:avLst/>
              <a:gdLst>
                <a:gd name="textAreaLeft" fmla="*/ 53640 w 401400"/>
                <a:gd name="textAreaRight" fmla="*/ 347760 w 401400"/>
                <a:gd name="textAreaTop" fmla="*/ 336240 h 1676160"/>
                <a:gd name="textAreaBottom" fmla="*/ 117216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669" stAng="-5400000" swAng="5400000"/>
                  <a:lnTo>
                    <a:pt x="21600" y="10771"/>
                  </a:lnTo>
                  <a:arcTo wR="21600" hR="8669" stAng="0" swAng="1194690"/>
                  <a:lnTo>
                    <a:pt x="16035" y="18739"/>
                  </a:lnTo>
                  <a:lnTo>
                    <a:pt x="0" y="18389"/>
                  </a:lnTo>
                  <a:lnTo>
                    <a:pt x="16035" y="12317"/>
                  </a:lnTo>
                  <a:lnTo>
                    <a:pt x="16035" y="14477"/>
                  </a:lnTo>
                  <a:arcTo wR="21600" hR="8669" stAng="1194690" swAng="-1026310"/>
                  <a:lnTo>
                    <a:pt x="21441" y="9720"/>
                  </a:lnTo>
                  <a:arcTo wR="21600" hR="8669" stAng="-168380" swAng="-5231620"/>
                  <a:close/>
                </a:path>
                <a:path fill="darkenLess" w="21600" h="21600">
                  <a:moveTo>
                    <a:pt x="0" y="0"/>
                  </a:moveTo>
                  <a:arcTo wR="21600" hR="8669" stAng="-5400000" swAng="5400000"/>
                  <a:lnTo>
                    <a:pt x="21600" y="10771"/>
                  </a:lnTo>
                  <a:arcTo wR="21600" hR="8669" stAng="0" swAng="-168380"/>
                  <a:lnTo>
                    <a:pt x="21441" y="9720"/>
                  </a:lnTo>
                  <a:arcTo wR="21600" hR="8669" stAng="-168380" swAng="-5231620"/>
                  <a:close/>
                </a:path>
              </a:pathLst>
            </a:cu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685800" y="838080"/>
              <a:ext cx="54288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enu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343400" y="457200"/>
              <a:ext cx="8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oolbar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57200" y="2361960"/>
              <a:ext cx="83808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atalog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533520" y="3352680"/>
              <a:ext cx="86652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chema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85800" y="4114440"/>
              <a:ext cx="6094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ble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3581280" y="5181480"/>
              <a:ext cx="70488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atus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7848720" y="3733560"/>
              <a:ext cx="112392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ata table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8153280" y="1599840"/>
              <a:ext cx="4096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b</a:t>
              </a:r>
              <a:endParaRPr b="1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A1D-F53B-42C3-B99B-E9372F00942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earch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172200" cy="507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53352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arch the databa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5D6-3B8D-4D03-8DB0-A8B158FF11E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nsert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94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6858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sert a new en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30E-975D-438C-814A-1EF2893C099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914400"/>
            <a:ext cx="350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pdate a existing entr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update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15000" cy="47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B8B-F89A-46BE-81EB-8D19D595761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1:57:32Z</dcterms:created>
  <dc:creator>NT Local User</dc:creator>
  <dc:description/>
  <dc:language>en-US</dc:language>
  <cp:lastModifiedBy>NT Local User</cp:lastModifiedBy>
  <cp:lastPrinted>1996-10-03T09:00:14Z</cp:lastPrinted>
  <dcterms:modified xsi:type="dcterms:W3CDTF">2000-06-15T21:09:06Z</dcterms:modified>
  <cp:revision>55</cp:revision>
  <dc:subject/>
  <dc:title>Database Explorer ¾ a Tool to Simplify Accessing Remote Databases </dc:title>
</cp:coreProperties>
</file>