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7C28-7EDB-41B9-B8CC-72109D035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s through applications assigning them to wor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Uses free cpu cy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stimate cpu load on worker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o use serialize method of the binary for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that the line refers to different instances of the same appl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schgorin circle to compute [a,b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mblies are the fundamental units of deployment in the .NET framework. An assembly contains code that the .NET run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 executes.It is a collection of types and resources that form a logical unit of function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SP page is an HTML page that contains server-side scripts that the Web server processes before sending them to the user's browser. ASP.NET is a part of the Microsoft.NET Framework and has better language support, new controls, XML-based components, better user authentication and is faster than ASP because it uses compiled co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serArr, rest is evid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iency &gt; 100% probably because the server machine is also a worker in the 2 machine case and so the time taken for communication is 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bService is an application that exposes a Web-accessible API, this means that we can invoke this application programat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the web. WebServices are described in an xml language called WSDL. Other web applications communicate with webservices us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AP, simple object access protocol, which is xml payload on a http request or respo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846F-59C0-4144-92D7-FA91459B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0B1-8CE0-47E1-A14F-8C8900D8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200C-F8CA-4E19-9999-A84F304F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0228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6660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3832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0228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6660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408D-47AB-41E2-A166-772AEDC2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0D90-63AE-4217-9642-4948C9C8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71E3-E086-4CA2-9842-6740E0B2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6DA4-220C-4E0B-957B-72B21ADA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3848-6C5E-4E21-B44B-C2CDBA2B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7E7B-61A9-4918-8209-1C7085FA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8F45-BF4F-40A2-B725-6A25AA2A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1D42-F701-4524-8326-A98AB18D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17AD-B04C-4A63-BBCD-C86E77E8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E5A1-5DC3-4161-9065-4C706F0F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429E-7374-4440-A3DE-B9CD80C6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D48D-7180-4991-BBB1-32A00754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2429-DE28-4D0D-B0D7-CA6743D86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0228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6660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03832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20228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6660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2A9C-C03F-4581-9809-5BE0461C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09E6-92B2-4297-B113-1AAE304E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15E6-BEB3-4D34-ADDA-1D423045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5872-B5A5-4354-A2CC-540C9AB2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194B-DB15-4E38-83F6-856C14AA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C203-FB12-4409-88F7-48461172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CAD7-B92D-4331-8EFC-CB1AA401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4B0E-9DBD-4AF1-81F5-036CC851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A7C2-C6FF-4CAD-9B11-D046D535024C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26C9-50A4-4F78-94EB-9E0FAEBDBFF6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p/CSAHClient/work/unfinished/eigen.dll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Cycle-server at hom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a WebService for distributing comput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Ramya Sethurama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Arial"/>
              </a:rPr>
              <a:t>Advisor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Dr. Raphael A. Fink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How would a worker use CSAH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4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 worker machine needs to have the .NET framework installed on i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 worker needs to add the server to the list of trusted sites in Internet Explor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 worker needs to give full trust to trusted sites in the Microsoft.NET configuration wizar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Components of Cycle-server at hom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ustomers and Applicat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77724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IAppInterfa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List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enerateProblem(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orkerLoadIndicator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pastProblems)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setProblem(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problem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currprobno)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startUp()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acceptResult(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Child)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showResult()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pplicationDLL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 applicationDLL contains the code for an application clas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 instance of the application class represents a chunk of work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fter a worker computes results on the application instance, it serializes the application instance to a byte array and sends it to the server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server deserializes the byte array to an object of the application class and updates its master copy of the application objec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10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Lifecycle of an application</a:t>
            </a: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523880"/>
            <a:ext cx="1067040" cy="38340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Worker</a:t>
            </a:r>
            <a:endParaRPr b="0" lang="en-US" sz="1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38680" y="1523880"/>
            <a:ext cx="1219320" cy="38340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b5249"/>
                </a:solidFill>
                <a:latin typeface="Arial"/>
              </a:rPr>
              <a:t>Server</a:t>
            </a:r>
            <a:endParaRPr b="0" lang="en-US" sz="1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1752480"/>
            <a:ext cx="4267440" cy="0"/>
          </a:xfrm>
          <a:prstGeom prst="line">
            <a:avLst/>
          </a:prstGeom>
          <a:ln w="12600">
            <a:solidFill>
              <a:srgbClr val="cec8b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3716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Worker asks for work from the server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885840" y="3352680"/>
            <a:ext cx="2133720" cy="0"/>
          </a:xfrm>
          <a:prstGeom prst="line">
            <a:avLst/>
          </a:prstGeom>
          <a:ln w="12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297180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nerateWork(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2004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erver sends problems to work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4114800"/>
            <a:ext cx="3505320" cy="0"/>
          </a:xfrm>
          <a:prstGeom prst="line">
            <a:avLst/>
          </a:prstGeom>
          <a:ln w="12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37339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Problem(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4495680"/>
            <a:ext cx="3505320" cy="0"/>
          </a:xfrm>
          <a:prstGeom prst="line">
            <a:avLst/>
          </a:prstGeom>
          <a:ln w="12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114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Up(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80880" y="3657600"/>
            <a:ext cx="5639040" cy="0"/>
          </a:xfrm>
          <a:prstGeom prst="line">
            <a:avLst/>
          </a:prstGeom>
          <a:ln w="12600">
            <a:solidFill>
              <a:srgbClr val="cec8b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4952880"/>
            <a:ext cx="5639040" cy="0"/>
          </a:xfrm>
          <a:prstGeom prst="line">
            <a:avLst/>
          </a:prstGeom>
          <a:ln w="12600">
            <a:solidFill>
              <a:srgbClr val="cec8b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45720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Worker returns results to serv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962160" y="5334120"/>
            <a:ext cx="2057400" cy="0"/>
          </a:xfrm>
          <a:prstGeom prst="line">
            <a:avLst/>
          </a:prstGeom>
          <a:ln w="12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49528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ptResult(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1523880"/>
            <a:ext cx="1447920" cy="38340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b5249"/>
                </a:solidFill>
                <a:latin typeface="Arial"/>
              </a:rPr>
              <a:t>Customer</a:t>
            </a:r>
            <a:endParaRPr b="0" lang="en-US" sz="19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28600" y="1981080"/>
            <a:ext cx="8686800" cy="4724640"/>
            <a:chOff x="228600" y="1981080"/>
            <a:chExt cx="8686800" cy="4724640"/>
          </a:xfrm>
        </p:grpSpPr>
        <p:sp>
          <p:nvSpPr>
            <p:cNvPr id="175" name=""/>
            <p:cNvSpPr/>
            <p:nvPr/>
          </p:nvSpPr>
          <p:spPr>
            <a:xfrm>
              <a:off x="3124080" y="2133720"/>
              <a:ext cx="1600200" cy="685800"/>
            </a:xfrm>
            <a:prstGeom prst="ellipse">
              <a:avLst/>
            </a:prstGeom>
            <a:solidFill>
              <a:srgbClr val="c9ddf1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24080" y="228600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Arial"/>
                </a:rPr>
                <a:t>Application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86200" y="2819520"/>
              <a:ext cx="0" cy="388620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95880" y="1981080"/>
              <a:ext cx="281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Customer builds the application and uploads it to the server</a:t>
              </a:r>
              <a:r>
                <a:rPr b="0" lang="en-US" sz="1600" spc="-1" strike="noStrike">
                  <a:solidFill>
                    <a:srgbClr val="00cc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600" y="1981080"/>
              <a:ext cx="0" cy="472464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95880" y="1981080"/>
              <a:ext cx="0" cy="457200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839080" y="1981080"/>
              <a:ext cx="0" cy="472464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095880" y="2971800"/>
              <a:ext cx="2743200" cy="0"/>
            </a:xfrm>
            <a:prstGeom prst="line">
              <a:avLst/>
            </a:prstGeom>
            <a:ln w="12600">
              <a:solidFill>
                <a:srgbClr val="cec8ba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 flipH="1">
            <a:off x="6095520" y="4800600"/>
            <a:ext cx="2667240" cy="0"/>
          </a:xfrm>
          <a:prstGeom prst="line">
            <a:avLst/>
          </a:prstGeom>
          <a:ln w="12600">
            <a:solidFill>
              <a:srgbClr val="cec8b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51055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3809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ustomer checks the status of the application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48769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erver returns application instance to customer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5867280"/>
            <a:ext cx="2667240" cy="0"/>
          </a:xfrm>
          <a:prstGeom prst="line">
            <a:avLst/>
          </a:prstGeom>
          <a:ln w="12600">
            <a:solidFill>
              <a:srgbClr val="cec8b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885840" y="6553080"/>
            <a:ext cx="4876920" cy="0"/>
          </a:xfrm>
          <a:prstGeom prst="line">
            <a:avLst/>
          </a:prstGeom>
          <a:ln w="12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6172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owResult(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igenvalues application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nd [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] within which all eigenvalues li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isect [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] and find the number of eigen values in each of the intervals, [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2] an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2, b] using Sturm sequences. If an interval has 0 eigenvalues, discard the interva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oceed until the difference between the interval’s upper and lower bounds is less than </a:t>
            </a:r>
            <a:r>
              <a:rPr b="0" lang="en-US" sz="3200" spc="-1" strike="noStrike">
                <a:solidFill>
                  <a:srgbClr val="5b5249"/>
                </a:solidFill>
                <a:latin typeface="Courier New"/>
              </a:rPr>
              <a:t>Epsilon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. For example, for </a:t>
            </a:r>
            <a:r>
              <a:rPr b="0" lang="en-US" sz="3200" spc="-1" strike="noStrike">
                <a:solidFill>
                  <a:srgbClr val="5b5249"/>
                </a:solidFill>
                <a:latin typeface="Courier New"/>
              </a:rPr>
              <a:t>Epsilon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= 0.01, a valid interval is [12.90, 12.91]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Gerschgorin Circle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0480" indent="-420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a =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in { 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</a:rPr>
              <a:t>α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- |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</a:rPr>
              <a:t>β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| - |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</a:rPr>
              <a:t>β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i-1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|}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≤i≤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= Max {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</a:rPr>
              <a:t>α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+ |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</a:rPr>
              <a:t>β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| + |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</a:rPr>
              <a:t>β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i-1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|}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≤i≤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</a:rPr>
              <a:t>α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1    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</a:rPr>
              <a:t>β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1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0 … 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 =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</a:rPr>
              <a:t>β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1    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</a:rPr>
              <a:t>α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    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</a:rPr>
              <a:t>β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   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0     .    .      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</a:rPr>
              <a:t>β</a:t>
            </a:r>
            <a:r>
              <a:rPr b="0" i="1" lang="en-US" sz="3200" spc="-1" strike="noStrike" baseline="-25000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0     .    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</a:rPr>
              <a:t>β</a:t>
            </a:r>
            <a:r>
              <a:rPr b="0" i="1" lang="en-US" sz="3200" spc="-1" strike="noStrike" baseline="-25000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-1   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</a:rPr>
              <a:t>α</a:t>
            </a:r>
            <a:r>
              <a:rPr b="0" i="1" lang="en-US" sz="3200" spc="-1" strike="noStrike" baseline="-25000">
                <a:solidFill>
                  <a:srgbClr val="5b5249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4114800"/>
            <a:ext cx="2819160" cy="25146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81080" y="4191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191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Sturm sequence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characteristic polynomial of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i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    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λ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) = det(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– 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λ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sequence {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λ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)} has special properties that make it a Sturm seque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fine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λ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) to be the number of agreements in sign of consecutive members of {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λ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}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he number of eigenvalues in the interval,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≤ 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λ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≤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s given by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) –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Components of Cycle-server at hom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erv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06992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2819520"/>
            <a:ext cx="144756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rv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523880" y="5181120"/>
            <a:ext cx="1295280" cy="993240"/>
            <a:chOff x="1523880" y="5181120"/>
            <a:chExt cx="1295280" cy="993240"/>
          </a:xfrm>
        </p:grpSpPr>
        <p:sp>
          <p:nvSpPr>
            <p:cNvPr id="204" name=""/>
            <p:cNvSpPr/>
            <p:nvPr/>
          </p:nvSpPr>
          <p:spPr>
            <a:xfrm>
              <a:off x="1523880" y="5181480"/>
              <a:ext cx="0" cy="99036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23880" y="6171840"/>
              <a:ext cx="1295280" cy="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2819160" y="5181120"/>
              <a:ext cx="0" cy="99036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23880" y="5714640"/>
              <a:ext cx="1295280" cy="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23880" y="5714640"/>
              <a:ext cx="12952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[0,4]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429000" y="1066680"/>
            <a:ext cx="152388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ork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276720" y="5181480"/>
            <a:ext cx="2742840" cy="762120"/>
            <a:chOff x="3276720" y="5181480"/>
            <a:chExt cx="2742840" cy="762120"/>
          </a:xfrm>
        </p:grpSpPr>
        <p:sp>
          <p:nvSpPr>
            <p:cNvPr id="211" name=""/>
            <p:cNvSpPr/>
            <p:nvPr/>
          </p:nvSpPr>
          <p:spPr>
            <a:xfrm>
              <a:off x="3276720" y="5181480"/>
              <a:ext cx="2742840" cy="762120"/>
            </a:xfrm>
            <a:prstGeom prst="ellipse">
              <a:avLst/>
            </a:prstGeom>
            <a:solidFill>
              <a:srgbClr val="c9ddf1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87320" y="5334120"/>
              <a:ext cx="25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pplication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85800" y="3657240"/>
            <a:ext cx="1295280" cy="993240"/>
            <a:chOff x="685800" y="3657240"/>
            <a:chExt cx="1295280" cy="993240"/>
          </a:xfrm>
        </p:grpSpPr>
        <p:sp>
          <p:nvSpPr>
            <p:cNvPr id="214" name=""/>
            <p:cNvSpPr/>
            <p:nvPr/>
          </p:nvSpPr>
          <p:spPr>
            <a:xfrm>
              <a:off x="685800" y="3657600"/>
              <a:ext cx="0" cy="99036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5800" y="4647960"/>
              <a:ext cx="1295280" cy="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1981080" y="3657240"/>
              <a:ext cx="0" cy="99036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5800" y="4190760"/>
              <a:ext cx="1295280" cy="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5800" y="4190760"/>
              <a:ext cx="12952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[0,4]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981080" y="1218960"/>
            <a:ext cx="1295280" cy="993240"/>
            <a:chOff x="1981080" y="1218960"/>
            <a:chExt cx="1295280" cy="993240"/>
          </a:xfrm>
        </p:grpSpPr>
        <p:sp>
          <p:nvSpPr>
            <p:cNvPr id="220" name=""/>
            <p:cNvSpPr/>
            <p:nvPr/>
          </p:nvSpPr>
          <p:spPr>
            <a:xfrm>
              <a:off x="1981080" y="1219320"/>
              <a:ext cx="0" cy="99036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81080" y="2209680"/>
              <a:ext cx="1295280" cy="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3276360" y="1218960"/>
              <a:ext cx="0" cy="99036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81080" y="1752480"/>
              <a:ext cx="1295280" cy="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81080" y="1752480"/>
              <a:ext cx="12952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[0,4]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581280" y="22096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209680" y="3200400"/>
            <a:ext cx="3962520" cy="1752480"/>
            <a:chOff x="2209680" y="3200400"/>
            <a:chExt cx="3962520" cy="1752480"/>
          </a:xfrm>
        </p:grpSpPr>
        <p:sp>
          <p:nvSpPr>
            <p:cNvPr id="227" name=""/>
            <p:cNvSpPr/>
            <p:nvPr/>
          </p:nvSpPr>
          <p:spPr>
            <a:xfrm>
              <a:off x="2209680" y="3200400"/>
              <a:ext cx="2378160" cy="175248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52680" y="365760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generateWork()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209680" y="1600200"/>
            <a:ext cx="4953240" cy="1219320"/>
            <a:chOff x="2209680" y="1600200"/>
            <a:chExt cx="4953240" cy="1219320"/>
          </a:xfrm>
        </p:grpSpPr>
        <p:sp>
          <p:nvSpPr>
            <p:cNvPr id="230" name=""/>
            <p:cNvSpPr/>
            <p:nvPr/>
          </p:nvSpPr>
          <p:spPr>
            <a:xfrm>
              <a:off x="3657600" y="2133720"/>
              <a:ext cx="350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endClassForWork()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209680" y="1600200"/>
              <a:ext cx="2286000" cy="121932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057040" y="1600200"/>
            <a:ext cx="4572360" cy="1295280"/>
            <a:chOff x="2057040" y="1600200"/>
            <a:chExt cx="4572360" cy="1295280"/>
          </a:xfrm>
        </p:grpSpPr>
        <p:sp>
          <p:nvSpPr>
            <p:cNvPr id="233" name=""/>
            <p:cNvSpPr/>
            <p:nvPr/>
          </p:nvSpPr>
          <p:spPr>
            <a:xfrm flipH="1">
              <a:off x="2057040" y="1600200"/>
              <a:ext cx="2585880" cy="129528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38480" y="190476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takeResult()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209680" y="3276720"/>
            <a:ext cx="4572000" cy="1676160"/>
            <a:chOff x="2209680" y="3276720"/>
            <a:chExt cx="4572000" cy="1676160"/>
          </a:xfrm>
        </p:grpSpPr>
        <p:sp>
          <p:nvSpPr>
            <p:cNvPr id="236" name=""/>
            <p:cNvSpPr/>
            <p:nvPr/>
          </p:nvSpPr>
          <p:spPr>
            <a:xfrm>
              <a:off x="2209680" y="3276720"/>
              <a:ext cx="1905120" cy="167616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81280" y="40384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cceptResult()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676520" y="4876920"/>
            <a:ext cx="1371600" cy="1221480"/>
            <a:chOff x="1676520" y="4876920"/>
            <a:chExt cx="1371600" cy="1221480"/>
          </a:xfrm>
        </p:grpSpPr>
        <p:sp>
          <p:nvSpPr>
            <p:cNvPr id="239" name=""/>
            <p:cNvSpPr/>
            <p:nvPr/>
          </p:nvSpPr>
          <p:spPr>
            <a:xfrm>
              <a:off x="1676520" y="4876920"/>
              <a:ext cx="0" cy="106668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4876920"/>
              <a:ext cx="0" cy="106668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76520" y="5638680"/>
              <a:ext cx="1371600" cy="459720"/>
            </a:xfrm>
            <a:prstGeom prst="rect">
              <a:avLst/>
            </a:prstGeom>
            <a:solidFill>
              <a:srgbClr val="fac164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[2,4]5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76520" y="5181480"/>
              <a:ext cx="1371600" cy="459720"/>
            </a:xfrm>
            <a:prstGeom prst="rect">
              <a:avLst/>
            </a:prstGeom>
            <a:solidFill>
              <a:srgbClr val="c3e684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[0,2]5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400800" y="2666880"/>
            <a:ext cx="152388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ork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209680" y="2666880"/>
            <a:ext cx="4640400" cy="459720"/>
            <a:chOff x="2209680" y="2666880"/>
            <a:chExt cx="4640400" cy="459720"/>
          </a:xfrm>
        </p:grpSpPr>
        <p:sp>
          <p:nvSpPr>
            <p:cNvPr id="245" name=""/>
            <p:cNvSpPr/>
            <p:nvPr/>
          </p:nvSpPr>
          <p:spPr>
            <a:xfrm flipH="1">
              <a:off x="2209680" y="3048120"/>
              <a:ext cx="4114800" cy="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86000" y="2666880"/>
              <a:ext cx="456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endClassForWork()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523880" y="5181120"/>
            <a:ext cx="1295280" cy="993240"/>
            <a:chOff x="1523880" y="5181120"/>
            <a:chExt cx="1295280" cy="993240"/>
          </a:xfrm>
        </p:grpSpPr>
        <p:sp>
          <p:nvSpPr>
            <p:cNvPr id="248" name=""/>
            <p:cNvSpPr/>
            <p:nvPr/>
          </p:nvSpPr>
          <p:spPr>
            <a:xfrm>
              <a:off x="1523880" y="5181480"/>
              <a:ext cx="0" cy="99036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23880" y="6171840"/>
              <a:ext cx="1295280" cy="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819160" y="5181120"/>
              <a:ext cx="0" cy="99036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23880" y="5714640"/>
              <a:ext cx="1295280" cy="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23880" y="5714640"/>
              <a:ext cx="1295280" cy="459720"/>
            </a:xfrm>
            <a:prstGeom prst="rect">
              <a:avLst/>
            </a:prstGeom>
            <a:solidFill>
              <a:srgbClr val="c3e6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[0,2]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105520" y="762120"/>
            <a:ext cx="3809880" cy="1526400"/>
            <a:chOff x="5105520" y="762120"/>
            <a:chExt cx="3809880" cy="1526400"/>
          </a:xfrm>
        </p:grpSpPr>
        <p:sp>
          <p:nvSpPr>
            <p:cNvPr id="254" name=""/>
            <p:cNvSpPr/>
            <p:nvPr/>
          </p:nvSpPr>
          <p:spPr>
            <a:xfrm>
              <a:off x="5486400" y="990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tartUp()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05520" y="1295280"/>
              <a:ext cx="380880" cy="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86400" y="762120"/>
              <a:ext cx="1752480" cy="914400"/>
            </a:xfrm>
            <a:prstGeom prst="wedgeEllipseCallout">
              <a:avLst>
                <a:gd name="adj1" fmla="val -58967"/>
                <a:gd name="adj2" fmla="val 38370"/>
              </a:avLst>
            </a:prstGeom>
            <a:noFill/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43800" y="1066680"/>
              <a:ext cx="0" cy="106704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915400" y="1066680"/>
              <a:ext cx="0" cy="106704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3800" y="1828800"/>
              <a:ext cx="1371600" cy="459720"/>
            </a:xfrm>
            <a:prstGeom prst="rect">
              <a:avLst/>
            </a:prstGeom>
            <a:solidFill>
              <a:srgbClr val="fac164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[2,4]5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43800" y="1371600"/>
              <a:ext cx="1371600" cy="459720"/>
            </a:xfrm>
            <a:prstGeom prst="rect">
              <a:avLst/>
            </a:prstGeom>
            <a:solidFill>
              <a:srgbClr val="c3e684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[0,2]</a:t>
              </a:r>
              <a:r>
                <a:rPr b="1" lang="en-US" sz="2400" spc="-1" strike="noStrike">
                  <a:solidFill>
                    <a:srgbClr val="000099"/>
                  </a:solidFill>
                  <a:latin typeface="Courier New"/>
                </a:rPr>
                <a:t>5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6629400" y="4495680"/>
            <a:ext cx="152388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ork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438280" y="3276720"/>
            <a:ext cx="5791320" cy="1295280"/>
            <a:chOff x="2438280" y="3276720"/>
            <a:chExt cx="5791320" cy="1295280"/>
          </a:xfrm>
        </p:grpSpPr>
        <p:sp>
          <p:nvSpPr>
            <p:cNvPr id="263" name=""/>
            <p:cNvSpPr/>
            <p:nvPr/>
          </p:nvSpPr>
          <p:spPr>
            <a:xfrm flipH="1" flipV="1">
              <a:off x="2438280" y="3276720"/>
              <a:ext cx="4214880" cy="129528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724280" y="3505320"/>
              <a:ext cx="350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endClassForWork()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523880" y="4571640"/>
            <a:ext cx="1295280" cy="993240"/>
            <a:chOff x="1523880" y="4571640"/>
            <a:chExt cx="1295280" cy="993240"/>
          </a:xfrm>
        </p:grpSpPr>
        <p:sp>
          <p:nvSpPr>
            <p:cNvPr id="266" name=""/>
            <p:cNvSpPr/>
            <p:nvPr/>
          </p:nvSpPr>
          <p:spPr>
            <a:xfrm>
              <a:off x="1523880" y="4572000"/>
              <a:ext cx="0" cy="99036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523880" y="5562360"/>
              <a:ext cx="1295280" cy="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2819160" y="4571640"/>
              <a:ext cx="0" cy="99036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23880" y="5105160"/>
              <a:ext cx="1295280" cy="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5105160"/>
              <a:ext cx="1295280" cy="459720"/>
            </a:xfrm>
            <a:prstGeom prst="rect">
              <a:avLst/>
            </a:prstGeom>
            <a:solidFill>
              <a:srgbClr val="fac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[2,4]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200400" y="5029200"/>
            <a:ext cx="2892600" cy="1143000"/>
          </a:xfrm>
          <a:prstGeom prst="flowChartDocumen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994040" y="3352680"/>
            <a:ext cx="5549760" cy="1600200"/>
            <a:chOff x="1994040" y="3352680"/>
            <a:chExt cx="5549760" cy="1600200"/>
          </a:xfrm>
        </p:grpSpPr>
        <p:sp>
          <p:nvSpPr>
            <p:cNvPr id="273" name=""/>
            <p:cNvSpPr/>
            <p:nvPr/>
          </p:nvSpPr>
          <p:spPr>
            <a:xfrm>
              <a:off x="3241800" y="4191120"/>
              <a:ext cx="43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ave to eigen.status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94040" y="3352680"/>
              <a:ext cx="1881000" cy="160020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9" dur="1" fill="hold"/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  <a:ea typeface="Times New Roman"/>
              </a:rPr>
              <a:t>Cycle-server at home is a distributed software package that computes the results of embarrassingly parallel and computationally intensive applications by distributing the work that customers upload among workers with idle cpu cycl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695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Serv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3360" y="16765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 server maintains a redundancy-count list for each problem in the </a:t>
            </a:r>
            <a:r>
              <a:rPr b="0" lang="en-US" sz="3200" spc="-1" strike="noStrike">
                <a:solidFill>
                  <a:srgbClr val="5b5249"/>
                </a:solidFill>
                <a:latin typeface="Courier New"/>
              </a:rPr>
              <a:t>OutstandingWork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 table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henever a worker asks for work, the server gives the most deserving unfinished work to the worker; redundant work is not as deserving as original work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 server generates a nonce for each worker and stores it in the </a:t>
            </a:r>
            <a:r>
              <a:rPr b="0" lang="en-US" sz="3200" spc="-1" strike="noStrike">
                <a:solidFill>
                  <a:srgbClr val="5b5249"/>
                </a:solidFill>
                <a:latin typeface="Courier New"/>
              </a:rPr>
              <a:t>Nonce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 tabl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Components of Cycle-server at hom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orker ag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Worker agen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3360" y="1599840"/>
            <a:ext cx="8540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After getting work from the server, the worker agent loads the application assembly from the full path to the assembly, </a:t>
            </a:r>
            <a:r>
              <a:rPr b="0" lang="en-US" sz="2200" spc="-1" strike="noStrike" u="sng">
                <a:solidFill>
                  <a:srgbClr val="b0ae6a"/>
                </a:solidFill>
                <a:uFillTx/>
                <a:latin typeface="Courier New"/>
                <a:hlinkClick r:id="rId1"/>
              </a:rPr>
              <a:t>http://ep/CSAHClient/work/unfinished/eigen.dll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The worker agent initializes the application object by invok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Problem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 method on it, giving it the problem </a:t>
            </a:r>
            <a:r>
              <a:rPr b="1" lang="en-US" sz="2800" spc="-1" strike="noStrike">
                <a:solidFill>
                  <a:srgbClr val="5b5249"/>
                </a:solidFill>
                <a:latin typeface="Arial"/>
              </a:rPr>
              <a:t>ArrayList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 and the current-problem number. In the eigen application, this method also initializes the application instance with </a:t>
            </a:r>
            <a:r>
              <a:rPr b="0" lang="en-US" sz="2800" spc="-1" strike="noStrike">
                <a:solidFill>
                  <a:srgbClr val="5b5249"/>
                </a:solidFill>
                <a:latin typeface="Courier New"/>
              </a:rPr>
              <a:t>lowerBound, upperBound, S_LB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5b5249"/>
                </a:solidFill>
                <a:latin typeface="Courier New"/>
              </a:rPr>
              <a:t>S_UB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Worker agen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 worker agent invokes the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artUp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 method on the application objec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For example, in the eigen application,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artUp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 method bisects the interval [0..4], calculates the number of eigenvalues in each of the intervals, [0..2] and [2..4], and  the worker agent returns these results to the serv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3360" y="1828440"/>
            <a:ext cx="854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I implemented the server component as an ASP.NET WebServi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I implemented the customer agent as an ASP.NET applicatio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I implemented the worker agent as a Windows Forms Control in Internet Explor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3818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Implementation details – W</a:t>
            </a:r>
            <a:r>
              <a:rPr b="0" lang="en-US" sz="3600" spc="-1" strike="noStrike">
                <a:solidFill>
                  <a:srgbClr val="2a3d7a"/>
                </a:solidFill>
                <a:latin typeface="Arial"/>
              </a:rPr>
              <a:t>ebServic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4100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 CSAH WebService exposes the following methods to customer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965160" indent="-428040">
              <a:lnSpc>
                <a:spcPct val="9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checkDLL(DLLNam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965160" indent="-428040">
              <a:lnSpc>
                <a:spcPct val="9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addDLLToDB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287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DLLName, customerNam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965160" indent="-428040">
              <a:lnSpc>
                <a:spcPct val="9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mmObject getStatusOfDLL(DLLNam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965160" indent="-428040">
              <a:lnSpc>
                <a:spcPct val="9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ataSet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listDLLs(customerNam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965160" indent="-428040">
              <a:lnSpc>
                <a:spcPct val="9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removeDLLFil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965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DLLName, customerNam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965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965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03360" y="838080"/>
            <a:ext cx="8540640" cy="56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 CSAH WebService exposes the following methods to worker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mmObject sendClassForWork(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takeResult(CommObject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mmObject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akeResultGenerateWork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CommOject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CommObjec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 server, the customer agent and the worker agent exchange an object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mmObject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, which has the following fields: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o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puloa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oblemLi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rAr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ppNam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rrMs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a3d7a"/>
                </a:solidFill>
                <a:latin typeface="Arial"/>
              </a:rPr>
              <a:t>Implementation details – Worker agent</a:t>
            </a:r>
            <a:endParaRPr b="0" lang="en-US" sz="3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232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 worker classes exist as a DLL, which I include in an object tag on the worker web page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hen a worker loads the web page in his browser, the worker agent downloads the worker-class DLLs to its machin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 worker agent creates a new instance of the WebService and calls it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ndClassForWork()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akeResultGenerateWork()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 method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25040"/>
            <a:ext cx="8153280" cy="7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a3d7a"/>
                </a:solidFill>
                <a:latin typeface="Arial"/>
              </a:rPr>
              <a:t>Implementation details - Applications</a:t>
            </a:r>
            <a:endParaRPr b="0" lang="en-US" sz="3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160" y="21016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27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I implemented the following applications for CSAH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Finding the factors of a large number using brute-force search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Finding the eigenvalues of a tridiagonal symmetric real matrix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An example: Eige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3124080"/>
            <a:ext cx="1447920" cy="58140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erv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286000"/>
            <a:ext cx="1981080" cy="58140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ustom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467480" y="2209680"/>
            <a:ext cx="1524240" cy="58140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ork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4952880"/>
            <a:ext cx="1981080" cy="762120"/>
          </a:xfrm>
          <a:prstGeom prst="ellipse">
            <a:avLst/>
          </a:prstGeom>
          <a:solidFill>
            <a:srgbClr val="c9ddf1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3733920"/>
            <a:ext cx="0" cy="1143000"/>
          </a:xfrm>
          <a:prstGeom prst="line">
            <a:avLst/>
          </a:prstGeom>
          <a:ln w="12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2666880"/>
            <a:ext cx="1523880" cy="609840"/>
          </a:xfrm>
          <a:prstGeom prst="line">
            <a:avLst/>
          </a:prstGeom>
          <a:ln w="12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562720" y="2514600"/>
            <a:ext cx="1752480" cy="762120"/>
          </a:xfrm>
          <a:prstGeom prst="line">
            <a:avLst/>
          </a:prstGeom>
          <a:ln w="12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12408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   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Customer uploads </a:t>
            </a:r>
            <a:r>
              <a:rPr b="0" lang="en-US" sz="2800" spc="-1" strike="noStrike">
                <a:solidFill>
                  <a:srgbClr val="5b5249"/>
                </a:solidFill>
                <a:latin typeface="Courier New"/>
                <a:ea typeface="Arial"/>
              </a:rPr>
              <a:t>eigen.dll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to the serve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724280"/>
            <a:ext cx="4191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   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Server verifies </a:t>
            </a:r>
            <a:r>
              <a:rPr b="0" lang="en-US" sz="2800" spc="-1" strike="noStrike">
                <a:solidFill>
                  <a:srgbClr val="5b5249"/>
                </a:solidFill>
                <a:latin typeface="Courier New"/>
                <a:ea typeface="Arial"/>
              </a:rPr>
              <a:t>eigen.dll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and stores </a:t>
            </a:r>
            <a:r>
              <a:rPr b="0" lang="en-US" sz="2800" spc="-1" strike="noStrike">
                <a:solidFill>
                  <a:srgbClr val="5b5249"/>
                </a:solidFill>
                <a:latin typeface="Courier New"/>
                <a:ea typeface="Arial"/>
              </a:rPr>
              <a:t>eigen.dll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in its work directory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312408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   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Worker asks for work from serve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48006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495288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48006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4724280"/>
            <a:ext cx="373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   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Server selects </a:t>
            </a:r>
            <a:r>
              <a:rPr b="0" lang="en-US" sz="2800" spc="-1" strike="noStrike">
                <a:solidFill>
                  <a:srgbClr val="5b5249"/>
                </a:solidFill>
                <a:latin typeface="Courier New"/>
                <a:ea typeface="Arial"/>
              </a:rPr>
              <a:t>eigen.dll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and sends it to the worke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76920" y="3733560"/>
            <a:ext cx="0" cy="1143000"/>
          </a:xfrm>
          <a:prstGeom prst="line">
            <a:avLst/>
          </a:prstGeom>
          <a:ln w="12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638680" y="2590920"/>
            <a:ext cx="1752840" cy="761760"/>
          </a:xfrm>
          <a:prstGeom prst="line">
            <a:avLst/>
          </a:prstGeom>
          <a:ln w="12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Tests and Resul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990720" y="1371600"/>
          <a:ext cx="754380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71600"/>
                    <a:ext cx="75438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685800" y="5562720"/>
            <a:ext cx="7848720" cy="65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7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Efficiency = </a:t>
            </a:r>
            <a:r>
              <a:rPr b="0" lang="en-US" sz="1800" spc="-1" strike="noStrike" u="sng">
                <a:solidFill>
                  <a:srgbClr val="5b5249"/>
                </a:solidFill>
                <a:uFillTx/>
                <a:latin typeface="Arial"/>
              </a:rPr>
              <a:t>Time taken for one machin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27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b524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5b5249"/>
                </a:solidFill>
                <a:latin typeface="Arial"/>
              </a:rPr>
              <a:t>            </a:t>
            </a:r>
            <a:r>
              <a:rPr b="0" i="1" lang="en-US" sz="1800" spc="-1" strike="noStrike">
                <a:solidFill>
                  <a:srgbClr val="5b5249"/>
                </a:solidFill>
                <a:latin typeface="Arial"/>
              </a:rPr>
              <a:t>n * 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Time taken for</a:t>
            </a:r>
            <a:r>
              <a:rPr b="0" i="1" lang="en-US" sz="1800" spc="-1" strike="noStrike">
                <a:solidFill>
                  <a:srgbClr val="5b5249"/>
                </a:solidFill>
                <a:latin typeface="Arial"/>
              </a:rPr>
              <a:t> n 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machin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27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Efficiency of a single machine = 100%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685800" y="228600"/>
          <a:ext cx="80010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"/>
                    <a:ext cx="8001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Limitatio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3360" y="1981080"/>
            <a:ext cx="8540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e need to protect worker machines from malicious applicationDLL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e need to modify the worker agent to allow implementations of problems like finding the </a:t>
            </a:r>
            <a:r>
              <a:rPr b="0" i="1" lang="en-US" sz="3200" spc="-1" strike="noStrike">
                <a:solidFill>
                  <a:srgbClr val="5b5249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 Schur numb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e need to improve the scheduling policy to allocate customer work fairl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Enhancemen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232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An enhancement to CSAH would be to develop an economic model wherein customers can pay for services and workers can be paid for doing work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e can prioritize work based on specific criteria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e can give more details on the worker web pag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 objective of Cycle-server at home is to distribute work that customers upload, to machines with idle cpu cycl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86200" y="3048120"/>
            <a:ext cx="1447920" cy="58140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erv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2209680"/>
            <a:ext cx="1981080" cy="58140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ustom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7480" y="2209680"/>
            <a:ext cx="1524240" cy="58140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ork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4876920"/>
            <a:ext cx="2057400" cy="761760"/>
          </a:xfrm>
          <a:prstGeom prst="ellipse">
            <a:avLst/>
          </a:prstGeom>
          <a:solidFill>
            <a:srgbClr val="c9ddf1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5029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3657600"/>
            <a:ext cx="0" cy="1219320"/>
          </a:xfrm>
          <a:prstGeom prst="line">
            <a:avLst/>
          </a:prstGeom>
          <a:ln w="12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486400" y="2438280"/>
            <a:ext cx="1905120" cy="838440"/>
          </a:xfrm>
          <a:prstGeom prst="line">
            <a:avLst/>
          </a:prstGeom>
          <a:ln w="12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76720"/>
            <a:ext cx="350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   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Customer checks status of </a:t>
            </a:r>
            <a:r>
              <a:rPr b="0" lang="en-US" sz="2800" spc="-1" strike="noStrike">
                <a:solidFill>
                  <a:srgbClr val="5b5249"/>
                </a:solidFill>
                <a:latin typeface="Courier New"/>
                <a:ea typeface="Arial"/>
              </a:rPr>
              <a:t>eigen.dll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843440"/>
            <a:ext cx="40384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   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Server returns the eigen application to the custome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3276720"/>
            <a:ext cx="419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   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Worker calculates results and returns it to the serve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48006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49528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48006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463068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   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Server updates its copy of the eigen application and stores it in </a:t>
            </a:r>
            <a:r>
              <a:rPr b="0" lang="en-US" sz="2800" spc="-1" strike="noStrike">
                <a:solidFill>
                  <a:srgbClr val="5b5249"/>
                </a:solidFill>
                <a:latin typeface="Courier New"/>
                <a:ea typeface="Arial"/>
              </a:rPr>
              <a:t>eigen.statu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666880"/>
            <a:ext cx="1295280" cy="457200"/>
          </a:xfrm>
          <a:prstGeom prst="line">
            <a:avLst/>
          </a:prstGeom>
          <a:ln w="12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572000" y="3657240"/>
            <a:ext cx="0" cy="1219320"/>
          </a:xfrm>
          <a:prstGeom prst="line">
            <a:avLst/>
          </a:prstGeom>
          <a:ln w="12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514600" y="2819520"/>
            <a:ext cx="1295280" cy="457200"/>
          </a:xfrm>
          <a:prstGeom prst="line">
            <a:avLst/>
          </a:prstGeom>
          <a:ln w="12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Example continued</a:t>
            </a:r>
            <a:r>
              <a:rPr b="0" lang="en-US" sz="2400" spc="-1" strike="noStrike">
                <a:solidFill>
                  <a:srgbClr val="2a3d7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Customer web pag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Worker </a:t>
            </a: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web</a:t>
            </a: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 pag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62940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Overview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3520" y="838080"/>
          <a:ext cx="8076960" cy="58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38080"/>
                    <a:ext cx="8076960" cy="58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Definition of ter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ebServi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AppInterfa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orker agent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ustomer ag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38188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How would a customer use CSAH?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27040" y="1523520"/>
            <a:ext cx="8616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 customer establishes an account with CSAH using the customer web pag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 customer writes a C# or VB.NET program, such that it implements IAppInterface, and compiles it to a DL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 customer uploads this applicationDLL to the server using the customer web pag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 customer can check the status of the applicationDLLs by clicking the </a:t>
            </a:r>
            <a:r>
              <a:rPr b="0" i="1" lang="en-US" sz="3200" spc="-1" strike="noStrike">
                <a:solidFill>
                  <a:srgbClr val="5b5249"/>
                </a:solidFill>
                <a:latin typeface="Arial"/>
              </a:rPr>
              <a:t>Get Status 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button on the customer web pag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3T23:13:43Z</dcterms:created>
  <dc:creator> </dc:creator>
  <dc:description/>
  <dc:language>en-US</dc:language>
  <cp:lastModifiedBy> </cp:lastModifiedBy>
  <dcterms:modified xsi:type="dcterms:W3CDTF">2003-12-03T04:59:08Z</dcterms:modified>
  <cp:revision>915</cp:revision>
  <dc:subject/>
  <dc:title>Cycle-server at ho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