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1.wmf" ContentType="image/x-wmf"/>
  <Override PartName="/ppt/media/image10.gif" ContentType="image/gif"/>
  <Override PartName="/ppt/media/image6.png" ContentType="image/png"/>
  <Override PartName="/ppt/media/image29.png" ContentType="image/png"/>
  <Override PartName="/ppt/media/image31.png" ContentType="image/png"/>
  <Override PartName="/ppt/media/image7.png" ContentType="image/png"/>
  <Override PartName="/ppt/media/image8.png" ContentType="image/png"/>
  <Override PartName="/ppt/media/image24.gif" ContentType="image/gif"/>
  <Override PartName="/ppt/media/image1.gif" ContentType="image/gif"/>
  <Override PartName="/ppt/media/image4.png" ContentType="image/png"/>
  <Override PartName="/ppt/media/image27.png" ContentType="image/png"/>
  <Override PartName="/ppt/media/image11.gif" ContentType="image/gif"/>
  <Override PartName="/ppt/media/image13.gif" ContentType="image/gif"/>
  <Override PartName="/ppt/media/image30.png" ContentType="image/png"/>
  <Override PartName="/ppt/media/image9.png" ContentType="image/png"/>
  <Override PartName="/ppt/media/image3.png" ContentType="image/png"/>
  <Override PartName="/ppt/media/image23.gif" ContentType="image/gif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gif" ContentType="image/gif"/>
  <Override PartName="/ppt/media/image22.gif" ContentType="image/gif"/>
  <Override PartName="/ppt/media/image15.png" ContentType="image/png"/>
  <Override PartName="/ppt/media/image12.wmf" ContentType="image/x-wm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1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A03-04FE-4D01-85BC-9EED5332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8B4-AEC5-4312-B13D-C0EFFC16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262-7B05-43EE-AC4E-3F47EBBB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DF17-1D81-4935-A6E2-72E1EC74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2CE1-4A1F-4857-837A-9AB37ED8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4550-4C65-4DE4-AB37-8994A85D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4552-8683-4853-B2A1-42B33FE9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FF20-7477-429A-AD21-53E20C4B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0B14-D9FB-4F96-9761-A0A68D86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86B9-B6C1-4A51-A918-191BF0C2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7834-6A1E-4F2D-8270-603DFE3F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CC73-71C1-4431-B5B4-7D55C796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D5CD-FF38-4AE9-846B-77D3F0B1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48BD-CA0D-44F6-99B5-58EA8171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FE94-BA10-4158-91F1-FEFAB049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020E-C51F-43A2-A08E-F6951402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2193-0092-44DB-A92A-0B4AF8F7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9C1-F9C7-46AF-9196-242A0BAA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8CC-B89B-4C48-B6F1-FF7DB7E3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1D7-B21C-49F0-8CF7-A092DBD0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552B-25DA-4C25-BC49-19E38375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42A3-A3DD-42B0-897B-EA596308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496-3619-4755-8343-058D6FF4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4FA3-24AA-4FE4-9549-B60217C2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C0BA-4B7C-4BAE-AA9B-5E9DC9DB120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6773-B7FB-4984-A833-7A55320A2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83DE-8583-4C14-8F19-9B1614FA39D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B3E9-9F66-4E8B-A062-46D44435E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16.gif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7.gif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18.gif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9.gif"/><Relationship Id="rId1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3.gif"/><Relationship Id="rId7" Type="http://schemas.openxmlformats.org/officeDocument/2006/relationships/image" Target="../media/image22.gi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gi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4.gi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gif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fckeditor.net/" TargetMode="Externa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2.wm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14.gi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AjaxWordPro: A Multi User Word Processor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90360" y="3124080"/>
            <a:ext cx="7010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Kausalya Madhusudhan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visor: Dr. Raphael Fin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artment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versity of Kentuc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ril 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00800" y="5638680"/>
            <a:ext cx="259092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cision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Scripting Languages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-Side Scripting Language: 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P: Hypertext Pre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– oriented scripting language runs on the 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functions to communicate with 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ent-Side Scripting Language: JavaScri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Ajax function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data to and accepts data from the server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MLHttpRequ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Document Object Model properties 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the content of a web page on the f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a web programmer to create interactive web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>
            <a:off x="228600" y="0"/>
            <a:ext cx="14479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Implementation Decision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CKed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 HTML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jaxWordPro presents editable documents to users via FCK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 of FCK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browser compat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ize plugi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forma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t, Copy, Paste as Plain Text, Undo and Re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-click context-menu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ySql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stores the user and fil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2"/>
          <a:stretch/>
        </p:blipFill>
        <p:spPr>
          <a:xfrm>
            <a:off x="228600" y="152280"/>
            <a:ext cx="817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Overall Design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oncurrency Control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lusive (write) locks are used for concurrency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s write privilege on areas of shared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needs to hold a lock over the data before ed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king Granularity: Para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need to acquire the lock on the paragraph before editing the contents of the para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of a para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e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ocke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nsist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228600" y="228600"/>
            <a:ext cx="1190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Client – Server Communication of AjaxWordPro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1828800"/>
            <a:ext cx="1143000" cy="2428920"/>
          </a:xfrm>
          <a:prstGeom prst="rect">
            <a:avLst/>
          </a:prstGeom>
          <a:solidFill>
            <a:srgbClr val="ffd05b">
              <a:alpha val="38000"/>
            </a:srgbClr>
          </a:solidFill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38360" y="1801800"/>
            <a:ext cx="2971800" cy="2428920"/>
          </a:xfrm>
          <a:prstGeom prst="rect">
            <a:avLst/>
          </a:prstGeom>
          <a:solidFill>
            <a:srgbClr val="ffd05b">
              <a:alpha val="39000"/>
            </a:srgbClr>
          </a:solidFill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2408400"/>
            <a:ext cx="914400" cy="404640"/>
          </a:xfrm>
          <a:prstGeom prst="flowChartProcess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t input from 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3219480"/>
            <a:ext cx="914400" cy="404640"/>
          </a:xfrm>
          <a:prstGeom prst="flowChartProcess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pdate web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81760" y="2111400"/>
            <a:ext cx="914400" cy="1012680"/>
          </a:xfrm>
          <a:prstGeom prst="rect">
            <a:avLst/>
          </a:prstGeom>
          <a:solidFill>
            <a:srgbClr val="ff00ff">
              <a:alpha val="48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-side scrip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3421080"/>
            <a:ext cx="685800" cy="709560"/>
          </a:xfrm>
          <a:prstGeom prst="flowChartMagneticDisk">
            <a:avLst/>
          </a:prstGeom>
          <a:solidFill>
            <a:srgbClr val="008000">
              <a:alpha val="82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2308320"/>
            <a:ext cx="0" cy="303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2308320"/>
            <a:ext cx="0" cy="303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81560" y="261144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638320" y="2914560"/>
            <a:ext cx="34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666880" y="3421080"/>
            <a:ext cx="571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2308320"/>
            <a:ext cx="0" cy="303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2611440"/>
            <a:ext cx="571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24480" y="3117960"/>
            <a:ext cx="0" cy="303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553080" y="3117960"/>
            <a:ext cx="0" cy="303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397160"/>
            <a:ext cx="1257480" cy="303120"/>
          </a:xfrm>
          <a:prstGeom prst="rect">
            <a:avLst/>
          </a:prstGeom>
          <a:solidFill>
            <a:srgbClr val="ffd05b">
              <a:alpha val="1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95880" y="1397160"/>
            <a:ext cx="800280" cy="303120"/>
          </a:xfrm>
          <a:prstGeom prst="rect">
            <a:avLst/>
          </a:prstGeom>
          <a:solidFill>
            <a:srgbClr val="ffd05b">
              <a:alpha val="18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4419720"/>
            <a:ext cx="4229280" cy="303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3: Client - Server Architecture of AjaxWordP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200400" y="2104920"/>
            <a:ext cx="2781000" cy="1924200"/>
            <a:chOff x="3200400" y="2104920"/>
            <a:chExt cx="2781000" cy="1924200"/>
          </a:xfrm>
        </p:grpSpPr>
        <p:sp>
          <p:nvSpPr>
            <p:cNvPr id="235" name=""/>
            <p:cNvSpPr/>
            <p:nvPr/>
          </p:nvSpPr>
          <p:spPr>
            <a:xfrm>
              <a:off x="3200400" y="2104920"/>
              <a:ext cx="2558520" cy="1924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  <a:prstDash val="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11640" y="2362320"/>
              <a:ext cx="1112400" cy="552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reate a new XMLHttpRequest inst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1640" y="3117960"/>
              <a:ext cx="1112400" cy="5061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xtract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69000" y="2308320"/>
              <a:ext cx="778320" cy="303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o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24040" y="2611440"/>
              <a:ext cx="1557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424040" y="3117960"/>
              <a:ext cx="1557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57760" y="3219480"/>
              <a:ext cx="778680" cy="303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spo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2666880" y="25146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25146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2971800"/>
            <a:ext cx="152280" cy="15228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3276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876920"/>
            <a:ext cx="914400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Client creates the XMLHttpRequest instance and packages the request and sends to the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5257800"/>
            <a:ext cx="914400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lient sets up a callback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5638680"/>
            <a:ext cx="914400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Server generates the response and send it to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6019920"/>
            <a:ext cx="914400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Client executes the callback function, consults the response and reflects the changes to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remove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250" autoRev="1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69288E-006 L 0.05 1.69288E-006 E">
                                      <p:cBhvr>
                                        <p:cTn id="335" dur="3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500"/>
                            </p:stCondLst>
                            <p:childTnLst>
                              <p:par>
                                <p:cTn id="34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500"/>
                            </p:stCondLst>
                            <p:childTnLst>
                              <p:par>
                                <p:cTn id="3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1.69288E-006 L 0.15834 1.69288E-006 E">
                                      <p:cBhvr>
                                        <p:cTn id="357" dur="3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8500"/>
                            </p:stCondLst>
                            <p:childTnLst>
                              <p:par>
                                <p:cTn id="35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900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9500"/>
                            </p:stCondLst>
                            <p:childTnLst>
                              <p:par>
                                <p:cTn id="3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0.01157 C 0.00243 0.06129 0.00677 0.11124 0.01128 0.11772 C 0.0158 0.12419 0.02361 0.06823 0.02569 0.05019 C 0.02777 0.03215 0.02448 0.01642 0.0243 0.00972 E">
                                      <p:cBhvr>
                                        <p:cTn id="368" dur="3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3506E-006 L -0.2 -4.13506E-006 E">
                                      <p:cBhvr>
                                        <p:cTn id="384" dur="3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6725E-006 L -0.05 3.36725E-006 E">
                                      <p:cBhvr>
                                        <p:cTn id="400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500"/>
                            </p:stCondLst>
                            <p:childTnLst>
                              <p:par>
                                <p:cTn id="40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ent – Server Operation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 connection with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user request, send a post submission to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periodic basis, fetch the lock status of the docu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e the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 the requested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ve the contents of a open file in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track of locks acquired by th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 locks if there is no conflict with existing 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ase locks, if they are held for more than one h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2"/>
          <a:stretch/>
        </p:blipFill>
        <p:spPr>
          <a:xfrm>
            <a:off x="304920" y="228600"/>
            <a:ext cx="12952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Paragraph Color Code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04920" y="1371600"/>
          <a:ext cx="8839080" cy="4853160"/>
        </p:xfrm>
        <a:graphic>
          <a:graphicData uri="http://schemas.openxmlformats.org/drawingml/2006/table">
            <a:tbl>
              <a:tblPr/>
              <a:tblGrid>
                <a:gridCol w="2133720"/>
                <a:gridCol w="3352680"/>
                <a:gridCol w="3352680"/>
              </a:tblGrid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Font Co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Ex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graph is not locked by any u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paragraph is available for lockin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graph locked by this cl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Times New Roman"/>
                        </a:rPr>
                        <a:t>This paragraph is  locked by this cli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graph is inconsistent with the content in data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his paragraph is an inconsistent on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other co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graph locked by other us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his paragraph is locked by other u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Accessing a shared documen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1162080" cy="11811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7620120" y="2590920"/>
            <a:ext cx="1172880" cy="12189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219320" y="2057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1676520"/>
            <a:ext cx="5334120" cy="228600"/>
          </a:xfrm>
          <a:prstGeom prst="leftRightArrow">
            <a:avLst>
              <a:gd name="adj1" fmla="val 50000"/>
              <a:gd name="adj2" fmla="val 46451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1676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6232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0" y="2743200"/>
            <a:ext cx="5334120" cy="228600"/>
          </a:xfrm>
          <a:prstGeom prst="leftRightArrow">
            <a:avLst>
              <a:gd name="adj1" fmla="val 50000"/>
              <a:gd name="adj2" fmla="val 46451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1295280"/>
            <a:ext cx="518148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Send user’s identity to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1981080"/>
            <a:ext cx="502920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rver authenticates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38280" y="2362320"/>
            <a:ext cx="502920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Client requests a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62320" y="2971800"/>
            <a:ext cx="510516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Server sends the contents of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3276720"/>
            <a:ext cx="510516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Server sends the information about locked areas and its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38280" y="3886200"/>
            <a:ext cx="502920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Client starts editing th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4495680"/>
            <a:ext cx="5029200" cy="91692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. Server checks whether the paragraph is locked by any other user, if so deny the request of this client, else grants the 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62320" y="5791320"/>
            <a:ext cx="5181480" cy="228600"/>
          </a:xfrm>
          <a:prstGeom prst="leftRightArrow">
            <a:avLst>
              <a:gd name="adj1" fmla="val 50000"/>
              <a:gd name="adj2" fmla="val 451224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38280" y="5410080"/>
            <a:ext cx="495324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. Client requests lock status every 5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62320" y="6172200"/>
            <a:ext cx="510516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. Server responds the current lock status of th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62320" y="4191120"/>
            <a:ext cx="5181480" cy="228600"/>
          </a:xfrm>
          <a:prstGeom prst="leftRightArrow">
            <a:avLst>
              <a:gd name="adj1" fmla="val 50000"/>
              <a:gd name="adj2" fmla="val 451224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274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41911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0" y="5791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0.00554 L 0.57084 -0.00555 E">
                                      <p:cBhvr>
                                        <p:cTn id="421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2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500"/>
                            </p:stCondLst>
                            <p:childTnLst>
                              <p:par>
                                <p:cTn id="42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7500"/>
                            </p:stCondLst>
                            <p:childTnLst>
                              <p:par>
                                <p:cTn id="446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8.67052E-007 L 0.55833 -0.01109 E">
                                      <p:cBhvr>
                                        <p:cTn id="447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45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6667 8.67052E-007 E">
                                      <p:cBhvr>
                                        <p:cTn id="478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500"/>
                            </p:stCondLst>
                            <p:childTnLst>
                              <p:par>
                                <p:cTn id="48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6000"/>
                            </p:stCondLst>
                            <p:childTnLst>
                              <p:par>
                                <p:cTn id="4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8.67052E-007 L 0.55 0.01109 E">
                                      <p:cBhvr>
                                        <p:cTn id="506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500"/>
                            </p:stCondLst>
                            <p:childTnLst>
                              <p:par>
                                <p:cTn id="51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Accessing a shared documen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858000" y="2438280"/>
            <a:ext cx="1708200" cy="17780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143000" y="2514600"/>
            <a:ext cx="1600200" cy="1258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819520" y="152388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81680" y="16002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629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19520" y="2209680"/>
            <a:ext cx="3962160" cy="152640"/>
          </a:xfrm>
          <a:prstGeom prst="leftRightArrow">
            <a:avLst>
              <a:gd name="adj1" fmla="val 50000"/>
              <a:gd name="adj2" fmla="val 51674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19520" y="1523880"/>
            <a:ext cx="388620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User requests to fetch current contents of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19520" y="2438280"/>
            <a:ext cx="380988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rver sends the updated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19520" y="2971800"/>
            <a:ext cx="388620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User explicitly requests a lock (CTRL + F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95480" y="3809880"/>
            <a:ext cx="381024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Server grants/denies the lock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95480" y="4343400"/>
            <a:ext cx="381024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User requests to release his lock (CTRL + F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95480" y="5257800"/>
            <a:ext cx="381024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Server releases the 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19520" y="6095880"/>
            <a:ext cx="3962160" cy="152640"/>
          </a:xfrm>
          <a:prstGeom prst="leftRightArrow">
            <a:avLst>
              <a:gd name="adj1" fmla="val 50000"/>
              <a:gd name="adj2" fmla="val 51674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95480" y="5638680"/>
            <a:ext cx="358164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. User requests to lock entir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95480" y="6400800"/>
            <a:ext cx="3886200" cy="36828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. Server grants/denies the lock requ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3581280"/>
            <a:ext cx="3962160" cy="152640"/>
          </a:xfrm>
          <a:prstGeom prst="leftRightArrow">
            <a:avLst>
              <a:gd name="adj1" fmla="val 50000"/>
              <a:gd name="adj2" fmla="val 51674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4952880"/>
            <a:ext cx="3962160" cy="152640"/>
          </a:xfrm>
          <a:prstGeom prst="leftRightArrow">
            <a:avLst>
              <a:gd name="adj1" fmla="val 50000"/>
              <a:gd name="adj2" fmla="val 51674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6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7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2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Secure transmission of data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e Socket Layer (SSL) protoc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transmit sensitive information to th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SL in web server supports “https”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SSL certificate is created for 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SL Certificate uses SHA-1 with RSA encryption algorithm for encryption and server authenti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380880" y="380880"/>
            <a:ext cx="1371600" cy="9432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7"/>
          <a:stretch/>
        </p:blipFill>
        <p:spPr>
          <a:xfrm>
            <a:off x="762120" y="3962520"/>
            <a:ext cx="1600200" cy="1258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8"/>
          <a:stretch/>
        </p:blipFill>
        <p:spPr>
          <a:xfrm>
            <a:off x="6400800" y="3733920"/>
            <a:ext cx="1708200" cy="17780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14600" y="34290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3352680"/>
            <a:ext cx="7632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3657600"/>
            <a:ext cx="3657600" cy="228600"/>
          </a:xfrm>
          <a:prstGeom prst="rightArrow">
            <a:avLst>
              <a:gd name="adj1" fmla="val 50000"/>
              <a:gd name="adj2" fmla="val 400000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33670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Client requests a secur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4191120"/>
            <a:ext cx="3733920" cy="228600"/>
          </a:xfrm>
          <a:prstGeom prst="leftArrow">
            <a:avLst>
              <a:gd name="adj1" fmla="val 50000"/>
              <a:gd name="adj2" fmla="val 40834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3809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rver sends (SSL Certificate, 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77120" y="5562720"/>
            <a:ext cx="266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 Encryption Ke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s- public 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- private k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55308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3352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5562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- Symmetric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90920" y="4495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Client sends message M: encrypt( S, K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53341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Server decrypts  M using ‘Ke’ and identifies ‘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14600" y="5105520"/>
            <a:ext cx="3733920" cy="304560"/>
          </a:xfrm>
          <a:prstGeom prst="rightArrow">
            <a:avLst>
              <a:gd name="adj1" fmla="val 50000"/>
              <a:gd name="adj2" fmla="val 306501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6172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and server securely communicates using ‘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38280" y="6019920"/>
            <a:ext cx="3962520" cy="228600"/>
          </a:xfrm>
          <a:prstGeom prst="leftRightArrow">
            <a:avLst>
              <a:gd name="adj1" fmla="val 50000"/>
              <a:gd name="adj2" fmla="val 34507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Screen shot - AjaxWordPro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2120" y="1122480"/>
            <a:ext cx="720072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Database Table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information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nformation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-File information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 information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nformation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information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Locking a paragraph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quiring a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219320" y="2989440"/>
            <a:ext cx="1218960" cy="12016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7696080" y="3200400"/>
            <a:ext cx="1317600" cy="13716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7724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668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4674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43200" y="2438280"/>
            <a:ext cx="4648320" cy="91692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When the user either starts editing a paragraph or presses CTRL+F1 , the client sends (para_id , MD5(para_contents)) to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743200" y="3657600"/>
            <a:ext cx="4648320" cy="91692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rver grants the lock if, contents of the paragraph are consistent and the paragraph is not locked by any other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342900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15228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7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675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Releasing a lock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dlock is never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er releases any lock before acquiring the new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816120" y="2379600"/>
            <a:ext cx="1218960" cy="12016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7292880" y="2590920"/>
            <a:ext cx="1317600" cy="13716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7369200" y="2057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6368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6428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68400" y="1905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40000" y="1828800"/>
            <a:ext cx="4648320" cy="119124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When the user either shifts the cursor from the locked paragraph to a new paragraph or presses CTRL+F2 , the client sends (para_id, para_contents) to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340000" y="3503520"/>
            <a:ext cx="464832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The Server releases the lock and update the contents of the paragraph in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63680" y="312408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87720" y="3048120"/>
            <a:ext cx="15228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9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699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4500"/>
                            </p:stCondLst>
                            <p:childTnLst>
                              <p:par>
                                <p:cTn id="70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0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0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Opening a document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609480" y="3294000"/>
            <a:ext cx="1219320" cy="12016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7445520" y="3429000"/>
            <a:ext cx="1317600" cy="1371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7521480" y="2895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209680" y="1981080"/>
            <a:ext cx="5400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64280" y="1981080"/>
            <a:ext cx="2232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40000" y="1828800"/>
            <a:ext cx="4648320" cy="119124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the user types in the name of the file, the client requests the server for the list of file names of this user which matches the typed-in file 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340000" y="3503520"/>
            <a:ext cx="464832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The Server responds with a list of file names whose prefix matches the typed-in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63680" y="312408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87720" y="3048120"/>
            <a:ext cx="15228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0" y="560376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09680" y="5527800"/>
            <a:ext cx="15264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362320" y="4267080"/>
            <a:ext cx="457200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The client displays the list of file names to the 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4876920"/>
            <a:ext cx="457200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The client sends a request to fetch the contents of the selected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38280" y="5943600"/>
            <a:ext cx="441972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The server responds with the contents and lock information to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2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723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500"/>
                            </p:stCondLst>
                            <p:childTnLst>
                              <p:par>
                                <p:cTn id="72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0"/>
                            </p:stCondLst>
                            <p:childTnLst>
                              <p:par>
                                <p:cTn id="7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500"/>
                            </p:stCondLst>
                            <p:childTnLst>
                              <p:par>
                                <p:cTn id="7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6000"/>
                            </p:stCondLst>
                            <p:childTnLst>
                              <p:par>
                                <p:cTn id="75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5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6500"/>
                            </p:stCondLst>
                            <p:childTnLst>
                              <p:par>
                                <p:cTn id="759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760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Creating a new file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219320" y="2989440"/>
            <a:ext cx="1218960" cy="12016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77724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6668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4674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743200" y="2438280"/>
            <a:ext cx="464832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The client sends a request to create a new file with the specified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43200" y="3886200"/>
            <a:ext cx="4648320" cy="91692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If the file does not exist before, the server creates a new file for the client; otherwise the server sends an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342900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90920" y="3429000"/>
            <a:ext cx="15228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696080" y="2971800"/>
            <a:ext cx="11667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784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500"/>
                            </p:stCondLst>
                            <p:childTnLst>
                              <p:par>
                                <p:cTn id="78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Sharing a file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762120" y="2989440"/>
            <a:ext cx="1218960" cy="12016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3152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096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102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144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0" y="2438280"/>
            <a:ext cx="464832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The client sends a request to share an existing file with the specified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0" y="3886200"/>
            <a:ext cx="4648320" cy="91692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If the file does not exist before, the server sends an error; otherwise it sends the contents of shared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342900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133720" y="3429000"/>
            <a:ext cx="15228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7238880" y="2971800"/>
            <a:ext cx="11667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0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808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4500"/>
                            </p:stCondLst>
                            <p:childTnLst>
                              <p:par>
                                <p:cTn id="81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Saving a file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62120" y="2989440"/>
            <a:ext cx="1218960" cy="12016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73152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096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0102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144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0" y="2438280"/>
            <a:ext cx="464832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The client sends the contents of its locked paragraph  to save in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0" y="3886200"/>
            <a:ext cx="4648320" cy="119124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The server updates the content of the paragraph in the database, and updates the timestamp in the lock information table for this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09680" y="342900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33720" y="3429000"/>
            <a:ext cx="15228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7238880" y="2971800"/>
            <a:ext cx="11667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2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832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4500"/>
                            </p:stCondLst>
                            <p:childTnLst>
                              <p:par>
                                <p:cTn id="83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3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3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3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4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4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Closing a file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62120" y="2989440"/>
            <a:ext cx="1218960" cy="12016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73152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096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0102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144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0" y="2438280"/>
            <a:ext cx="4648320" cy="91692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The client requests the server to modify the user_file information table in the database, to set the in_use field value to 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86000" y="3886200"/>
            <a:ext cx="4724280" cy="119124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The server updates the in_use field of the user_file information table of database and removes the lock records from the lock information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09680" y="342900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33720" y="3429000"/>
            <a:ext cx="15228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7238880" y="2971800"/>
            <a:ext cx="11667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5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5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5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856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4500"/>
                            </p:stCondLst>
                            <p:childTnLst>
                              <p:par>
                                <p:cTn id="85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Deleting a file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762120" y="2989440"/>
            <a:ext cx="1218960" cy="12016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73152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1028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44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0" y="2438280"/>
            <a:ext cx="464832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The client requests the server to delete the specified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0" y="3886200"/>
            <a:ext cx="4724280" cy="20142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The server  checks the user_file information table for other users of that file. If the client is the only one accessing the file, then the server deletes the entry from user_file information table and delete the entry from file information table; otherwise delete only the entry from user_file information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209680" y="342900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133720" y="3429000"/>
            <a:ext cx="15228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7238880" y="2971800"/>
            <a:ext cx="11667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7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880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8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tex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ful way of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: e-mails, blogs and instant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to edit plain text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Proces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s contain control characters for text forma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6629400" y="1523880"/>
            <a:ext cx="1228680" cy="103824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6248520" y="5334120"/>
            <a:ext cx="2590560" cy="914400"/>
            <a:chOff x="6248520" y="5334120"/>
            <a:chExt cx="2590560" cy="914400"/>
          </a:xfrm>
        </p:grpSpPr>
        <p:sp>
          <p:nvSpPr>
            <p:cNvPr id="130" name=""/>
            <p:cNvSpPr/>
            <p:nvPr/>
          </p:nvSpPr>
          <p:spPr>
            <a:xfrm>
              <a:off x="6248520" y="5334120"/>
              <a:ext cx="2590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9"/>
            <a:stretch/>
          </p:blipFill>
          <p:spPr>
            <a:xfrm>
              <a:off x="6553080" y="5410440"/>
              <a:ext cx="761760" cy="7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0"/>
            <a:stretch/>
          </p:blipFill>
          <p:spPr>
            <a:xfrm>
              <a:off x="7772400" y="5486760"/>
              <a:ext cx="685440" cy="63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6477120" y="3581280"/>
            <a:ext cx="1933560" cy="868320"/>
            <a:chOff x="6477120" y="3581280"/>
            <a:chExt cx="1933560" cy="868320"/>
          </a:xfrm>
        </p:grpSpPr>
        <p:pic>
          <p:nvPicPr>
            <p:cNvPr id="134" name="" descr=""/>
            <p:cNvPicPr/>
            <p:nvPr/>
          </p:nvPicPr>
          <p:blipFill>
            <a:blip r:embed="rId11"/>
            <a:stretch/>
          </p:blipFill>
          <p:spPr>
            <a:xfrm>
              <a:off x="6477120" y="3581280"/>
              <a:ext cx="89064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2"/>
            <a:stretch/>
          </p:blipFill>
          <p:spPr>
            <a:xfrm>
              <a:off x="7543800" y="3581280"/>
              <a:ext cx="866880" cy="86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Searching for a word in a file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ient prompts the user to enter the search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ient searches the full text and highlights the specified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Spell check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609480" y="3294000"/>
            <a:ext cx="1219320" cy="12016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7445520" y="3429000"/>
            <a:ext cx="1317600" cy="13716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7521480" y="2895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2209680" y="1981080"/>
            <a:ext cx="5400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064280" y="1981080"/>
            <a:ext cx="2232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6212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0" y="1905120"/>
            <a:ext cx="4648320" cy="91692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lient sends a request to identify the misspelled words in the locked paragraph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340000" y="3200400"/>
            <a:ext cx="4648320" cy="91692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The Server responds with a list of misspelled words in the locked paragraph, the client highlights the misspelled words for the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263680" y="281952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187720" y="2743200"/>
            <a:ext cx="15228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86000" y="560376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09680" y="5527800"/>
            <a:ext cx="15264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4191120"/>
            <a:ext cx="4572000" cy="119124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User can right-click on misspelled word to get a list of suggestions. The client sends the misspelled word for a list of suggestions to the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5943600"/>
            <a:ext cx="4419720" cy="64260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The server responds with the list of suggestions for the misspelled 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904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4500"/>
                            </p:stCondLst>
                            <p:childTnLst>
                              <p:par>
                                <p:cTn id="90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1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0"/>
                            </p:stCondLst>
                            <p:childTnLst>
                              <p:par>
                                <p:cTn id="9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500"/>
                            </p:stCondLst>
                            <p:childTnLst>
                              <p:par>
                                <p:cTn id="9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6000"/>
                            </p:stCondLst>
                            <p:childTnLst>
                              <p:par>
                                <p:cTn id="92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3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6500"/>
                            </p:stCondLst>
                            <p:childTnLst>
                              <p:par>
                                <p:cTn id="935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936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4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4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Fetching the content of a file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816120" y="2913120"/>
            <a:ext cx="1218960" cy="12016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7292880" y="3124080"/>
            <a:ext cx="1317600" cy="13716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7369200" y="2590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63680" y="25146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64280" y="25146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68400" y="2438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0" y="2514600"/>
            <a:ext cx="4648320" cy="91692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The client sends a request to the server by sending the MD5(file_contents) to fetch the current contents of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40000" y="4037040"/>
            <a:ext cx="4648320" cy="916920"/>
          </a:xfrm>
          <a:prstGeom prst="rect">
            <a:avLst/>
          </a:prstGeom>
          <a:solidFill>
            <a:srgbClr val="fee1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The server responds with the current contents only if the local copy of the contents are different from the true copy in the data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263680" y="3657600"/>
            <a:ext cx="4800600" cy="228600"/>
          </a:xfrm>
          <a:prstGeom prst="leftRightArrow">
            <a:avLst>
              <a:gd name="adj1" fmla="val 50000"/>
              <a:gd name="adj2" fmla="val 418056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87720" y="3581280"/>
            <a:ext cx="15228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5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5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5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5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7052E-007 L 0.51667 8.67052E-007 E">
                                      <p:cBhvr>
                                        <p:cTn id="960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4500"/>
                            </p:stCondLst>
                            <p:childTnLst>
                              <p:par>
                                <p:cTn id="96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6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6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Plugins in FCKeditor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hand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 hand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graph de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graph 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ion for misspelled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tails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Undo and redo operations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 allows the user to undo and redo actions performed within a locked paragrap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paragraph is released by a user, the user cannot undo or redo the actions performed in the released 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Screen shots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User authentication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48640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User is authenticated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54864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Auto-suggestion of file name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486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File opened by the user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4864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Multi-user word processor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67816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for multi-user word proces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e to work on same document to get things efficiently and quick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ware application to perform collaborative tas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user word proces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several people to edit a document at the same time using different comput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7391520" y="4038480"/>
            <a:ext cx="1523880" cy="1455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7086600" y="1752480"/>
            <a:ext cx="18288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Lock acquired by the user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5486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Displays an inconsistent paragraph and another locked paragraph.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4864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Perform a full text search for the specified word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562040" y="1600200"/>
            <a:ext cx="60181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Search word is highlighted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4864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Future work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an forcibly release the locks of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the user to perform cut, paste, backspace and delete operations across paragrap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the users to lock a part of a para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d text formatting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ve mechanisms to register new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s for exporting and importing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structured file namespace rather than flat name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onclusion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AjaxWordPro provides a multi-user web-based word processor allowing multiple users to edit the same document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Reference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04920" y="1145880"/>
            <a:ext cx="845820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S. Xia, D. Sun, C. Sun, D Chen, and H. F. Shen: "Leveraging single-user applications for multi-user collaboration: the CoWord approach,"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ceedings of ACM 2004 Conference on Computer Supported Cooperative Work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v 6-10, Chicago, IL USA, pp.162-17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hengzheng Sun, Steven Xia, David Sun, David Chen, Haifeng Shen, Wentong Cai: "Transparent adaptation of single-user applications for multi-user real-time collaboration,"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CM Transactions on Computer-Human Interaction,  V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13, No. 4, December 2006, pp.531-5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Sachin Mullick, Raphael Finkel: “MUSE: A Collaborative Editor”, a Master’s project done in the Department of Computer Science, University of Kentucky, November 5th,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“FCKeditor Documentation”, http://docs.fckeditor.net/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Jesse James Garrett: “Ajax: A New Approach to Web Applications”,  February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Greg Murray: "Asynchronous JavaScript Technology and XML (Ajax) With the Java Platform", June 9,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. “FCKeditor, the text editor for an internet”,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fckeditor.net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. Schlichter, U. Borghoff, “Concurrency Control for Multiuser Editors”, ACM, 199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.  An Operating System Vade Mecum. Second Edition, Raphael A. Finkel, Prentice Hall, 1988. Pages 270-272. ftp://ftp.cs.uky.edu/cs/manuscripts/vade.mecum.2.pd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Questions ?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AjaxWordPro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user web-based word proces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ynchronous JavaScript and XML (AJAX)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pages exchange small amount of data with th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pages are updated without reloading the entire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2438640" cy="1316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2057400" y="5334120"/>
            <a:ext cx="1143000" cy="944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19920" y="5334120"/>
            <a:ext cx="761760" cy="914400"/>
          </a:xfrm>
          <a:prstGeom prst="rect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5715000"/>
            <a:ext cx="2819520" cy="152280"/>
          </a:xfrm>
          <a:prstGeom prst="leftRightArrow">
            <a:avLst>
              <a:gd name="adj1" fmla="val 50000"/>
              <a:gd name="adj2" fmla="val 368593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5638680"/>
            <a:ext cx="152280" cy="228600"/>
          </a:xfrm>
          <a:prstGeom prst="ellipse">
            <a:avLst/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895480" y="5181480"/>
            <a:ext cx="304920" cy="457200"/>
          </a:xfrm>
          <a:prstGeom prst="pie">
            <a:avLst/>
          </a:prstGeom>
          <a:solidFill>
            <a:srgbClr val="ff0000">
              <a:alpha val="5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6281E-007 L 0.28333 -4.16281E-007 E">
                                      <p:cBhvr>
                                        <p:cTn id="9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Features of AjaxWordPro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48769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ok and feel of single-user word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sic formatting tools to edit the 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play the presence of other users accessing the same 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 the user to edit the content by holding a lock on the editing 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etch the content changes of the document synchron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ew the lock changes of the document asynchron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ggest plausible replacements for misspelled wor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ll – text word search on the 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4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ure transmission of data from the client to th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5181480" y="1828800"/>
            <a:ext cx="35578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Implementation Decisions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Implementation Decision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ynchronous JavaScript and XML (AJA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dynamic web pages on the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ynchronous data retrieval using XMLHttp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 Web applic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095200" y="3657600"/>
            <a:ext cx="5143320" cy="2628360"/>
            <a:chOff x="2095200" y="3657600"/>
            <a:chExt cx="5143320" cy="2628360"/>
          </a:xfrm>
        </p:grpSpPr>
        <p:sp>
          <p:nvSpPr>
            <p:cNvPr id="156" name=""/>
            <p:cNvSpPr/>
            <p:nvPr/>
          </p:nvSpPr>
          <p:spPr>
            <a:xfrm>
              <a:off x="5524200" y="3657600"/>
              <a:ext cx="1714320" cy="217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53160" y="3955320"/>
              <a:ext cx="1257120" cy="388080"/>
            </a:xfrm>
            <a:prstGeom prst="rect">
              <a:avLst/>
            </a:prstGeom>
            <a:solidFill>
              <a:srgbClr val="ff6600">
                <a:alpha val="74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53160" y="4572000"/>
              <a:ext cx="1257120" cy="685800"/>
            </a:xfrm>
            <a:prstGeom prst="rect">
              <a:avLst/>
            </a:prstGeom>
            <a:solidFill>
              <a:srgbClr val="00ffff">
                <a:alpha val="75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 store, backend process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5880" y="4343400"/>
              <a:ext cx="36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667560" y="4457160"/>
              <a:ext cx="360" cy="11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667560" y="434340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667560" y="4457160"/>
              <a:ext cx="360" cy="11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667560" y="434340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38200" y="397512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38200" y="3886200"/>
              <a:ext cx="228600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238200" y="411480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81280" y="4228200"/>
              <a:ext cx="1714320" cy="367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TML + CSS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81000" y="5943960"/>
              <a:ext cx="3543480" cy="342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igure 1: Classic web application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95200" y="3771720"/>
              <a:ext cx="1142640" cy="342720"/>
            </a:xfrm>
            <a:prstGeom prst="rect">
              <a:avLst/>
            </a:prstGeom>
            <a:solidFill>
              <a:srgbClr val="ff6600">
                <a:alpha val="67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200400" y="3809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41911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4038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4343400"/>
            <a:ext cx="1371600" cy="34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ser (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0.24167 1.70213E-006 E">
                                      <p:cBhvr>
                                        <p:cTn id="162" dur="3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12303E-007 C 0.00452 0.05065 0.00903 0.10153 0.02014 0.10823 C 0.03125 0.11494 0.05921 0.05805 0.06667 0.0407 C 0.07414 0.02336 0.06528 0.00995 0.06511 0.00393 E">
                                      <p:cBhvr>
                                        <p:cTn id="173" dur="3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500"/>
                            </p:stCondLst>
                            <p:childTnLst>
                              <p:par>
                                <p:cTn id="17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500"/>
                            </p:stCondLst>
                            <p:childTnLst>
                              <p:par>
                                <p:cTn id="1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7.9556E-007 L -0.24167 -7.9556E-007 E">
                                      <p:cBhvr>
                                        <p:cTn id="184" dur="3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Implementation Decisions</a:t>
            </a:r>
            <a:br>
              <a:rPr sz="4000"/>
            </a:br>
            <a:r>
              <a:rPr b="1" lang="en-US" sz="3600" spc="-1" strike="noStrike">
                <a:solidFill>
                  <a:srgbClr val="a26d18"/>
                </a:solidFill>
                <a:latin typeface="Times New Roman"/>
              </a:rPr>
              <a:t>AJAX Web Application Model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3848040"/>
            <a:ext cx="1371600" cy="34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76840" y="3276720"/>
            <a:ext cx="148608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3505320"/>
            <a:ext cx="1257120" cy="457200"/>
          </a:xfrm>
          <a:prstGeom prst="rect">
            <a:avLst/>
          </a:prstGeom>
          <a:solidFill>
            <a:srgbClr val="ff6600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or XM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4191120"/>
            <a:ext cx="1257120" cy="685800"/>
          </a:xfrm>
          <a:prstGeom prst="rect">
            <a:avLst/>
          </a:prstGeom>
          <a:solidFill>
            <a:srgbClr val="00ffff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store, backend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34040" y="3962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705720" y="407664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705720" y="39621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705720" y="407664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705720" y="39621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59424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276360" y="4419720"/>
            <a:ext cx="2400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4191120"/>
            <a:ext cx="2400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19440" y="4533840"/>
            <a:ext cx="1714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3276720"/>
            <a:ext cx="1371600" cy="1942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19240" y="3390840"/>
            <a:ext cx="1143000" cy="343080"/>
          </a:xfrm>
          <a:prstGeom prst="rect">
            <a:avLst/>
          </a:prstGeom>
          <a:solidFill>
            <a:srgbClr val="ff6600">
              <a:alpha val="76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19240" y="4648320"/>
            <a:ext cx="11430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373392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77" idx="2"/>
            <a:endCxn id="179" idx="0"/>
          </p:cNvCxnSpPr>
          <p:nvPr/>
        </p:nvCxnSpPr>
        <p:spPr>
          <a:xfrm flipH="1">
            <a:off x="6133680" y="3981240"/>
            <a:ext cx="28656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2247840" y="3848040"/>
            <a:ext cx="228600" cy="22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47840" y="373392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3848040"/>
            <a:ext cx="228600" cy="22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819520" y="373392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19240" y="4076640"/>
            <a:ext cx="1143000" cy="343080"/>
          </a:xfrm>
          <a:prstGeom prst="rect">
            <a:avLst/>
          </a:prstGeom>
          <a:solidFill>
            <a:srgbClr val="33cccc">
              <a:alpha val="8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jax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71880" y="5562720"/>
            <a:ext cx="434340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JavaScrip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HTML + CS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: Ajax Web applica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71880" y="3619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00880" y="4381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5040" y="407664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1295280"/>
            <a:ext cx="777240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advantage of classic web application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request sent to the server halt the user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jax Web applic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jax Engine”- Allows user interaction to happen asynchronously, independent of communication with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4191120"/>
            <a:ext cx="152640" cy="15228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8.32562E-007 L 0 0.05551 E">
                                      <p:cBhvr>
                                        <p:cTn id="198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5551 L 0.10833 0.06661 E">
                                      <p:cBhvr>
                                        <p:cTn id="20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61887E-006 L -3.33333E-006 -0.0777 E">
                                      <p:cBhvr>
                                        <p:cTn id="206" dur="3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500"/>
                            </p:stCondLst>
                            <p:childTnLst>
                              <p:par>
                                <p:cTn id="20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3 0.06661 L 0.375 0.06661 E">
                                      <p:cBhvr>
                                        <p:cTn id="213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5 0.06661 L 0.425 0.0333 E">
                                      <p:cBhvr>
                                        <p:cTn id="216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5 0.03331 C 0.42066 0.07956 0.41632 0.12604 0.42639 0.13368 C 0.43646 0.14131 0.47604 0.09413 0.48576 0.07956 C 0.49548 0.06499 0.48455 0.05343 0.48437 0.04672 E">
                                      <p:cBhvr>
                                        <p:cTn id="219" dur="3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028E-008 L -0.25834 -0.0111 E">
                                      <p:cBhvr>
                                        <p:cTn id="229" dur="3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3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32562E-007 L 0.00834 -0.05551 E">
                                      <p:cBhvr>
                                        <p:cTn id="240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5:54:09Z</dcterms:created>
  <dc:creator>kausalya</dc:creator>
  <dc:description/>
  <dc:language>en-US</dc:language>
  <cp:lastModifiedBy>kausalya</cp:lastModifiedBy>
  <dcterms:modified xsi:type="dcterms:W3CDTF">2008-04-25T14:32:00Z</dcterms:modified>
  <cp:revision>217</cp:revision>
  <dc:subject/>
  <dc:title>AjaxWordPro: A Multi User Word Processor</dc:title>
</cp:coreProperties>
</file>